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FC4-0171-4A36-B55E-3E9E25D1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B96-2D3D-4534-810E-75023A66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BAD-AB8A-4247-B129-CE6AAD04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8AC-D181-4D87-AD76-E161B5CD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D09-E212-45C8-B5F6-9E720B3D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E8B-B86B-43C6-A65F-5C342A80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7AF-F51D-4B52-B0BE-17A9B604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B6D-89EB-432F-9DBF-32926C2A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511-205B-470E-9D99-F52B18B0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947-1025-40A5-9873-F12303CF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C2C-0A09-48C6-B9FC-0C49E708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6EF-D925-4A21-9856-313400C5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3B19-0662-4E13-AA3C-FA2287F04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038840" cy="2292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04920" y="1295280"/>
            <a:ext cx="85341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latin typeface="Cooper Black"/>
              </a:rPr>
              <a:t>Survivor Island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28800" y="304920"/>
            <a:ext cx="5486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Cooper Black"/>
              </a:rPr>
              <a:t>Welcome to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6629400"/>
            <a:ext cx="518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. Trimpe 2006   http://sciencespot.net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4600" y="1027080"/>
            <a:ext cx="6400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lass will be split into several tribes of 3 to 4 stud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bes will work together during the immunity and reward challenges to earn points or re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ppropriate behavior or disruptive behavior will result in a loss of points or the elimination of the tribe from the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bes will be assigned colors and will create their own name. (Names must be appropria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86200" y="228600"/>
            <a:ext cx="3124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Trib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14632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5181480"/>
            <a:ext cx="8763120" cy="155700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t’s get started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ck your tribe and your team color by sitting at the correct island.  Create a tribe name, fill out your totem pole, and add your name to the table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4815000"/>
            <a:ext cx="1604880" cy="1890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1523880"/>
            <a:ext cx="86104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unity challenges will relate to topics we have studied this year. The theme of each challenge will be revealed in each Survivor Mail announ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s will earn points based on the number of correct answers they have on each challen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am with the highest score earns immunity and will wear an immunity necklace until the next immunity chall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66680" y="38088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Immunity Challeng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4724280"/>
            <a:ext cx="67816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s can lose points for bad behavior or failure to return immunity neckla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am with the highest score will earn immunity, which means they cannot lose those points at the next Tribal Counci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6002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 will relate to a wide range of t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s will earn rewards for their efforts, such as free gum-chewing passes, candy, soda, treasure chest items, 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am with the highest score will earn the reward and a bonus of 10 points for their team’s s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66680" y="380880"/>
            <a:ext cx="70106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ooper Black"/>
              </a:rPr>
              <a:t>Reward Challeng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ooper Black"/>
              <a:ea typeface="Cooper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5277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ard points cannot be lost at the next Tribal Counci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19920" y="4343400"/>
            <a:ext cx="28954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flipH="1" rot="10800000">
            <a:off x="228600" y="1371240"/>
            <a:ext cx="257796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71800" y="1600200"/>
            <a:ext cx="58672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nner of an immunity challenge will be announced at the start of the next class and tribal council will be h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ribes will vote for one team to lose the points that were earned on the last immunity chall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ibe will have only one vote during each tribal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bes cannot lose points from previous immunity challenges or points earned from reward challeng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66680" y="38088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Tribal Council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1800" y="1600200"/>
            <a:ext cx="5867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sportsmanship is expected at all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acher’s decision is fin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 fair! Cheating and dishonest behavior will result in a loss of points or possible elimination from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iances are ok, but be careful that they don’t hurt you in the long ru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43000" y="30492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ooper Black"/>
              </a:rPr>
              <a:t>Survivor Rul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ooper Black"/>
              <a:ea typeface="Cooper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2624400" cy="2895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solidFill>
            <a:srgbClr val="99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rvivor Prize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p scoring team from each class will win a class award and be entered into a drawing for a super duper Survivor Prize Packa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920" y="4419720"/>
            <a:ext cx="8458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Cooper Black"/>
              </a:rPr>
              <a:t>Are you ready for the challenge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20:33:52Z</dcterms:created>
  <dc:creator>Tracy Trimpe</dc:creator>
  <dc:description/>
  <dc:language>en-US</dc:language>
  <cp:lastModifiedBy>Tracy Trimpe</cp:lastModifiedBy>
  <dcterms:modified xsi:type="dcterms:W3CDTF">2008-05-05T21:17:28Z</dcterms:modified>
  <cp:revision>36</cp:revision>
  <dc:subject/>
  <dc:title>Slide 1</dc:title>
</cp:coreProperties>
</file>