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4AD-0A96-4832-A817-F265E6DD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C47-7557-4A3E-B129-498B6CD4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397-E826-4747-A84B-E32034E7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A9B-E92B-41DA-8BEB-8F4ABEAD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1FA-9EAE-4250-AA37-308B058F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B25-5CC6-467D-99A8-5A5DDC3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7D0-B9C2-4FB8-A6ED-D630AB2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046-1CD4-4673-A993-92621FC3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BE9-65CF-46EB-B805-4F3B841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AC9-141C-4189-9613-89C6D3E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B0D-AF84-456A-A6C1-3EFE0B6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5A5-AC0B-4953-B82F-F2E197E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AE72-B0DA-4DDF-8A02-16296556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67080" y="4114800"/>
            <a:ext cx="4038840" cy="2292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04920" y="1295280"/>
            <a:ext cx="85341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latin typeface="Cooper Black"/>
              </a:rPr>
              <a:t>Survivor Island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28800" y="304920"/>
            <a:ext cx="5486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Cooper Black"/>
              </a:rPr>
              <a:t>Welcome to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629400"/>
            <a:ext cx="518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. Trimpe 2006   http://sciencespot.net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027080"/>
            <a:ext cx="6400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ass will be split into several tribes of 3 to 4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will work together during the immunity and reward challenges to earn points or re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propriate behavior or disruptive behavior will result in a loss of points or the elimination of the tribe from the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will be assigned colors and will create their own name. (Names must be appropriat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86200" y="22860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Cooper Black"/>
              </a:rPr>
              <a:t>Trib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Cooper Black"/>
              <a:ea typeface="Cooper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1463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5181480"/>
            <a:ext cx="8763120" cy="155700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t’s get starte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ck your tribe and your team color by sitting at the correct island.  Create a tribe name, fill out your totem pole, and add your name to the table 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815000"/>
            <a:ext cx="160488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1523880"/>
            <a:ext cx="86104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unity challenges will relate to topics we have studied this year. The theme of each challenge will be revealed in each Survivor Mail announ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will earn points based on the number of correct answers they have on each challen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earns immunity and will wear an immunity necklace until the next immunity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38088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Immunity Challeng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67816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can lose points for bad behavior or failure to return immunity neckla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will earn immunity, which means they cannot lose those points at the next Tribal Counci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1600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s will relate to a wide range of t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will earn rewards for their efforts, such as free gum-chewing passes, candy, soda, treasure chest items, 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m with the highest score will earn the reward and a bonus of 10 points for their team’s s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380880"/>
            <a:ext cx="70106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Reward Challeng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277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ard points cannot be lost at the next Tribal Counci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19920" y="4343400"/>
            <a:ext cx="28954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 rot="10800000">
            <a:off x="228600" y="1371240"/>
            <a:ext cx="257796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71800" y="1600200"/>
            <a:ext cx="5867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ner of an immunity challenge will be announced at the start of the next class and tribal council will be h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ribes will vote for one team to lose the points that were earned on the last immunity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ibe will have only one vote during each tribal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es cannot lose points from previous immunity challenges or points earned from reward challeng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66680" y="38088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Tribal Council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1600200"/>
            <a:ext cx="5867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portsmanship is expected at all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acher’s decision is fin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 fair! Cheating and dishonest behavior will result in a loss of points or possible elimination from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iances are ok, but be careful that they don’t hurt you in the long r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43000" y="304920"/>
            <a:ext cx="6705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oper Black"/>
              </a:rPr>
              <a:t>Survivor Ru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oper Black"/>
              <a:ea typeface="Cooper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2624400" cy="289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rvivor Prize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p scoring team from each class will win a class award and be entered into a drawing for a super duper Survivor Prize Pack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419720"/>
            <a:ext cx="8458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Cooper Black"/>
              </a:rPr>
              <a:t>Are you ready for the challenge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20:33:52Z</dcterms:created>
  <dc:creator>Tracy Trimpe</dc:creator>
  <dc:description/>
  <dc:language>en-US</dc:language>
  <cp:lastModifiedBy>Tracy Trimpe</cp:lastModifiedBy>
  <dcterms:modified xsi:type="dcterms:W3CDTF">2008-05-05T21:17:28Z</dcterms:modified>
  <cp:revision>36</cp:revision>
  <dc:subject/>
  <dc:title>Slide 1</dc:title>
</cp:coreProperties>
</file>