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B841-85A5-485C-A019-E654DA77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EE2-EBC9-4FAB-9D4D-8D6824EF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BC1-4CA1-46E1-8CFD-44B5A347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17B-798F-4BC1-8E26-5E4D344C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713-BEAC-4B13-9170-88E7C82C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A2C7-F345-4858-B5D8-2484120B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CFA-6ED5-499F-A43A-8E5EB95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1E8-8BCD-4C26-A284-951F1D8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870-DD25-4588-BD92-99A8412C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2A2-2545-4E15-9AA6-0314EA8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4FD-3CBF-4CE7-8970-52AB254B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0D6-21DC-467A-B9BA-B0C97749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99934A4C-FA63-42FE-A0BD-8A692BD5433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19240" y="1868400"/>
            <a:ext cx="6019920" cy="438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04920" y="76320"/>
            <a:ext cx="94485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0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oper Black"/>
              </a:rPr>
              <a:t>What's for dinner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409760" y="6342120"/>
            <a:ext cx="7238880" cy="703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nd Water Food W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0866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od.edu/people/faculty/fancher/FoodChain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064280"/>
            <a:ext cx="604980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od Web Graphic - http://staff.harrisonburg.k12.va.us/~gharper/bay/weboflifepage/foodwe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952880"/>
            <a:ext cx="5105160" cy="944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Which organisms are the produc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____ 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4952880"/>
            <a:ext cx="3429000" cy="177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Identify the consumers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– Car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– Om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 – Herb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 - Planktiv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228600"/>
            <a:ext cx="7239240" cy="4495680"/>
            <a:chOff x="1295280" y="228600"/>
            <a:chExt cx="7239240" cy="4495680"/>
          </a:xfrm>
        </p:grpSpPr>
        <p:grpSp>
          <p:nvGrpSpPr>
            <p:cNvPr id="49" name=""/>
            <p:cNvGrpSpPr/>
            <p:nvPr/>
          </p:nvGrpSpPr>
          <p:grpSpPr>
            <a:xfrm>
              <a:off x="1646280" y="228600"/>
              <a:ext cx="6537240" cy="4360680"/>
              <a:chOff x="1646280" y="228600"/>
              <a:chExt cx="6537240" cy="43606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1646280" y="249120"/>
                <a:ext cx="6537240" cy="43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706400" y="228600"/>
                <a:ext cx="8377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73280" y="22860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295280" y="228600"/>
              <a:ext cx="7239240" cy="4495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886200"/>
            <a:ext cx="9136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would happen if the mussels were to die out due to a dis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503064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zooplankton be affected if the fish population were to incr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3080" y="617688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whelk population be affected if crabs were remov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057400" y="304920"/>
            <a:ext cx="5867280" cy="3200400"/>
            <a:chOff x="2057400" y="304920"/>
            <a:chExt cx="5867280" cy="3200400"/>
          </a:xfrm>
        </p:grpSpPr>
        <p:grpSp>
          <p:nvGrpSpPr>
            <p:cNvPr id="59" name=""/>
            <p:cNvGrpSpPr/>
            <p:nvPr/>
          </p:nvGrpSpPr>
          <p:grpSpPr>
            <a:xfrm>
              <a:off x="2341800" y="304920"/>
              <a:ext cx="5298120" cy="3104280"/>
              <a:chOff x="2341800" y="304920"/>
              <a:chExt cx="5298120" cy="31042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2341800" y="319320"/>
                <a:ext cx="5298120" cy="30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390760" y="304920"/>
                <a:ext cx="67896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1840" y="304920"/>
                <a:ext cx="6793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057400" y="304920"/>
              <a:ext cx="5867280" cy="3200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8120" y="304920"/>
            <a:ext cx="9890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t’s your turn to create a food web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ut apart the Life in a Pond cards and sort them into three categories: producers, consumers, and decomposers. Create four food chains in the space below.  Remember, each food chain must start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95280" y="2682720"/>
            <a:ext cx="4467240" cy="685800"/>
            <a:chOff x="1295280" y="2682720"/>
            <a:chExt cx="4467240" cy="685800"/>
          </a:xfrm>
        </p:grpSpPr>
        <p:grpSp>
          <p:nvGrpSpPr>
            <p:cNvPr id="66" name=""/>
            <p:cNvGrpSpPr/>
            <p:nvPr/>
          </p:nvGrpSpPr>
          <p:grpSpPr>
            <a:xfrm>
              <a:off x="1295280" y="2682720"/>
              <a:ext cx="1576080" cy="685800"/>
              <a:chOff x="1295280" y="2682720"/>
              <a:chExt cx="1576080" cy="6858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528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0892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871720" y="2682720"/>
              <a:ext cx="1576080" cy="685800"/>
              <a:chOff x="2871720" y="2682720"/>
              <a:chExt cx="1576080" cy="685800"/>
            </a:xfrm>
          </p:grpSpPr>
          <p:sp>
            <p:nvSpPr>
              <p:cNvPr id="70" name=""/>
              <p:cNvSpPr/>
              <p:nvPr/>
            </p:nvSpPr>
            <p:spPr>
              <a:xfrm>
                <a:off x="287172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8536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448520" y="2682720"/>
              <a:ext cx="13140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95280" y="3616200"/>
            <a:ext cx="6043320" cy="689040"/>
            <a:chOff x="1295280" y="3616200"/>
            <a:chExt cx="6043320" cy="689040"/>
          </a:xfrm>
        </p:grpSpPr>
        <p:grpSp>
          <p:nvGrpSpPr>
            <p:cNvPr id="74" name=""/>
            <p:cNvGrpSpPr/>
            <p:nvPr/>
          </p:nvGrpSpPr>
          <p:grpSpPr>
            <a:xfrm>
              <a:off x="1295280" y="3616200"/>
              <a:ext cx="1576080" cy="689040"/>
              <a:chOff x="1295280" y="3616200"/>
              <a:chExt cx="1576080" cy="689040"/>
            </a:xfrm>
          </p:grpSpPr>
          <p:sp>
            <p:nvSpPr>
              <p:cNvPr id="75" name=""/>
              <p:cNvSpPr/>
              <p:nvPr/>
            </p:nvSpPr>
            <p:spPr>
              <a:xfrm>
                <a:off x="129528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0892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871720" y="3616200"/>
              <a:ext cx="1576080" cy="689040"/>
              <a:chOff x="2871720" y="3616200"/>
              <a:chExt cx="1576080" cy="689040"/>
            </a:xfrm>
          </p:grpSpPr>
          <p:sp>
            <p:nvSpPr>
              <p:cNvPr id="78" name=""/>
              <p:cNvSpPr/>
              <p:nvPr/>
            </p:nvSpPr>
            <p:spPr>
              <a:xfrm>
                <a:off x="28717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53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448520" y="3616200"/>
              <a:ext cx="1576080" cy="689040"/>
              <a:chOff x="4448520" y="3616200"/>
              <a:chExt cx="1576080" cy="689040"/>
            </a:xfrm>
          </p:grpSpPr>
          <p:sp>
            <p:nvSpPr>
              <p:cNvPr id="81" name=""/>
              <p:cNvSpPr/>
              <p:nvPr/>
            </p:nvSpPr>
            <p:spPr>
              <a:xfrm>
                <a:off x="44485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621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024960" y="3616200"/>
              <a:ext cx="1313640" cy="68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295280" y="4552920"/>
            <a:ext cx="7619760" cy="685800"/>
            <a:chOff x="1295280" y="4552920"/>
            <a:chExt cx="7619760" cy="685800"/>
          </a:xfrm>
        </p:grpSpPr>
        <p:grpSp>
          <p:nvGrpSpPr>
            <p:cNvPr id="85" name=""/>
            <p:cNvGrpSpPr/>
            <p:nvPr/>
          </p:nvGrpSpPr>
          <p:grpSpPr>
            <a:xfrm>
              <a:off x="1295280" y="4552920"/>
              <a:ext cx="1576080" cy="685800"/>
              <a:chOff x="1295280" y="4552920"/>
              <a:chExt cx="1576080" cy="6858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0892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871720" y="4552920"/>
              <a:ext cx="1576080" cy="685800"/>
              <a:chOff x="2871720" y="4552920"/>
              <a:chExt cx="1576080" cy="685800"/>
            </a:xfrm>
          </p:grpSpPr>
          <p:sp>
            <p:nvSpPr>
              <p:cNvPr id="89" name=""/>
              <p:cNvSpPr/>
              <p:nvPr/>
            </p:nvSpPr>
            <p:spPr>
              <a:xfrm>
                <a:off x="287172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8536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448160" y="4552920"/>
              <a:ext cx="1576080" cy="685800"/>
              <a:chOff x="4448160" y="4552920"/>
              <a:chExt cx="157608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44481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618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024960" y="4552920"/>
              <a:ext cx="1576080" cy="685800"/>
              <a:chOff x="6024960" y="4552920"/>
              <a:chExt cx="15760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60249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386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601400" y="455292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5486400"/>
            <a:ext cx="7619760" cy="685800"/>
            <a:chOff x="1295280" y="5486400"/>
            <a:chExt cx="761976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1295280" y="5486400"/>
              <a:ext cx="1576080" cy="685800"/>
              <a:chOff x="1295280" y="5486400"/>
              <a:chExt cx="157608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129528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0892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71720" y="5486400"/>
              <a:ext cx="1576080" cy="685800"/>
              <a:chOff x="2871720" y="5486400"/>
              <a:chExt cx="1576080" cy="685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87172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8536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448160" y="5486400"/>
              <a:ext cx="1576080" cy="685800"/>
              <a:chOff x="4448160" y="5486400"/>
              <a:chExt cx="1576080" cy="685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4481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618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024960" y="5486400"/>
              <a:ext cx="1576080" cy="685800"/>
              <a:chOff x="6024960" y="5486400"/>
              <a:chExt cx="1576080" cy="685800"/>
            </a:xfrm>
          </p:grpSpPr>
          <p:sp>
            <p:nvSpPr>
              <p:cNvPr id="109" name=""/>
              <p:cNvSpPr/>
              <p:nvPr/>
            </p:nvSpPr>
            <p:spPr>
              <a:xfrm>
                <a:off x="60249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86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601400" y="548640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8120" y="380880"/>
            <a:ext cx="97380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Use at least 10 of the cards to create a food web to show the relationship between the organisms in a pond habitat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must use the three cards with st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 After you have created the food web, glue the pieces onto a large sheet of construction paper and add arrows to show the feeding relationship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– Arrows go to the organism that does the ea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  Answer the questions on your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3273480"/>
            <a:ext cx="1038240" cy="108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32200" y="3400560"/>
            <a:ext cx="183204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1822320" cy="153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304920"/>
            <a:ext cx="944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After you have finished your web, answer thes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aquatic plants died out because of pol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population of great blue heron was to dou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carp consume zooplankton, which many fishes typically feed on in their juvenile stages, and have no known predators. How would the introduction of an Asian carp aff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0:03:37Z</dcterms:created>
  <dc:creator>Tracy Trimpe</dc:creator>
  <dc:description/>
  <dc:language>en-US</dc:language>
  <cp:lastModifiedBy>Tracy Trimpe</cp:lastModifiedBy>
  <dcterms:modified xsi:type="dcterms:W3CDTF">2008-10-20T21:44:14Z</dcterms:modified>
  <cp:revision>50</cp:revision>
  <dc:subject/>
  <dc:title>Ecology</dc:title>
</cp:coreProperties>
</file>