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56B-36C9-474A-85EA-8E08CE1D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62F-6242-478F-86FD-AA4814B4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05F-1B88-46F6-91EA-A37F3E41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31C-07BE-418B-96B3-DA7E66DA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2F6-0CE2-4AFF-999B-B991FB3B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B45-6227-44B8-9E3A-224DE2D4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AD2-86E5-4D30-A8E1-BD43E52A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DC6-C803-469D-9323-9A981FE4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8C2-0C24-44A3-97BC-69AFC37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270-8FFA-4815-912E-E600286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B1A-F39C-47A5-A639-8F6E20C1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1AF-DB0E-4AA7-BDA1-F83E9F90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338-4003-4A73-B721-F165831E3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19720" y="4495320"/>
            <a:ext cx="4114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glish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tric Con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&amp; Metric Con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9722" t="37962" r="7639" b="29632"/>
          <a:stretch/>
        </p:blipFill>
        <p:spPr>
          <a:xfrm>
            <a:off x="76320" y="914400"/>
            <a:ext cx="906768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8334" t="43518" r="5434" b="19447"/>
          <a:stretch/>
        </p:blipFill>
        <p:spPr>
          <a:xfrm>
            <a:off x="380880" y="3809880"/>
            <a:ext cx="8534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9722" t="43518" r="7639" b="29632"/>
          <a:stretch/>
        </p:blipFill>
        <p:spPr>
          <a:xfrm>
            <a:off x="76320" y="228600"/>
            <a:ext cx="90676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0418" t="32410" r="6251" b="19836"/>
          <a:stretch/>
        </p:blipFill>
        <p:spPr>
          <a:xfrm>
            <a:off x="216000" y="2438280"/>
            <a:ext cx="8686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 Trimpe</cp:lastModifiedBy>
  <dcterms:modified xsi:type="dcterms:W3CDTF">2008-10-16T00:06:36Z</dcterms:modified>
  <cp:revision>12</cp:revision>
  <dc:subject/>
  <dc:title>Slide 1</dc:title>
</cp:coreProperties>
</file>