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C20D-FA99-431A-B3F6-C24D06A6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4A4C-85FD-46D0-9B65-BFCC0D01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FFAA-8DA6-4C6C-8B64-8506FE07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8E3D-DED6-4901-BB6C-215A9C81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95EA-BDAE-4340-BE79-270F4218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E23F-D542-4327-9292-B440967D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9E49-3BD5-4164-AF25-BD2ADDEB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811F-46CF-41DF-9294-DC7F86DD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95EF-465B-43BF-A51D-6262B36D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3A2-ADF8-45D1-9152-D6FB105A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3B3-C82A-428A-9457-C7996CE7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BB6F-6CA1-4207-A355-D41A91F0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33A0-831E-44F6-B952-BC00E417F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419720" y="4495320"/>
            <a:ext cx="4114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glish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etric Con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29430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&amp; Metric Con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9722" t="37962" r="7639" b="29632"/>
          <a:stretch/>
        </p:blipFill>
        <p:spPr>
          <a:xfrm>
            <a:off x="76320" y="914400"/>
            <a:ext cx="9067680" cy="266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8334" t="43518" r="5434" b="19447"/>
          <a:stretch/>
        </p:blipFill>
        <p:spPr>
          <a:xfrm>
            <a:off x="380880" y="3809880"/>
            <a:ext cx="85345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9722" t="43518" r="7639" b="29632"/>
          <a:stretch/>
        </p:blipFill>
        <p:spPr>
          <a:xfrm>
            <a:off x="76320" y="228600"/>
            <a:ext cx="906768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10418" t="32410" r="6251" b="19836"/>
          <a:stretch/>
        </p:blipFill>
        <p:spPr>
          <a:xfrm>
            <a:off x="216000" y="2438280"/>
            <a:ext cx="8686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Tracy Trimpe</cp:lastModifiedBy>
  <dcterms:modified xsi:type="dcterms:W3CDTF">2008-10-16T00:06:36Z</dcterms:modified>
  <cp:revision>12</cp:revision>
  <dc:subject/>
  <dc:title>Slide 1</dc:title>
</cp:coreProperties>
</file>