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1C3-0917-4977-87F8-EFFE73EE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7E4-5E6B-4C5B-8C5F-01A3ADBF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ADB6-7923-4BD5-A8F7-F275D6CC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18A-8E41-4B18-A747-3B4A6285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270-A805-4CC6-A144-F3A8163E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F81-4C33-4CFD-AFD2-F36E8F8E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512B-7125-4BF3-9944-903ECE15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F8B4-B1E9-4D95-804E-B305A13A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F86E-CD23-4A79-96AB-FC35DA37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5AE9-649D-4A73-B4D5-7D60004A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F3D4-04E9-4DC0-A6E5-4D8DDDBF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75A-A10D-48CE-829D-8EE71F14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FF2D-511F-44E0-807F-642EBFF27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4191120"/>
            <a:ext cx="3581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son 3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metricmanialogo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MCj02903500000[1]"/>
          <p:cNvPicPr/>
          <p:nvPr/>
        </p:nvPicPr>
        <p:blipFill>
          <a:blip r:embed="rId2"/>
          <a:stretch/>
        </p:blipFill>
        <p:spPr>
          <a:xfrm>
            <a:off x="762120" y="3505320"/>
            <a:ext cx="297180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6"/>
          <p:cNvSpPr/>
          <p:nvPr/>
        </p:nvSpPr>
        <p:spPr>
          <a:xfrm>
            <a:off x="304920" y="1066680"/>
            <a:ext cx="5029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ar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 liter or 1 ga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 liter or 1 qu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milliliter or 1 fluid 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12"/>
          <p:cNvGrpSpPr/>
          <p:nvPr/>
        </p:nvGrpSpPr>
        <p:grpSpPr>
          <a:xfrm>
            <a:off x="380880" y="1625760"/>
            <a:ext cx="3664080" cy="4822200"/>
            <a:chOff x="380880" y="1625760"/>
            <a:chExt cx="3664080" cy="4822200"/>
          </a:xfrm>
        </p:grpSpPr>
        <p:sp>
          <p:nvSpPr>
            <p:cNvPr id="49" name="Oval 70"/>
            <p:cNvSpPr/>
            <p:nvPr/>
          </p:nvSpPr>
          <p:spPr>
            <a:xfrm>
              <a:off x="1727280" y="1625760"/>
              <a:ext cx="13716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86"/>
            <p:cNvSpPr/>
            <p:nvPr/>
          </p:nvSpPr>
          <p:spPr>
            <a:xfrm>
              <a:off x="457200" y="38862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gallon = 3.79 li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3"/>
            <p:cNvSpPr/>
            <p:nvPr/>
          </p:nvSpPr>
          <p:spPr>
            <a:xfrm>
              <a:off x="533520" y="5867280"/>
              <a:ext cx="3047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t would take approximately 3 ¾ 1-liter bottles to equal a gallo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96" descr=""/>
            <p:cNvPicPr/>
            <p:nvPr/>
          </p:nvPicPr>
          <p:blipFill>
            <a:blip r:embed="rId1"/>
            <a:srcRect l="22464" t="0" r="25856" b="0"/>
            <a:stretch/>
          </p:blipFill>
          <p:spPr>
            <a:xfrm>
              <a:off x="380880" y="4343400"/>
              <a:ext cx="5652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97" descr=""/>
            <p:cNvPicPr/>
            <p:nvPr/>
          </p:nvPicPr>
          <p:blipFill>
            <a:blip r:embed="rId2"/>
            <a:srcRect l="22464" t="0" r="25856" b="0"/>
            <a:stretch/>
          </p:blipFill>
          <p:spPr>
            <a:xfrm>
              <a:off x="954000" y="4343400"/>
              <a:ext cx="56520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8" descr=""/>
            <p:cNvPicPr/>
            <p:nvPr/>
          </p:nvPicPr>
          <p:blipFill>
            <a:blip r:embed="rId3"/>
            <a:srcRect l="22464" t="0" r="25856" b="0"/>
            <a:stretch/>
          </p:blipFill>
          <p:spPr>
            <a:xfrm>
              <a:off x="1528920" y="4343400"/>
              <a:ext cx="56484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99" descr=""/>
            <p:cNvPicPr/>
            <p:nvPr/>
          </p:nvPicPr>
          <p:blipFill>
            <a:blip r:embed="rId4"/>
            <a:srcRect l="22464" t="0" r="39954" b="0"/>
            <a:stretch/>
          </p:blipFill>
          <p:spPr>
            <a:xfrm>
              <a:off x="2103480" y="4343400"/>
              <a:ext cx="41112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01" descr=""/>
            <p:cNvPicPr/>
            <p:nvPr/>
          </p:nvPicPr>
          <p:blipFill>
            <a:blip r:embed="rId5"/>
            <a:stretch/>
          </p:blipFill>
          <p:spPr>
            <a:xfrm>
              <a:off x="2590920" y="4114800"/>
              <a:ext cx="1454040" cy="175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oup 113"/>
          <p:cNvGrpSpPr/>
          <p:nvPr/>
        </p:nvGrpSpPr>
        <p:grpSpPr>
          <a:xfrm>
            <a:off x="2425680" y="1066680"/>
            <a:ext cx="6108840" cy="2121120"/>
            <a:chOff x="2425680" y="1066680"/>
            <a:chExt cx="6108840" cy="2121120"/>
          </a:xfrm>
        </p:grpSpPr>
        <p:sp>
          <p:nvSpPr>
            <p:cNvPr id="58" name="Oval 74"/>
            <p:cNvSpPr/>
            <p:nvPr/>
          </p:nvSpPr>
          <p:spPr>
            <a:xfrm>
              <a:off x="2425680" y="2730600"/>
              <a:ext cx="199404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0"/>
            <p:cNvSpPr/>
            <p:nvPr/>
          </p:nvSpPr>
          <p:spPr>
            <a:xfrm>
              <a:off x="624852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fl oz = 29.573 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104" descr=""/>
            <p:cNvPicPr/>
            <p:nvPr/>
          </p:nvPicPr>
          <p:blipFill>
            <a:blip r:embed="rId6"/>
            <a:srcRect l="0" t="0" r="5378" b="0"/>
            <a:stretch/>
          </p:blipFill>
          <p:spPr>
            <a:xfrm>
              <a:off x="5410080" y="1066680"/>
              <a:ext cx="75420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5"/>
            <p:cNvSpPr/>
            <p:nvPr/>
          </p:nvSpPr>
          <p:spPr>
            <a:xfrm>
              <a:off x="6248520" y="1523880"/>
              <a:ext cx="228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12-oz can of soda would equal approximately 355 m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14"/>
          <p:cNvGrpSpPr/>
          <p:nvPr/>
        </p:nvGrpSpPr>
        <p:grpSpPr>
          <a:xfrm>
            <a:off x="457200" y="2171880"/>
            <a:ext cx="7772400" cy="3695400"/>
            <a:chOff x="457200" y="2171880"/>
            <a:chExt cx="7772400" cy="3695400"/>
          </a:xfrm>
        </p:grpSpPr>
        <p:sp>
          <p:nvSpPr>
            <p:cNvPr id="63" name="Oval 71"/>
            <p:cNvSpPr/>
            <p:nvPr/>
          </p:nvSpPr>
          <p:spPr>
            <a:xfrm>
              <a:off x="457200" y="2171880"/>
              <a:ext cx="129528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07"/>
            <p:cNvSpPr/>
            <p:nvPr/>
          </p:nvSpPr>
          <p:spPr>
            <a:xfrm>
              <a:off x="5334120" y="342900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 quart = 0.946 li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108" descr=""/>
            <p:cNvPicPr/>
            <p:nvPr/>
          </p:nvPicPr>
          <p:blipFill>
            <a:blip r:embed="rId7"/>
            <a:stretch/>
          </p:blipFill>
          <p:spPr>
            <a:xfrm>
              <a:off x="6756480" y="3848040"/>
              <a:ext cx="88884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09" descr=""/>
            <p:cNvPicPr/>
            <p:nvPr/>
          </p:nvPicPr>
          <p:blipFill>
            <a:blip r:embed="rId8"/>
            <a:srcRect l="22441" t="0" r="36635" b="0"/>
            <a:stretch/>
          </p:blipFill>
          <p:spPr>
            <a:xfrm>
              <a:off x="5765760" y="3809880"/>
              <a:ext cx="711360" cy="205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04920" y="1127160"/>
            <a:ext cx="51051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amount of space an object takes 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volume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 or 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1 liter is equal to one cub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i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304920" y="326088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liter (L) = 1000 milliliters (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illiliter (mL) = 1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or cc) = 1 gram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28"/>
          <p:cNvSpPr txBox="1"/>
          <p:nvPr/>
        </p:nvSpPr>
        <p:spPr>
          <a:xfrm rot="1551000">
            <a:off x="2657160" y="263520"/>
            <a:ext cx="30492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2" name="WordArt 29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3" name="WordArt 30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4" name="WordArt 31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304920" y="47847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4"/>
          <p:cNvSpPr/>
          <p:nvPr/>
        </p:nvSpPr>
        <p:spPr>
          <a:xfrm>
            <a:off x="685800" y="5241960"/>
            <a:ext cx="3886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 liter or 1500 milli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200 milliliters or 1.2 l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12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1.2 milliliter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5"/>
          <p:cNvSpPr/>
          <p:nvPr/>
        </p:nvSpPr>
        <p:spPr>
          <a:xfrm>
            <a:off x="4267080" y="5105520"/>
            <a:ext cx="426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8"/>
          <p:cNvSpPr/>
          <p:nvPr/>
        </p:nvSpPr>
        <p:spPr>
          <a:xfrm>
            <a:off x="1905120" y="5241960"/>
            <a:ext cx="19047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9"/>
          <p:cNvSpPr/>
          <p:nvPr/>
        </p:nvSpPr>
        <p:spPr>
          <a:xfrm>
            <a:off x="2765520" y="5715000"/>
            <a:ext cx="9903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0"/>
          <p:cNvSpPr/>
          <p:nvPr/>
        </p:nvSpPr>
        <p:spPr>
          <a:xfrm>
            <a:off x="1003320" y="6156360"/>
            <a:ext cx="8380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2" descr="j0426068"/>
          <p:cNvPicPr/>
          <p:nvPr/>
        </p:nvPicPr>
        <p:blipFill>
          <a:blip r:embed="rId1"/>
          <a:stretch/>
        </p:blipFill>
        <p:spPr>
          <a:xfrm>
            <a:off x="7543800" y="46483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3"/>
          <p:cNvSpPr/>
          <p:nvPr/>
        </p:nvSpPr>
        <p:spPr>
          <a:xfrm>
            <a:off x="5791320" y="48243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volu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5334120" y="632448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* When referring to wat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ter Image: http://www.dmturner.org/Teacher/Pictures/liter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8" descr=""/>
          <p:cNvPicPr/>
          <p:nvPr/>
        </p:nvPicPr>
        <p:blipFill>
          <a:blip r:embed="rId2"/>
          <a:stretch/>
        </p:blipFill>
        <p:spPr>
          <a:xfrm>
            <a:off x="5410080" y="1066680"/>
            <a:ext cx="35816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85800" y="6400800"/>
            <a:ext cx="77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 Image: http://www.tea.state.tx.us/student.assessment/resources/online/2006/grade8/science/images/20graphicaa.gif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tom Image: http://morrisonlabs.com/meniscu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200400" y="99072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duated cylind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volume of liquids and other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1" descr=""/>
          <p:cNvPicPr/>
          <p:nvPr/>
        </p:nvPicPr>
        <p:blipFill>
          <a:blip r:embed="rId1"/>
          <a:srcRect l="0" t="0" r="1485" b="0"/>
          <a:stretch/>
        </p:blipFill>
        <p:spPr>
          <a:xfrm>
            <a:off x="380880" y="838080"/>
            <a:ext cx="2411640" cy="3114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2"/>
          <p:cNvSpPr/>
          <p:nvPr/>
        </p:nvSpPr>
        <p:spPr>
          <a:xfrm>
            <a:off x="3124080" y="2082960"/>
            <a:ext cx="5943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the measurement based on the bottom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isc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curve. When using a real cylinder, make sure you are eye-level with the level of th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the cylinder? _____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3"/>
          <p:cNvSpPr/>
          <p:nvPr/>
        </p:nvSpPr>
        <p:spPr>
          <a:xfrm flipH="1" flipV="1">
            <a:off x="2209680" y="182844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8"/>
          <p:cNvGrpSpPr/>
          <p:nvPr/>
        </p:nvGrpSpPr>
        <p:grpSpPr>
          <a:xfrm>
            <a:off x="533520" y="4309920"/>
            <a:ext cx="8305560" cy="1602000"/>
            <a:chOff x="533520" y="4309920"/>
            <a:chExt cx="8305560" cy="1602000"/>
          </a:xfrm>
        </p:grpSpPr>
        <p:pic>
          <p:nvPicPr>
            <p:cNvPr id="93" name="Picture 35" descr=""/>
            <p:cNvPicPr/>
            <p:nvPr/>
          </p:nvPicPr>
          <p:blipFill>
            <a:blip r:embed="rId2"/>
            <a:stretch/>
          </p:blipFill>
          <p:spPr>
            <a:xfrm>
              <a:off x="533520" y="4309920"/>
              <a:ext cx="2276280" cy="16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36"/>
            <p:cNvSpPr/>
            <p:nvPr/>
          </p:nvSpPr>
          <p:spPr>
            <a:xfrm>
              <a:off x="2895480" y="4430880"/>
              <a:ext cx="5943600" cy="13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causes the meniscu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 concave meniscus occurs when the molecules of the liquid attract those of the container.  The glass attracts the water on the sid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iqu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 rot="16200000">
            <a:off x="5607720" y="3396240"/>
            <a:ext cx="670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s created at http://www.standards.dfes.gov.uk/primaryframework/downloads/SWF/measuring_cylinder.sw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28600" y="746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volume of water in each cylind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1"/>
          <a:srcRect l="22916" t="27777" r="62502" b="12963"/>
          <a:stretch/>
        </p:blipFill>
        <p:spPr>
          <a:xfrm>
            <a:off x="3770280" y="1295280"/>
            <a:ext cx="1674720" cy="510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"/>
          <p:cNvPicPr/>
          <p:nvPr/>
        </p:nvPicPr>
        <p:blipFill>
          <a:blip r:embed="rId2"/>
          <a:srcRect l="22916" t="27781" r="62502" b="12963"/>
          <a:stretch/>
        </p:blipFill>
        <p:spPr>
          <a:xfrm>
            <a:off x="685800" y="1295280"/>
            <a:ext cx="1673280" cy="5099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"/>
          <p:cNvPicPr/>
          <p:nvPr/>
        </p:nvPicPr>
        <p:blipFill>
          <a:blip r:embed="rId3"/>
          <a:srcRect l="22916" t="27781" r="62502" b="12963"/>
          <a:stretch/>
        </p:blipFill>
        <p:spPr>
          <a:xfrm>
            <a:off x="6858000" y="1295280"/>
            <a:ext cx="1660680" cy="50612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152280" y="6461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attention to the scales for each cyli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14"/>
          <p:cNvSpPr txBox="1"/>
          <p:nvPr/>
        </p:nvSpPr>
        <p:spPr>
          <a:xfrm>
            <a:off x="7621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4" name="WordArt 15"/>
          <p:cNvSpPr txBox="1"/>
          <p:nvPr/>
        </p:nvSpPr>
        <p:spPr>
          <a:xfrm>
            <a:off x="383868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" name="WordArt 16"/>
          <p:cNvSpPr txBox="1"/>
          <p:nvPr/>
        </p:nvSpPr>
        <p:spPr>
          <a:xfrm>
            <a:off x="6934320" y="54864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Soli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52280" y="6095880"/>
            <a:ext cx="5257800" cy="58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here for an online activity about volume.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e Lesson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olume &amp; Dis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9"/>
          <p:cNvGrpSpPr/>
          <p:nvPr/>
        </p:nvGrpSpPr>
        <p:grpSpPr>
          <a:xfrm>
            <a:off x="380880" y="838080"/>
            <a:ext cx="2895480" cy="2198520"/>
            <a:chOff x="380880" y="838080"/>
            <a:chExt cx="2895480" cy="2198520"/>
          </a:xfrm>
        </p:grpSpPr>
        <p:sp>
          <p:nvSpPr>
            <p:cNvPr id="110" name="AutoShape 12"/>
            <p:cNvSpPr/>
            <p:nvPr/>
          </p:nvSpPr>
          <p:spPr>
            <a:xfrm>
              <a:off x="380880" y="838080"/>
              <a:ext cx="2084400" cy="1766880"/>
            </a:xfrm>
            <a:prstGeom prst="cube">
              <a:avLst>
                <a:gd name="adj" fmla="val 2500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687240" y="266832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4"/>
            <p:cNvSpPr/>
            <p:nvPr/>
          </p:nvSpPr>
          <p:spPr>
            <a:xfrm>
              <a:off x="2357280" y="127944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2097000" y="228888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11"/>
          <p:cNvSpPr/>
          <p:nvPr/>
        </p:nvSpPr>
        <p:spPr>
          <a:xfrm>
            <a:off x="3394080" y="990720"/>
            <a:ext cx="49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measure the volume of regular object using the formu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 x width x h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3200400" y="21337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 X _____ X _____ =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411120" y="2895480"/>
            <a:ext cx="8597880" cy="3810240"/>
            <a:chOff x="411120" y="2895480"/>
            <a:chExt cx="8597880" cy="3810240"/>
          </a:xfrm>
        </p:grpSpPr>
        <p:sp>
          <p:nvSpPr>
            <p:cNvPr id="117" name="Text Box 4"/>
            <p:cNvSpPr/>
            <p:nvPr/>
          </p:nvSpPr>
          <p:spPr>
            <a:xfrm rot="16200000">
              <a:off x="7209360" y="4906080"/>
              <a:ext cx="3200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resources.edb.gov.hk/~s1sci/R_S1Science/sp/en/syllabus/unit14/new/testingmain1.h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5"/>
            <p:cNvSpPr/>
            <p:nvPr/>
          </p:nvSpPr>
          <p:spPr>
            <a:xfrm>
              <a:off x="411120" y="3295800"/>
              <a:ext cx="472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e can measure the volume of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rregular object using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ter displac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10" descr=""/>
            <p:cNvPicPr/>
            <p:nvPr/>
          </p:nvPicPr>
          <p:blipFill>
            <a:blip r:embed="rId1"/>
            <a:stretch/>
          </p:blipFill>
          <p:spPr>
            <a:xfrm>
              <a:off x="5884920" y="2895480"/>
              <a:ext cx="264960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8"/>
            <p:cNvSpPr/>
            <p:nvPr/>
          </p:nvSpPr>
          <p:spPr>
            <a:xfrm>
              <a:off x="533520" y="4191120"/>
              <a:ext cx="3733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moun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bout of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 without object = ______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fference = Volume =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Tracy</cp:lastModifiedBy>
  <dcterms:modified xsi:type="dcterms:W3CDTF">2009-10-12T17:28:49Z</dcterms:modified>
  <cp:revision>38</cp:revision>
  <dc:subject/>
  <dc:title>Slide 1</dc:title>
</cp:coreProperties>
</file>