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35AD-7D0C-4981-8DB5-48A76A52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997-5987-42AA-8E6B-EFF4F612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830-AC8B-48E2-BEB6-4EC23657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0F5-9F50-40C6-9F3D-BCBD5685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50F-750D-4D1D-88E8-599C6B40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B18-FDA9-41BF-BF19-EFF3C2AA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724-65EF-4B4B-8767-57634FC1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7F6-B039-47A7-8296-812CFE12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05E-1E96-4A9F-8AEE-4AF45C91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F7B-F9AC-48B6-BDB2-39ABBC6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2061-08CF-40C7-BB82-A5ABDD0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F21-0509-4CFC-B63A-38DDAE7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A32-6DAD-40CD-878A-EB3AEB29B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kilogram.wmv" TargetMode="External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haus.com/products/education/weblab/TBBread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4191120"/>
            <a:ext cx="358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2004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0666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ar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1 Pound or 100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1 Kilogram or 1 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1 Ounce or 1000 Milli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4280" y="990720"/>
            <a:ext cx="7873920" cy="2514600"/>
            <a:chOff x="584280" y="990720"/>
            <a:chExt cx="7873920" cy="2514600"/>
          </a:xfrm>
        </p:grpSpPr>
        <p:sp>
          <p:nvSpPr>
            <p:cNvPr id="49" name=""/>
            <p:cNvSpPr/>
            <p:nvPr/>
          </p:nvSpPr>
          <p:spPr>
            <a:xfrm>
              <a:off x="584280" y="16002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257800" y="990720"/>
              <a:ext cx="3200400" cy="2514600"/>
              <a:chOff x="5257800" y="990720"/>
              <a:chExt cx="3200400" cy="251460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rcRect l="15499" t="5988" r="12164" b="8624"/>
              <a:stretch/>
            </p:blipFill>
            <p:spPr>
              <a:xfrm>
                <a:off x="5257800" y="990720"/>
                <a:ext cx="3200400" cy="251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5562720" y="1905120"/>
                <a:ext cx="26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pound = 453.6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533520" y="2158920"/>
            <a:ext cx="8001000" cy="3641760"/>
            <a:chOff x="533520" y="2158920"/>
            <a:chExt cx="8001000" cy="3641760"/>
          </a:xfrm>
        </p:grpSpPr>
        <p:sp>
          <p:nvSpPr>
            <p:cNvPr id="54" name=""/>
            <p:cNvSpPr/>
            <p:nvPr/>
          </p:nvSpPr>
          <p:spPr>
            <a:xfrm>
              <a:off x="533520" y="2158920"/>
              <a:ext cx="16761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rcRect l="0" t="0" r="2756" b="0"/>
            <a:stretch/>
          </p:blipFill>
          <p:spPr>
            <a:xfrm>
              <a:off x="5410080" y="3657600"/>
              <a:ext cx="16765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858000" y="487692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0 kilogram =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0 pou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7200" y="2730600"/>
            <a:ext cx="4267080" cy="2908080"/>
            <a:chOff x="457200" y="2730600"/>
            <a:chExt cx="4267080" cy="2908080"/>
          </a:xfrm>
        </p:grpSpPr>
        <p:sp>
          <p:nvSpPr>
            <p:cNvPr id="58" name=""/>
            <p:cNvSpPr/>
            <p:nvPr/>
          </p:nvSpPr>
          <p:spPr>
            <a:xfrm>
              <a:off x="533520" y="2730600"/>
              <a:ext cx="137160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457200" y="38098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362320" y="441972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ounce of gold = 28,349.5 milli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6553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s to the amount of matter in a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e unit of mass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1 kilogram is equal to the m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Prototype Kilogr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PK), a platinum-iridium cylinder kept by the BIPM at Sèvres, Fr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413160"/>
            <a:ext cx="6095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gram (km) = 1000 Grams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Gram (g) = 1000 Milligrams (m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1551000">
            <a:off x="2603520" y="228240"/>
            <a:ext cx="350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50133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85800" y="5470560"/>
            <a:ext cx="7848720" cy="862560"/>
            <a:chOff x="685800" y="5470560"/>
            <a:chExt cx="7848720" cy="862560"/>
          </a:xfrm>
        </p:grpSpPr>
        <p:sp>
          <p:nvSpPr>
            <p:cNvPr id="71" name=""/>
            <p:cNvSpPr/>
            <p:nvPr/>
          </p:nvSpPr>
          <p:spPr>
            <a:xfrm>
              <a:off x="685800" y="547056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kilogram or 1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1200 milligrams or 1 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47056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milligrams or 12 kilo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4 kilograms or 4500 gra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438280" y="5470560"/>
            <a:ext cx="13716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927760"/>
            <a:ext cx="182880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5470560"/>
            <a:ext cx="15368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34040" y="5940360"/>
            <a:ext cx="137160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339408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562720" y="3570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m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162920" y="990720"/>
            <a:ext cx="1676160" cy="1983240"/>
            <a:chOff x="7162920" y="990720"/>
            <a:chExt cx="1676160" cy="1983240"/>
          </a:xfrm>
        </p:grpSpPr>
        <p:pic>
          <p:nvPicPr>
            <p:cNvPr id="80" name="" descr=""/>
            <p:cNvPicPr/>
            <p:nvPr/>
          </p:nvPicPr>
          <p:blipFill>
            <a:blip r:embed="rId3"/>
            <a:srcRect l="23944" t="3780" r="23944" b="21556"/>
            <a:stretch/>
          </p:blipFill>
          <p:spPr>
            <a:xfrm>
              <a:off x="7238880" y="990720"/>
              <a:ext cx="1524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162920" y="2666880"/>
              <a:ext cx="167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ilogram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295280" y="647712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ogram Prototype Image - http://en.wikipedia.org/wiki/Kil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6400800"/>
            <a:ext cx="64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 Image: http://www.southwestscales.com/Ohaus_Triple_Beam_750-SO.jpg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Image: http://www.regentsprep.org/Regents/biology/units/laboratory/graphics/triplebeambala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990720"/>
            <a:ext cx="4419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be 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iple-beam bal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the mass of various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bjects are placed on the scale and then you move the weights on the beams until you get the lines on the right-side of the scale to match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810240" cy="16063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57200" y="3352680"/>
            <a:ext cx="8458200" cy="2632320"/>
            <a:chOff x="457200" y="3352680"/>
            <a:chExt cx="8458200" cy="263232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457200" y="3352680"/>
              <a:ext cx="318132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733920" y="3581280"/>
              <a:ext cx="5181480" cy="22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ce you have balanced the scale, you add up the amounts on each beam to find the total mas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would be the mass of the object measured in the picture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_______ + ______ + _______ = ________ 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3860640" y="185400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Mass –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63244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to try an onlin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048120"/>
            <a:ext cx="5715000" cy="24098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28600" y="1219320"/>
            <a:ext cx="4800600" cy="1980720"/>
            <a:chOff x="228600" y="1219320"/>
            <a:chExt cx="4800600" cy="1980720"/>
          </a:xfrm>
        </p:grpSpPr>
        <p:sp>
          <p:nvSpPr>
            <p:cNvPr id="97" name=""/>
            <p:cNvSpPr/>
            <p:nvPr/>
          </p:nvSpPr>
          <p:spPr>
            <a:xfrm>
              <a:off x="228600" y="121932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Place the film canister on the sc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1523880"/>
              <a:ext cx="38124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371600" y="1778040"/>
            <a:ext cx="7620120" cy="2108160"/>
            <a:chOff x="1371600" y="1778040"/>
            <a:chExt cx="7620120" cy="2108160"/>
          </a:xfrm>
        </p:grpSpPr>
        <p:sp>
          <p:nvSpPr>
            <p:cNvPr id="100" name=""/>
            <p:cNvSpPr/>
            <p:nvPr/>
          </p:nvSpPr>
          <p:spPr>
            <a:xfrm>
              <a:off x="1371600" y="1778040"/>
              <a:ext cx="762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large weight to the right until the arm drops below the line.  Move the rider back one groove.  Make sure it “locks” into plac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2438280"/>
              <a:ext cx="10666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819520" y="2666880"/>
            <a:ext cx="6019560" cy="914400"/>
            <a:chOff x="2819520" y="2666880"/>
            <a:chExt cx="6019560" cy="914400"/>
          </a:xfrm>
        </p:grpSpPr>
        <p:sp>
          <p:nvSpPr>
            <p:cNvPr id="103" name=""/>
            <p:cNvSpPr/>
            <p:nvPr/>
          </p:nvSpPr>
          <p:spPr>
            <a:xfrm>
              <a:off x="3124080" y="266688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– Repeat this process with the top weight.  When the arm moves below the line, back it up one groo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19520" y="28954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666520" y="3657600"/>
            <a:ext cx="6248880" cy="1313640"/>
            <a:chOff x="2666520" y="3657600"/>
            <a:chExt cx="6248880" cy="1313640"/>
          </a:xfrm>
        </p:grpSpPr>
        <p:sp>
          <p:nvSpPr>
            <p:cNvPr id="106" name=""/>
            <p:cNvSpPr/>
            <p:nvPr/>
          </p:nvSpPr>
          <p:spPr>
            <a:xfrm>
              <a:off x="6248520" y="3657600"/>
              <a:ext cx="2666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– Slide the small weight on the front beam until the lines match u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666520" y="4114800"/>
              <a:ext cx="3582000" cy="457200"/>
              <a:chOff x="2666520" y="4114800"/>
              <a:chExt cx="3582000" cy="457200"/>
            </a:xfrm>
          </p:grpSpPr>
          <p:sp>
            <p:nvSpPr>
              <p:cNvPr id="108" name=""/>
              <p:cNvSpPr/>
              <p:nvPr/>
            </p:nvSpPr>
            <p:spPr>
              <a:xfrm flipH="1" flipV="1">
                <a:off x="2666520" y="4114800"/>
                <a:ext cx="228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895480" y="4572000"/>
                <a:ext cx="3353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257800" y="3657600"/>
              <a:ext cx="609480" cy="457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56386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dd the amounts on each beam to find the total mass to the nearest tenth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3T20:31:46Z</dcterms:modified>
  <cp:revision>21</cp:revision>
  <dc:subject/>
  <dc:title>Slide 1</dc:title>
</cp:coreProperties>
</file>