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443-E3F8-4686-9D9A-013736BA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ECC-9B25-4932-B46A-92D2FDC1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0E7-99A7-46DB-B4C6-1EA6785C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867-D453-4126-8196-673B6B36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B52-6AA1-49D3-B844-0D7187AB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2F2B-E102-417A-A9A6-C92520AF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565-98D6-4C51-97D9-A657EAA3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537-DDDD-4657-9CE1-A16CE83B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EFF-89EC-4BC4-89EE-83ABFB09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6F5-313F-449C-A8B8-67D2320B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CBD-CABB-45BA-8EEF-DFC79878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07B-2D03-4ECA-8B4D-3DF49B16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1529-7009-493A-9682-8AE154005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kilogram.wmv" TargetMode="External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haus.com/products/education/weblab/TBBread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419112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2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32004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06668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ar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1 Pound or 100 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1 Kilogram or 1 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1 Ounce or 1000 Milli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84280" y="990720"/>
            <a:ext cx="7873920" cy="2514600"/>
            <a:chOff x="584280" y="990720"/>
            <a:chExt cx="7873920" cy="2514600"/>
          </a:xfrm>
        </p:grpSpPr>
        <p:sp>
          <p:nvSpPr>
            <p:cNvPr id="49" name=""/>
            <p:cNvSpPr/>
            <p:nvPr/>
          </p:nvSpPr>
          <p:spPr>
            <a:xfrm>
              <a:off x="584280" y="160020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257800" y="990720"/>
              <a:ext cx="3200400" cy="2514600"/>
              <a:chOff x="5257800" y="990720"/>
              <a:chExt cx="3200400" cy="2514600"/>
            </a:xfrm>
          </p:grpSpPr>
          <p:pic>
            <p:nvPicPr>
              <p:cNvPr id="51" name="" descr=""/>
              <p:cNvPicPr/>
              <p:nvPr/>
            </p:nvPicPr>
            <p:blipFill>
              <a:blip r:embed="rId1"/>
              <a:srcRect l="15499" t="5988" r="12164" b="8624"/>
              <a:stretch/>
            </p:blipFill>
            <p:spPr>
              <a:xfrm>
                <a:off x="5257800" y="990720"/>
                <a:ext cx="3200400" cy="25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5562720" y="1905120"/>
                <a:ext cx="26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pound = 453.6 gra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533520" y="2158920"/>
            <a:ext cx="8001000" cy="3641760"/>
            <a:chOff x="533520" y="2158920"/>
            <a:chExt cx="8001000" cy="3641760"/>
          </a:xfrm>
        </p:grpSpPr>
        <p:sp>
          <p:nvSpPr>
            <p:cNvPr id="54" name=""/>
            <p:cNvSpPr/>
            <p:nvPr/>
          </p:nvSpPr>
          <p:spPr>
            <a:xfrm>
              <a:off x="533520" y="2158920"/>
              <a:ext cx="16761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rcRect l="0" t="0" r="2756" b="0"/>
            <a:stretch/>
          </p:blipFill>
          <p:spPr>
            <a:xfrm>
              <a:off x="5410080" y="3657600"/>
              <a:ext cx="16765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858000" y="487692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0 kilogram =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0 pou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57200" y="2730600"/>
            <a:ext cx="4267080" cy="2908080"/>
            <a:chOff x="457200" y="2730600"/>
            <a:chExt cx="4267080" cy="2908080"/>
          </a:xfrm>
        </p:grpSpPr>
        <p:sp>
          <p:nvSpPr>
            <p:cNvPr id="58" name=""/>
            <p:cNvSpPr/>
            <p:nvPr/>
          </p:nvSpPr>
          <p:spPr>
            <a:xfrm>
              <a:off x="533520" y="273060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457200" y="38098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362320" y="441972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ounce of gold = 28,349.5 milli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066680"/>
            <a:ext cx="65530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s to the amount of matter in an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mass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l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kilogram is equal to the m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tional Prototype Kil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PK), a platinum-iridium cylinder kept by the BIPM at Sèvres, Fr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41316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gram (km) = 1000 Grams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Gram (g) = 1000 Milligrams (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 rot="1551000">
            <a:off x="2603520" y="228240"/>
            <a:ext cx="3506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50133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85800" y="5470560"/>
            <a:ext cx="7848720" cy="862560"/>
            <a:chOff x="685800" y="5470560"/>
            <a:chExt cx="7848720" cy="862560"/>
          </a:xfrm>
        </p:grpSpPr>
        <p:sp>
          <p:nvSpPr>
            <p:cNvPr id="71" name=""/>
            <p:cNvSpPr/>
            <p:nvPr/>
          </p:nvSpPr>
          <p:spPr>
            <a:xfrm>
              <a:off x="685800" y="547056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kilogram or 1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1200 milligrams or 1 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47056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milligrams or 12 kilo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4 kilograms or 4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438280" y="5470560"/>
            <a:ext cx="13716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5927760"/>
            <a:ext cx="18288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5470560"/>
            <a:ext cx="15368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34040" y="5940360"/>
            <a:ext cx="137160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339408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562720" y="3570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m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162920" y="990720"/>
            <a:ext cx="1676160" cy="1983240"/>
            <a:chOff x="7162920" y="990720"/>
            <a:chExt cx="1676160" cy="1983240"/>
          </a:xfrm>
        </p:grpSpPr>
        <p:pic>
          <p:nvPicPr>
            <p:cNvPr id="80" name="" descr=""/>
            <p:cNvPicPr/>
            <p:nvPr/>
          </p:nvPicPr>
          <p:blipFill>
            <a:blip r:embed="rId3"/>
            <a:srcRect l="23944" t="3780" r="23944" b="21556"/>
            <a:stretch/>
          </p:blipFill>
          <p:spPr>
            <a:xfrm>
              <a:off x="7238880" y="990720"/>
              <a:ext cx="15242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7162920" y="2666880"/>
              <a:ext cx="167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ilogram Prot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295280" y="6477120"/>
            <a:ext cx="594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ogram Prototype Image - http://en.wikipedia.org/wiki/Kil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6400800"/>
            <a:ext cx="64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southwestscales.com/Ohaus_Triple_Beam_750-SO.jpg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www.regentsprep.org/Regents/biology/units/laboratory/graphics/triplebeambalan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990720"/>
            <a:ext cx="4419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ple-beam bala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mass of various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jects are placed on the scale and then you move the weights on the beams until you get the lines on the right-side of the scale to match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810240" cy="160632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457200" y="3352680"/>
            <a:ext cx="8458200" cy="2632320"/>
            <a:chOff x="457200" y="3352680"/>
            <a:chExt cx="8458200" cy="263232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457200" y="3352680"/>
              <a:ext cx="3181320" cy="26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733920" y="3581280"/>
              <a:ext cx="5181480" cy="22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ce you have balanced the scale, you add up the amounts on each beam to find the total mass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would be the mass of the object measured in the picture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_______ + ______ + _______ = ________ 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 flipH="1" flipV="1">
            <a:off x="3860640" y="185400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 – Triple-Beam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6324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to try an online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5715000" cy="24098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228600" y="1219320"/>
            <a:ext cx="4800600" cy="1980720"/>
            <a:chOff x="228600" y="1219320"/>
            <a:chExt cx="4800600" cy="1980720"/>
          </a:xfrm>
        </p:grpSpPr>
        <p:sp>
          <p:nvSpPr>
            <p:cNvPr id="97" name=""/>
            <p:cNvSpPr/>
            <p:nvPr/>
          </p:nvSpPr>
          <p:spPr>
            <a:xfrm>
              <a:off x="228600" y="121932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Place the film canister on the sca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8080" y="1523880"/>
              <a:ext cx="38124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371600" y="1778040"/>
            <a:ext cx="7620120" cy="2108160"/>
            <a:chOff x="1371600" y="1778040"/>
            <a:chExt cx="7620120" cy="2108160"/>
          </a:xfrm>
        </p:grpSpPr>
        <p:sp>
          <p:nvSpPr>
            <p:cNvPr id="100" name=""/>
            <p:cNvSpPr/>
            <p:nvPr/>
          </p:nvSpPr>
          <p:spPr>
            <a:xfrm>
              <a:off x="1371600" y="1778040"/>
              <a:ext cx="762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large weight to the right until the arm drops below the line.  Move the rider back one groove.  Make sure it “locks” into plac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6520" y="2438280"/>
              <a:ext cx="10666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819520" y="2666880"/>
            <a:ext cx="6019560" cy="914400"/>
            <a:chOff x="2819520" y="2666880"/>
            <a:chExt cx="6019560" cy="914400"/>
          </a:xfrm>
        </p:grpSpPr>
        <p:sp>
          <p:nvSpPr>
            <p:cNvPr id="103" name=""/>
            <p:cNvSpPr/>
            <p:nvPr/>
          </p:nvSpPr>
          <p:spPr>
            <a:xfrm>
              <a:off x="3124080" y="266688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– Repeat this process with the top weight.  When the arm moves below the line, back it up one groo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819520" y="28954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666520" y="3657600"/>
            <a:ext cx="6248880" cy="1313640"/>
            <a:chOff x="2666520" y="3657600"/>
            <a:chExt cx="6248880" cy="1313640"/>
          </a:xfrm>
        </p:grpSpPr>
        <p:sp>
          <p:nvSpPr>
            <p:cNvPr id="106" name=""/>
            <p:cNvSpPr/>
            <p:nvPr/>
          </p:nvSpPr>
          <p:spPr>
            <a:xfrm>
              <a:off x="6248520" y="3657600"/>
              <a:ext cx="2666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small weight on the front beam until the lines match up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666520" y="4114800"/>
              <a:ext cx="3582000" cy="457200"/>
              <a:chOff x="2666520" y="4114800"/>
              <a:chExt cx="3582000" cy="457200"/>
            </a:xfrm>
          </p:grpSpPr>
          <p:sp>
            <p:nvSpPr>
              <p:cNvPr id="108" name=""/>
              <p:cNvSpPr/>
              <p:nvPr/>
            </p:nvSpPr>
            <p:spPr>
              <a:xfrm flipH="1" flipV="1">
                <a:off x="2666520" y="4114800"/>
                <a:ext cx="2286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895480" y="4572000"/>
                <a:ext cx="33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257800" y="3657600"/>
              <a:ext cx="609480" cy="457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8600" y="56386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– Add the amounts on each beam to find the total mass to the nearest tenth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Tracy Trimpe</cp:lastModifiedBy>
  <dcterms:modified xsi:type="dcterms:W3CDTF">2008-10-13T20:31:46Z</dcterms:modified>
  <cp:revision>21</cp:revision>
  <dc:subject/>
  <dc:title>Slide 1</dc:title>
</cp:coreProperties>
</file>