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3971-E56F-4C3E-9A5B-231BFDDC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BEA-68D3-4A68-8334-D9DC63C1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96A-E5A7-4A54-90B9-4797F1BA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C2A-7087-4193-8354-820576E0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3CB-AF47-4813-96BD-CA120B7A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BC9-CE0A-4224-B74D-2AFAEBA1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FCB-C151-439C-B147-2A6052B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8EC-7FDD-4B1D-B41D-DAFF4967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197-6F5D-4AA0-B0A9-10AFEBF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BA2-DB7E-443D-AEE9-3767A4C3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71B-0D4A-4C98-B519-C730848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EE5-496D-48E3-9B13-A0FAD0D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37D-D9A8-4A78-928D-30E7FF61D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Tracy Trimpe</cp:lastModifiedBy>
  <dcterms:modified xsi:type="dcterms:W3CDTF">2008-10-13T19:40:23Z</dcterms:modified>
  <cp:revision>11</cp:revision>
  <dc:subject/>
  <dc:title>Slide 1</dc:title>
</cp:coreProperties>
</file>