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0B3-1998-420D-A3D7-BFF70030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C5E-C679-43F2-B462-67828448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46C-30D7-4D93-A3A1-E9D9E0F6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4B2-9D3B-4BE8-8AAC-6505D791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227-C292-45A6-880E-51647DBF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DA0-245F-4327-B59C-C6919DE5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A26-2E43-445D-925F-915D86FE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B2B-5AE7-4CBD-B750-C2BF44D1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E68-53FD-4887-98B2-C18DD8C7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2B6-A389-4CCD-88AA-1C6D2AE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610-444D-4019-9CD0-A16B79C4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FB0-F3C8-499B-9383-09EB9793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E3D9-7005-4B85-A27F-B209065EB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4953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1: 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50" name="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1" name="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" name="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9" name="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4" name="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9" name="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3" name="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5" name="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9" name="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Tracy Trimpe</cp:lastModifiedBy>
  <dcterms:modified xsi:type="dcterms:W3CDTF">2008-10-13T19:40:23Z</dcterms:modified>
  <cp:revision>11</cp:revision>
  <dc:subject/>
  <dc:title>Slide 1</dc:title>
</cp:coreProperties>
</file>