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A4A-06B1-49FF-ADE5-3FC073CFC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880-F705-4B3B-BD78-D80D2E930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F6D-1508-4BEF-9C58-1C147FBF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D62-6970-4D6E-9D9C-5745BAAC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026-8C63-4BEC-AED6-E27B2900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1ED-7573-4D68-9549-9B6875D7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441-E2D1-47E5-B49C-AFF0395F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96F-C35C-419F-AFBF-EEC19F7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966-0A9C-4E0D-9E33-8DAEA831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570-0C7E-4E37-BC04-E89F6FC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915-D869-4EFC-9160-D584AFE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10E-A98A-4C72-9F0B-3ED144F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493-9027-4686-B27B-728FAC58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18A-AD3B-4301-9F60-AA598FD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0B16-E6E0-4365-BD5A-3FC0F8323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80720" y="51051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meet the challen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092240" y="107964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914400" y="312408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Vertebrat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108756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819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204920" cy="10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809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"/>
          <p:cNvPicPr/>
          <p:nvPr/>
        </p:nvPicPr>
        <p:blipFill>
          <a:blip r:embed="rId5"/>
          <a:stretch/>
        </p:blipFill>
        <p:spPr>
          <a:xfrm>
            <a:off x="3809880" y="228600"/>
            <a:ext cx="166716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6"/>
          <a:stretch/>
        </p:blipFill>
        <p:spPr>
          <a:xfrm>
            <a:off x="7315200" y="2971800"/>
            <a:ext cx="163368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C:\Users\Tracy\Pictures\Microsoft Clip Organizer\an03821_.wmf"/>
          <p:cNvPicPr/>
          <p:nvPr/>
        </p:nvPicPr>
        <p:blipFill>
          <a:blip r:embed="rId7"/>
          <a:stretch/>
        </p:blipFill>
        <p:spPr>
          <a:xfrm rot="19424400">
            <a:off x="264960" y="2782440"/>
            <a:ext cx="11592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124080" y="6400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. Trimpe 2009   http://sciencespot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lues can we use to remember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groups for vertebr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rcRect l="16277" t="28080" r="51172" b="15367"/>
          <a:stretch/>
        </p:blipFill>
        <p:spPr>
          <a:xfrm>
            <a:off x="1676520" y="838080"/>
            <a:ext cx="5410080" cy="587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152280" y="228600"/>
            <a:ext cx="4343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Work with your partner to place each “critter card” in its correct location around the edges of  the classification 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Write the names of the organisms in the correct location on your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9"/>
          <p:cNvCxnSpPr/>
          <p:nvPr/>
        </p:nvCxnSpPr>
        <p:spPr>
          <a:xfrm>
            <a:off x="3885840" y="1371600"/>
            <a:ext cx="6102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TextBox 12"/>
          <p:cNvSpPr/>
          <p:nvPr/>
        </p:nvSpPr>
        <p:spPr>
          <a:xfrm>
            <a:off x="152280" y="584532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When you are done, have your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343400" y="228600"/>
            <a:ext cx="4572000" cy="3048120"/>
            <a:chOff x="4343400" y="228600"/>
            <a:chExt cx="4572000" cy="3048120"/>
          </a:xfrm>
        </p:grpSpPr>
        <p:grpSp>
          <p:nvGrpSpPr>
            <p:cNvPr id="65" name="Group 14"/>
            <p:cNvGrpSpPr/>
            <p:nvPr/>
          </p:nvGrpSpPr>
          <p:grpSpPr>
            <a:xfrm>
              <a:off x="4495680" y="380880"/>
              <a:ext cx="4267440" cy="2743560"/>
              <a:chOff x="4495680" y="380880"/>
              <a:chExt cx="4267440" cy="2743560"/>
            </a:xfrm>
          </p:grpSpPr>
          <p:pic>
            <p:nvPicPr>
              <p:cNvPr id="66" name="Picture 12" descr=""/>
              <p:cNvPicPr/>
              <p:nvPr/>
            </p:nvPicPr>
            <p:blipFill>
              <a:blip r:embed="rId1"/>
              <a:srcRect l="7946" t="18361" r="67339" b="30791"/>
              <a:stretch/>
            </p:blipFill>
            <p:spPr>
              <a:xfrm>
                <a:off x="4495680" y="380880"/>
                <a:ext cx="2133720" cy="274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12" descr=""/>
              <p:cNvPicPr/>
              <p:nvPr/>
            </p:nvPicPr>
            <p:blipFill>
              <a:blip r:embed="rId2"/>
              <a:srcRect l="33546" t="18361" r="41739" b="30791"/>
              <a:stretch/>
            </p:blipFill>
            <p:spPr>
              <a:xfrm>
                <a:off x="6629400" y="380880"/>
                <a:ext cx="2133720" cy="2743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15"/>
            <p:cNvSpPr/>
            <p:nvPr/>
          </p:nvSpPr>
          <p:spPr>
            <a:xfrm>
              <a:off x="4343400" y="228600"/>
              <a:ext cx="4572000" cy="3048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" descr=""/>
          <p:cNvPicPr/>
          <p:nvPr/>
        </p:nvPicPr>
        <p:blipFill>
          <a:blip r:embed="rId3"/>
          <a:srcRect l="16277" t="20222" r="51172" b="15367"/>
          <a:stretch/>
        </p:blipFill>
        <p:spPr>
          <a:xfrm>
            <a:off x="5410080" y="3200400"/>
            <a:ext cx="2819520" cy="348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70" name="Straight Arrow Connector 10"/>
          <p:cNvCxnSpPr/>
          <p:nvPr/>
        </p:nvCxnSpPr>
        <p:spPr>
          <a:xfrm>
            <a:off x="4419360" y="3809520"/>
            <a:ext cx="1143720" cy="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6"/>
          <p:cNvSpPr/>
          <p:nvPr/>
        </p:nvSpPr>
        <p:spPr>
          <a:xfrm>
            <a:off x="380880" y="228600"/>
            <a:ext cx="8305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Shuffle the cards and place in ONE pil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Start the timer and then pick up the cards and start sorting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If you are working with a partner, you cannot spli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s into two piles until after you start the ti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Stop the timer when you are done.  Have a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If all your answers are correct AND you completed the task in 30 seconds or less, write your name on the boar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447920" cy="1273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2"/>
          <a:stretch/>
        </p:blipFill>
        <p:spPr>
          <a:xfrm>
            <a:off x="304920" y="5105520"/>
            <a:ext cx="1647720" cy="123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3"/>
          <a:stretch/>
        </p:blipFill>
        <p:spPr>
          <a:xfrm>
            <a:off x="6781680" y="762120"/>
            <a:ext cx="181944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4"/>
          <a:stretch/>
        </p:blipFill>
        <p:spPr>
          <a:xfrm flipH="1">
            <a:off x="3200040" y="5867280"/>
            <a:ext cx="7938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"/>
          <p:cNvPicPr/>
          <p:nvPr/>
        </p:nvPicPr>
        <p:blipFill>
          <a:blip r:embed="rId5"/>
          <a:stretch/>
        </p:blipFill>
        <p:spPr>
          <a:xfrm>
            <a:off x="4038480" y="4876920"/>
            <a:ext cx="18097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0:54:04Z</dcterms:created>
  <dc:creator>Tracy</dc:creator>
  <dc:description/>
  <dc:language>en-US</dc:language>
  <cp:lastModifiedBy>Tracy</cp:lastModifiedBy>
  <dcterms:modified xsi:type="dcterms:W3CDTF">2009-02-22T00:48:55Z</dcterms:modified>
  <cp:revision>16</cp:revision>
  <dc:subject/>
  <dc:title>Slide 1</dc:title>
</cp:coreProperties>
</file>