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wmf" ContentType="image/x-wmf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7CB-15D1-4395-8417-1FDDAC18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5FA-89B1-43B3-A53C-ADA7CB62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753AA-C16F-4F9E-9190-1CF37417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2D125-96F8-425E-9D69-C55144C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B9F1F-843C-4528-9AF6-DDFD4ACF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C98AD-E5B4-4955-B576-8814CDE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2F256-3AC7-45F9-9011-2A589C24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68623-CA78-4CA7-9D24-52826F44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3335E-4F5C-44F3-8806-3AC10B60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38176-1FA5-45F8-91ED-00F37EE9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A14D2-5179-4C15-AAD5-81577BC2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45C-24F6-4FA5-9C34-7B090F35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DD6-E3F9-4811-9552-C3949965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BEE3-FA47-45B5-8339-61EAD12E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F8E6-CBB1-4208-A297-882A532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100-1072-4EB5-B768-AF810F6A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E6FD-EC88-411F-8B06-ECD01072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C2DA-D8E6-47D0-97DF-D75DBD3D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BE63-05C8-43EA-A73E-DFDEBAAC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1E46-6436-4016-83AA-CC69BFE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FCF-3531-48FC-BED9-7D5EDFB5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69A3-BDD1-492C-B393-B23725E9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E066-6E4D-44E5-8B1B-32C0BD6E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E66E-8D86-40F8-AD4B-CE8D4910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6713-EB5D-4E0F-B1E2-C471157C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FB60-E285-4237-BBFE-714CB0B1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3E4E-4CBD-4F82-99F9-4FF15C1C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FB9B-D678-47EC-A553-DB24CF68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BB48-093E-4BAB-A13E-D959F49D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AD00D-658C-4A4C-93F9-CB391FB6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A8ED-20B5-4847-9D85-2842882C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E6F-8348-45DC-8F15-1D233C6B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412C-D42B-4AA6-BDC5-B58D907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B8CC-29C5-467A-BAD9-FE968C5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85B34-8CB6-456B-9C37-D0272BE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2FF4-7708-4AD9-8237-1857189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2C22-1568-4ACC-B586-B14B18B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F7B3-3429-4819-9BE5-CA1F662E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F0C6-AA32-41FD-AAD9-20FD8AD8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BD1B-7D75-45A4-8354-0D5AF31C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CFBC6-0E06-488C-AAAA-12B00BCE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2028-7965-442F-A836-DBB64341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919-512A-4278-A2E3-0666B248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ED47-FAE8-4858-A952-AB987592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E368-11A8-40F7-9124-8E4CEDDE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1F9A7-529E-4ACB-BED2-68AF0210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3B3DF-0406-467A-A5B3-B08C7F0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1C1FD-DFAF-4EC6-A00F-7F7D88B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7A72A-497C-4BFD-9106-02FA4E6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23D7-2C5C-4343-AD6A-4814BDCA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8960-2DED-46F9-9C74-BCEA9EAB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33982-D396-470B-A061-158F61B4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00D7-1664-4B42-B3F2-99DD51FC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31F-9C62-47A3-BB33-3206E2B8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3B1FF-800E-462F-87C4-C2B9EA23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F1EAC-3F1B-4B64-B84D-C3C41D0E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F5B5D-46B9-4B5D-95BB-54D54BE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637A6-112D-4FD3-AF3B-5F494002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78D7-A2E9-4215-99FE-29C2118A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7030-EF8F-4250-B725-CA63E8F8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EC64-C4F3-4D4D-9C05-C0D9656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7ABD-FA22-4980-A6CD-E8F60A8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B317F-FC48-4ED4-AA38-AB6ABF5E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F426-3BE4-4C7F-837F-05E07D78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1FD-BA47-4D05-A174-2FD7CC27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5CEE6-BD2E-4CE5-98B6-FB5A7D16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98C4-EEA7-4D81-B092-698BD939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60909-B0E8-4225-9593-D2A55E73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55722-7A3D-4DBE-BD3F-04250E99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42E2A-8276-4460-938E-9E40B820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DF21-BDE0-4CF5-A160-C1AC83E3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9CA9F-7F53-4AB3-B3F1-535ADF2A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4E6B-3448-4DCC-894E-E9061E1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44A3-DFB9-45BE-A4CD-E6738F5C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C7E5-F79E-4AD1-AF7E-DA55C7E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342-48FE-4AC7-8AE7-9D2FB38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FDD82-93E2-472D-9709-ACA3009F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386B0-3EB7-47F8-B1CA-E3E17A6E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A172-77D6-49B9-8256-A2AF17EE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C01FF-19B8-4D53-8F9B-3E485B3B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21F46-7827-46C6-8FEE-4F69156D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35EFA-6300-4334-8BAB-0E5CA23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D0C4-8A5C-4336-B062-49B82FC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7C76-1B02-4606-A090-F93CFAD8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C389A-EEA4-4D9F-872A-E42F21B1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69396-6187-4F6D-9E4D-6A87C13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875-E66A-4BA9-A857-2BA48EF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3EB55-2163-4C59-AEE2-561ECD93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D2EC9-9CF9-4E38-82DA-DF9E69A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1411B-C126-42E1-9607-06E9703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18943-C453-444C-A80A-062F0609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5FF3B-82CF-4401-891C-5B3E6570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23A03-E632-424D-A86E-97D58C6C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AB824-1BC4-4871-9314-2766CD77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47E22-267B-440F-B519-8BA08BFE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5D917-E6B7-4607-AB4A-56D5F9AC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98FC7-ED73-422D-AD84-56F6D0DB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682-CBC6-4F25-9DE9-C0ACDF2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8C2E8-8AA4-424B-81CF-B8D4CB7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D2DB7-ADBA-4EFB-A732-6215D635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B97A-6E09-4C96-BBBD-EE8CFA3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A5E6-BFAA-44F4-8D4B-E877F6C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8129B-63D4-44FC-B9A7-0C77F246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AFD2F-0562-4453-956C-E3E8F0AC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EF54E-B87D-460E-A4A8-5AAABE7C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A1EF3-3C86-4D5A-9233-C38B632B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46E71-3571-45F6-8836-BB39D770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ABD34-15D3-4E1F-8EF8-2E0DA781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3F7F-A95A-4BDE-9C9D-6B2596C5496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BB91-CE4B-4E4D-94FD-0F50E71241B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F947-FA73-4323-80E2-50528264495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2E6D-263A-4252-9CFB-FEC56CC661D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DD6A-F1D4-46A7-8C81-B8F38DAB221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9CC7-61E1-4FDE-B68E-0552076CA44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1CE2-ADF9-462C-A697-43A912E7D5A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5FA-6606-4A4D-BAE2-460ACB73B47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6EB9-F43F-49B9-B1D6-54C628D29E2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image" Target="../media/image8.jpeg"/><Relationship Id="rId5" Type="http://schemas.openxmlformats.org/officeDocument/2006/relationships/image" Target="../media/image19.jpeg"/><Relationship Id="rId6" Type="http://schemas.openxmlformats.org/officeDocument/2006/relationships/image" Target="../media/image9.jpeg"/><Relationship Id="rId7" Type="http://schemas.openxmlformats.org/officeDocument/2006/relationships/image" Target="../media/image20.jpeg"/><Relationship Id="rId8" Type="http://schemas.openxmlformats.org/officeDocument/2006/relationships/image" Target="../media/image15.jpeg"/><Relationship Id="rId9" Type="http://schemas.openxmlformats.org/officeDocument/2006/relationships/image" Target="../media/image21.jpeg"/><Relationship Id="rId10" Type="http://schemas.openxmlformats.org/officeDocument/2006/relationships/image" Target="../media/image13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5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228600" y="1066680"/>
            <a:ext cx="2617920" cy="2181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lick on the image to reveal the answer"/>
          <p:cNvPicPr/>
          <p:nvPr/>
        </p:nvPicPr>
        <p:blipFill>
          <a:blip r:embed="rId3"/>
          <a:stretch/>
        </p:blipFill>
        <p:spPr>
          <a:xfrm>
            <a:off x="6431040" y="685800"/>
            <a:ext cx="2712960" cy="2427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Click on the image to reveal the answer"/>
          <p:cNvPicPr/>
          <p:nvPr/>
        </p:nvPicPr>
        <p:blipFill>
          <a:blip r:embed="rId4"/>
          <a:stretch/>
        </p:blipFill>
        <p:spPr>
          <a:xfrm>
            <a:off x="228600" y="434340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8" descr=""/>
          <p:cNvPicPr/>
          <p:nvPr/>
        </p:nvPicPr>
        <p:blipFill>
          <a:blip r:embed="rId5"/>
          <a:stretch/>
        </p:blipFill>
        <p:spPr>
          <a:xfrm>
            <a:off x="5973840" y="46980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0" name="Rectangle 7" descr=""/>
          <p:cNvPicPr/>
          <p:nvPr/>
        </p:nvPicPr>
        <p:blipFill>
          <a:blip r:embed="rId6"/>
          <a:stretch/>
        </p:blipFill>
        <p:spPr>
          <a:xfrm>
            <a:off x="-201600" y="77472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1" name="Rectangle 9" descr=""/>
          <p:cNvPicPr/>
          <p:nvPr/>
        </p:nvPicPr>
        <p:blipFill>
          <a:blip r:embed="rId7"/>
          <a:stretch/>
        </p:blipFill>
        <p:spPr>
          <a:xfrm>
            <a:off x="-201600" y="412740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Click on the image to reveal the answer"/>
          <p:cNvPicPr/>
          <p:nvPr/>
        </p:nvPicPr>
        <p:blipFill>
          <a:blip r:embed="rId8"/>
          <a:stretch/>
        </p:blipFill>
        <p:spPr>
          <a:xfrm>
            <a:off x="3352680" y="2743200"/>
            <a:ext cx="2617920" cy="218124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11" descr=""/>
          <p:cNvPicPr/>
          <p:nvPr/>
        </p:nvPicPr>
        <p:blipFill>
          <a:blip r:embed="rId9"/>
          <a:stretch/>
        </p:blipFill>
        <p:spPr>
          <a:xfrm>
            <a:off x="2925720" y="2530440"/>
            <a:ext cx="1311480" cy="1139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Click on the image to reveal the answer"/>
          <p:cNvPicPr/>
          <p:nvPr/>
        </p:nvPicPr>
        <p:blipFill>
          <a:blip r:embed="rId10"/>
          <a:stretch/>
        </p:blipFill>
        <p:spPr>
          <a:xfrm>
            <a:off x="6248520" y="41148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515" name="Rectangle 10" descr=""/>
          <p:cNvPicPr/>
          <p:nvPr/>
        </p:nvPicPr>
        <p:blipFill>
          <a:blip r:embed="rId11"/>
          <a:stretch/>
        </p:blipFill>
        <p:spPr>
          <a:xfrm>
            <a:off x="5973840" y="3902040"/>
            <a:ext cx="13111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762120" y="838080"/>
            <a:ext cx="1398600" cy="11653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http://www.whatsfordinner.net/mystery/Mystery10-01Ans.jpg"/>
          <p:cNvPicPr/>
          <p:nvPr/>
        </p:nvPicPr>
        <p:blipFill>
          <a:blip r:embed="rId3"/>
          <a:stretch/>
        </p:blipFill>
        <p:spPr>
          <a:xfrm>
            <a:off x="5334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Click on the image to reveal the answer"/>
          <p:cNvPicPr/>
          <p:nvPr/>
        </p:nvPicPr>
        <p:blipFill>
          <a:blip r:embed="rId4"/>
          <a:stretch/>
        </p:blipFill>
        <p:spPr>
          <a:xfrm>
            <a:off x="762120" y="1981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http://www.whatsfordinner.net/mystery/Mystery09-28Ans.jpg"/>
          <p:cNvPicPr/>
          <p:nvPr/>
        </p:nvPicPr>
        <p:blipFill>
          <a:blip r:embed="rId5"/>
          <a:stretch/>
        </p:blipFill>
        <p:spPr>
          <a:xfrm>
            <a:off x="5334120" y="1981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Click on the image to reveal the answer"/>
          <p:cNvPicPr/>
          <p:nvPr/>
        </p:nvPicPr>
        <p:blipFill>
          <a:blip r:embed="rId6"/>
          <a:stretch/>
        </p:blipFill>
        <p:spPr>
          <a:xfrm>
            <a:off x="762120" y="3124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http://www.whatsfordinner.net/mystery/Mystery09-29Ans.jpg"/>
          <p:cNvPicPr/>
          <p:nvPr/>
        </p:nvPicPr>
        <p:blipFill>
          <a:blip r:embed="rId7"/>
          <a:stretch/>
        </p:blipFill>
        <p:spPr>
          <a:xfrm>
            <a:off x="5334120" y="3200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2" descr="Click on the image to reveal the answer"/>
          <p:cNvPicPr/>
          <p:nvPr/>
        </p:nvPicPr>
        <p:blipFill>
          <a:blip r:embed="rId8"/>
          <a:stretch/>
        </p:blipFill>
        <p:spPr>
          <a:xfrm>
            <a:off x="762120" y="4267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4" descr="http://www.whatsfordinner.net/mystery/Mystery09-21Ans.jpg"/>
          <p:cNvPicPr/>
          <p:nvPr/>
        </p:nvPicPr>
        <p:blipFill>
          <a:blip r:embed="rId9"/>
          <a:stretch/>
        </p:blipFill>
        <p:spPr>
          <a:xfrm>
            <a:off x="5334120" y="4343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6" descr="Click on the image to reveal the answer"/>
          <p:cNvPicPr/>
          <p:nvPr/>
        </p:nvPicPr>
        <p:blipFill>
          <a:blip r:embed="rId10"/>
          <a:stretch/>
        </p:blipFill>
        <p:spPr>
          <a:xfrm>
            <a:off x="762120" y="5410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8" descr="http://www.whatsfordinner.net/mystery/Mystery09-01Ans.jpg"/>
          <p:cNvPicPr/>
          <p:nvPr/>
        </p:nvPicPr>
        <p:blipFill>
          <a:blip r:embed="rId11"/>
          <a:stretch/>
        </p:blipFill>
        <p:spPr>
          <a:xfrm>
            <a:off x="5334120" y="5410080"/>
            <a:ext cx="1428480" cy="11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12T16:43:50Z</dcterms:modified>
  <cp:revision>162</cp:revision>
  <dc:subject/>
  <dc:title>Slide 1</dc:title>
</cp:coreProperties>
</file>