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wmf" ContentType="image/x-wmf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EC4-0754-4118-ABAE-4BBCAAB3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788-7A1E-4D1B-BFE8-C72EA0DB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B8990-3185-4F27-B418-33F17090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E8C15-3D1E-4CD1-A0E6-EE9C1320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14CA-ABC8-4DD6-82D8-9DB6D99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7E76A-94FE-42B5-A3D7-F153C9F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60FF2-0F2E-47F5-985F-B8810C39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92027-E51A-452C-B7F7-BE7A96B9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AC3A2-EF96-48DA-B9D8-3B0EB1B8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7A499-5730-46E9-BEF5-A13FEADD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41CF-7961-4E14-8876-C1C8F314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175-F662-468A-BFDA-F389E292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F52-8234-432D-A588-4E9663FA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5DA-9D95-4C1B-B312-32827736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1BA-3B26-49C2-8E63-A61E5117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F48-1BE3-4665-8D86-217D96D2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0F90-3016-47D2-A17C-7FA78CD1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B49D-F07C-41AE-80CE-86787C30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ACC-0DB6-4D16-AD0E-E4D52794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C3F-CC7C-472D-B7E8-93F9B6BB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A0C-4709-4F4C-9DB5-5370D982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9A82-F1B3-47CE-B69B-85D7693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499-5405-4476-A691-0148E5B8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524-B5E2-4E36-BBCE-A1EC1A84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B7A-B62C-4281-AE50-889B1E00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AD2E-F9D8-4F47-802F-66800836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D7A3-7226-4570-B631-9AA9A8BD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0190-406E-4770-A858-E5EACB3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9B9C-1BCA-4D96-B1D9-F47C2E12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2CEC-E265-4D18-9E44-06F25B4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9E676-96B3-4AAB-9223-52881AB4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34A-B62D-40EE-A332-BB3B057C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C1D4-F065-4A0E-97F3-338C604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B496-A72D-46BD-A793-5DD93FC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8EF9-F507-47D9-9D66-158619C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31AE-DCCF-4475-8675-4518258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0250E-CAE3-489C-827C-A6C17C0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F2AD-7E63-4644-B355-0F51C6BF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15E9-618A-48A8-8626-57D2620D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950C-DF81-46F4-90F7-C0F6C453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9294-8C72-4478-BC89-2E984B3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65AAE-9CD7-4CF3-AA86-C918A068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068-46D3-42EB-ABEA-6163F3D6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26F51-10C1-4526-8860-326B7C1C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DE99-E414-469E-BBE6-1E8C8502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475B-59A0-400D-B7E6-4E50ED6C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138E-1603-47C3-8769-E8196E8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FF5F-D374-438F-950B-309FA2E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767BB-DE55-42EB-BB4A-2D98BC3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90B4-ED0D-4683-B0FB-96620046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8369-8065-4E5F-8872-67E02026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2B47F-5CA5-4020-8B95-8D0F9355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3C7C8-7E9E-42E9-8E32-5A094C6E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737-7464-440B-AD26-495A3293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7B54F-F2BD-4110-95D9-9F397A52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18E4-93D1-44E4-B82D-FFC8A8E4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81DE-EEAA-48C5-8589-95AC0907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02E0-327A-4835-9F96-51DD3CD7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5F038-2598-4C83-8104-940F3F9C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2680-1AF3-4168-AD8D-E90B6CD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5307-A860-40D0-B2A3-EFF8BD5F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B8ED-214C-44F8-B434-5896168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78866-46C3-49AE-9272-FE76240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C987-D81D-4082-A1EC-1B606D66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F4A-BA4C-4685-BEC4-54E78C92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96DC5-5D26-4035-93CC-557E39E2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A009-2DB9-41A2-8BDB-0446E1A8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3BD3F-23F0-471F-AF9C-8D11BF82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E7A9-01CB-43F3-B0FA-8CB63604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F8BF-72D8-4289-8D10-C225241B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75B29-5257-4300-97DA-D1D7A89F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5A6B-8DB0-4B57-8D3A-284EAC89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77DF7-071C-4FB9-8979-218A9E6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29B7A-B209-4862-ADE7-1BA533FA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8FEA-8A2B-4A0E-88B1-27B44DC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4AE-056A-4599-80C4-D268E64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9330-4303-4E37-B6F1-1C316130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010D8-6A82-4A2C-A615-2EDB79AF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75932-12F2-4B34-BBF6-2FC6D16E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6170-AB9A-4DD3-853E-0C5A5C3E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ACDB1-218B-41DE-A7FE-97D21DCF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D054-BC37-46C6-8018-40054DDD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0A8F-866F-4260-8F90-62BF381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3C35-15D3-4882-A6DF-F3966C4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4DAA-43D9-4D39-8944-3EBF772C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4ED2-0F9E-474B-978B-0F7D0BB4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A2F-D8F2-4D88-91E3-C8E2907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1CFDF-C299-435D-8DB7-67402F54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78D99-58AB-490D-8CCA-6AE3964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9932-F3FF-4D29-B93A-6606D4D6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4FA42-DBB8-4D04-B701-AAE65E92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9CEE9-4C22-450C-94B5-B9934F73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B35D-3D82-44C6-8C3C-4D6D2BF7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4C1C2-5680-4D4C-AD2E-C9EADE0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DBA5-E907-4C1E-83C4-E38D2139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FB93-376A-4662-8BB5-9E9BBF0F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66E53-CF47-467E-A7B9-CC5D499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7FE-135F-42EF-8635-4B79A8E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1E69-D518-490A-AE06-3967E183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32F4-077D-4CB7-B6DA-C25C39A8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F068D-15AF-4914-B0A3-B5D37CB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51F9-2C52-4339-9FF8-8E7EE7A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EBA8-C917-440D-843B-BEA3B956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252AD-0955-4BDE-BF54-580B267FB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F2A77-DC32-41F8-8B72-BBF1F75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8435-33A4-4FCD-AF27-0E1385A4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F8892-9128-4155-A979-D65F58F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A1510-03A9-41B2-B4E5-D8B22592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0985-75CE-4188-A686-82A6B328A16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2965-4FF8-48FC-B5B8-A8177D48769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4B3-536E-4DBA-B8D8-EBC78E9DE4A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2063-37B0-43FB-A1CC-DB958DB84DA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EF0-FBCE-490F-B829-9B4CCDD5782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2098-243A-44D6-A93F-CBF14624B15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EDF3-0670-4E9D-B0BD-32633396D47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596C-5C25-423A-B484-8DA75C8C0E2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481-05DF-4E4D-BA7A-FED32ACF1B8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8.jpeg"/><Relationship Id="rId5" Type="http://schemas.openxmlformats.org/officeDocument/2006/relationships/image" Target="../media/image19.jpeg"/><Relationship Id="rId6" Type="http://schemas.openxmlformats.org/officeDocument/2006/relationships/image" Target="../media/image9.jpeg"/><Relationship Id="rId7" Type="http://schemas.openxmlformats.org/officeDocument/2006/relationships/image" Target="../media/image20.jpeg"/><Relationship Id="rId8" Type="http://schemas.openxmlformats.org/officeDocument/2006/relationships/image" Target="../media/image15.jpeg"/><Relationship Id="rId9" Type="http://schemas.openxmlformats.org/officeDocument/2006/relationships/image" Target="../media/image21.jpeg"/><Relationship Id="rId10" Type="http://schemas.openxmlformats.org/officeDocument/2006/relationships/image" Target="../media/image13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228600" y="1066680"/>
            <a:ext cx="2617920" cy="21812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6431040" y="685800"/>
            <a:ext cx="2712960" cy="2427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Click on the image to reveal the answer"/>
          <p:cNvPicPr/>
          <p:nvPr/>
        </p:nvPicPr>
        <p:blipFill>
          <a:blip r:embed="rId4"/>
          <a:stretch/>
        </p:blipFill>
        <p:spPr>
          <a:xfrm>
            <a:off x="22860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8" descr=""/>
          <p:cNvPicPr/>
          <p:nvPr/>
        </p:nvPicPr>
        <p:blipFill>
          <a:blip r:embed="rId5"/>
          <a:stretch/>
        </p:blipFill>
        <p:spPr>
          <a:xfrm>
            <a:off x="5973840" y="46980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7" descr=""/>
          <p:cNvPicPr/>
          <p:nvPr/>
        </p:nvPicPr>
        <p:blipFill>
          <a:blip r:embed="rId6"/>
          <a:stretch/>
        </p:blipFill>
        <p:spPr>
          <a:xfrm>
            <a:off x="-201600" y="7747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9" descr=""/>
          <p:cNvPicPr/>
          <p:nvPr/>
        </p:nvPicPr>
        <p:blipFill>
          <a:blip r:embed="rId7"/>
          <a:stretch/>
        </p:blipFill>
        <p:spPr>
          <a:xfrm>
            <a:off x="-201600" y="412740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lick on the image to reveal the answer"/>
          <p:cNvPicPr/>
          <p:nvPr/>
        </p:nvPicPr>
        <p:blipFill>
          <a:blip r:embed="rId8"/>
          <a:stretch/>
        </p:blipFill>
        <p:spPr>
          <a:xfrm>
            <a:off x="3352680" y="2743200"/>
            <a:ext cx="2617920" cy="218124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11" descr=""/>
          <p:cNvPicPr/>
          <p:nvPr/>
        </p:nvPicPr>
        <p:blipFill>
          <a:blip r:embed="rId9"/>
          <a:stretch/>
        </p:blipFill>
        <p:spPr>
          <a:xfrm>
            <a:off x="2925720" y="25304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Click on the image to reveal the answer"/>
          <p:cNvPicPr/>
          <p:nvPr/>
        </p:nvPicPr>
        <p:blipFill>
          <a:blip r:embed="rId10"/>
          <a:stretch/>
        </p:blipFill>
        <p:spPr>
          <a:xfrm>
            <a:off x="6248520" y="41148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0" descr=""/>
          <p:cNvPicPr/>
          <p:nvPr/>
        </p:nvPicPr>
        <p:blipFill>
          <a:blip r:embed="rId11"/>
          <a:stretch/>
        </p:blipFill>
        <p:spPr>
          <a:xfrm>
            <a:off x="5973840" y="3902040"/>
            <a:ext cx="13111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838080"/>
            <a:ext cx="1398600" cy="1165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http://www.whatsfordinner.net/mystery/Mystery10-01Ans.jpg"/>
          <p:cNvPicPr/>
          <p:nvPr/>
        </p:nvPicPr>
        <p:blipFill>
          <a:blip r:embed="rId3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Click on the image to reveal the answer"/>
          <p:cNvPicPr/>
          <p:nvPr/>
        </p:nvPicPr>
        <p:blipFill>
          <a:blip r:embed="rId4"/>
          <a:stretch/>
        </p:blipFill>
        <p:spPr>
          <a:xfrm>
            <a:off x="762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http://www.whatsfordinner.net/mystery/Mystery09-28Ans.jpg"/>
          <p:cNvPicPr/>
          <p:nvPr/>
        </p:nvPicPr>
        <p:blipFill>
          <a:blip r:embed="rId5"/>
          <a:stretch/>
        </p:blipFill>
        <p:spPr>
          <a:xfrm>
            <a:off x="5334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3124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0" descr="http://www.whatsfordinner.net/mystery/Mystery09-29Ans.jpg"/>
          <p:cNvPicPr/>
          <p:nvPr/>
        </p:nvPicPr>
        <p:blipFill>
          <a:blip r:embed="rId7"/>
          <a:stretch/>
        </p:blipFill>
        <p:spPr>
          <a:xfrm>
            <a:off x="5334120" y="3200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2" descr="Click on the image to reveal the answer"/>
          <p:cNvPicPr/>
          <p:nvPr/>
        </p:nvPicPr>
        <p:blipFill>
          <a:blip r:embed="rId8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4" descr="http://www.whatsfordinner.net/mystery/Mystery09-21Ans.jpg"/>
          <p:cNvPicPr/>
          <p:nvPr/>
        </p:nvPicPr>
        <p:blipFill>
          <a:blip r:embed="rId9"/>
          <a:stretch/>
        </p:blipFill>
        <p:spPr>
          <a:xfrm>
            <a:off x="5334120" y="4343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6" descr="Click on the image to reveal the answer"/>
          <p:cNvPicPr/>
          <p:nvPr/>
        </p:nvPicPr>
        <p:blipFill>
          <a:blip r:embed="rId10"/>
          <a:stretch/>
        </p:blipFill>
        <p:spPr>
          <a:xfrm>
            <a:off x="762120" y="5410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8" descr="http://www.whatsfordinner.net/mystery/Mystery09-01Ans.jpg"/>
          <p:cNvPicPr/>
          <p:nvPr/>
        </p:nvPicPr>
        <p:blipFill>
          <a:blip r:embed="rId11"/>
          <a:stretch/>
        </p:blipFill>
        <p:spPr>
          <a:xfrm>
            <a:off x="5334120" y="5410080"/>
            <a:ext cx="14284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12T16:43:50Z</dcterms:modified>
  <cp:revision>162</cp:revision>
  <dc:subject/>
  <dc:title>Slide 1</dc:title>
</cp:coreProperties>
</file>