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wmf" ContentType="image/x-wmf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739-2062-42E7-9761-4B288D29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67D-9050-41AF-90D5-A07D280C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E406F-7DC0-4D0E-8157-A08B0DEB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E070-745E-4B91-96CD-528157B0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A38D4-13BD-45B4-BDFA-A205BE2B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D033B-8B36-42BC-83A7-3C3B746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C33BC-98CF-4BE5-9027-4C9507B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5454C-F2BB-4942-B737-715925E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786B-60AE-442D-A7BC-C20B59B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721FC-9A43-4AEC-8363-CE6C472A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BEBF4-3DDE-4617-939D-BDD3839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C1C-A26D-4559-BCDB-0AACF921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902-2AC7-4ACD-B3B1-3C44BFBD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A2F9-7586-418F-A2A2-DB75781A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2BB4-EE8A-4072-8A6C-04A188E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8CB0-3B43-4A64-855D-BA8641A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E10-1C89-403A-BF36-2A285578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7409-92C9-4DC0-8028-CF9A66A0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4E3F-5257-4016-9DFE-B55433C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1EB0-A136-40C9-A8C4-835795D1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A81-F2AC-4679-BFFA-1982121A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F1CE-52EA-44B4-92EC-80E83CC6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852A-223D-405C-A6A6-88FCC343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4A0-B143-44A9-A638-FBB9FB31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29A1-4387-4E88-A5F9-C03CEC3C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2A3-B515-4DA5-8E6B-A1C3E4EE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5434-DC5F-410D-AD1F-3B054337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9501-A1B3-44E2-9A60-5DAAD749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D6BD-A1F9-4383-BCED-DFEE577C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5769-9C3E-49B6-BA13-885C94F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12F5-82C6-4014-AD2B-BEEAFC0D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F6F-C850-4C7E-9B63-64646CEF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0056-B3F1-46A2-BDA2-61BD699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EC4F-3A8D-4C70-B91A-34321F9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53E48-8EB0-4109-B499-58CF95B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D6F4-7C42-4C20-8824-BC30F65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4D13F-54B7-46C6-A644-2A69A413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C0E3-0B05-4304-9C18-136C8E0B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22D1-D2CA-4690-98B2-52EE9B7F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C988-97C3-4706-AE94-920EDB51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72BA-0D6D-4077-90E7-9640DFD8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EC2E8-7922-40D7-AAF7-6884BDB7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8C0-485D-42B4-A1C8-A813B5CE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CC9D3-4C20-4167-B12D-6565138A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E339-DF33-4480-95A8-D2C96685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E58B-9AAA-44BD-A08B-329AF1A4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2103C-8237-4EB8-ABB8-F53361D8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FA8F8-65E4-46FD-9E83-1EF3D01F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5F959-4A3A-470A-909A-E09A408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6C95-64E6-406F-B3ED-ADDADBCF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F618-C1FA-4AD2-ACC6-19177EEC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655A-0885-4CDA-BCD6-7E3DBF05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70474-FD02-44DE-88B5-16C4B174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49F-C753-47BB-8A14-43DB1263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0DD7-655C-495A-885C-2CB461A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FEF9B-17F8-4A8F-8E2B-3063BB97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C36F-E798-4405-BA0D-067BCD04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C83E4-5F9F-4101-AE5B-1EDAFE3E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B4E99-FBBB-4D4F-91C1-B18582C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81436-9F52-4509-845F-971A443D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A127-F3E7-48B8-BE08-615AEC2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918A-055A-4959-A698-920AF98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DB44-3DF9-482F-8400-5EEEADD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5F4E9-F9D5-4AD7-BD9C-7800CB84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42E-133D-4D36-B1FD-7D2CC0A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27FA-7FEA-41D3-95ED-33DD1D13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07165-EAFA-4D29-A46C-E69E15DA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D545-FA9C-43E9-977C-12011333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07DB-3F8C-44F0-8764-4B4287D5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9E7B-0399-487D-8E9D-E7B8C3F2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0EDB7-CFFA-4588-A19C-5F2115B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19D93-3823-469C-92BB-18F8DAB4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EA21F-7A99-4D8E-B6EA-767ACEF5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4F09-AA7F-4827-A523-6BA945B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EEC5-586E-4596-9B2C-0CC3E1FD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41B-EC1A-4BAD-88E3-FBDFFCC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CB3B-7C74-4B63-90B6-D502014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11AB8-76BC-45B1-96F3-C57DD051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47BC-1013-40E7-AC07-47A285FE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FB7F-8264-451E-B412-F33C965A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44422-EA11-407C-942F-D5847ED7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F195D-30CE-4891-B122-9808161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AB96-EE52-4FDB-B56A-D0414EC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553D-8AF5-444A-8F21-1F8E6D9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4A535-4578-4FCB-889F-6A80A9C6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0087A-7D7D-4DFC-94B5-51C71603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509-8956-4DC1-A048-1E80018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B0ADB-4E7C-493C-B527-B685A9D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8BB2-918F-40A9-BAD0-E29B4609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160E-C4C2-44DD-AED4-E01E6805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D83A-01CD-4AAF-A4CA-4A3F4152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5766-9569-4ED1-AF65-29F6160E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A2C2F-523A-418E-8469-E56357AF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7055E-7AE7-432D-A9F2-F3287BF4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B1CB8-CE30-4E79-A846-6082C7E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A61F0-866E-4E93-BE51-6DC7BA4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89B5-C3C2-46D9-9CBA-39643902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CA8-A913-416B-903A-5F7BAE6D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3873D-7697-4723-B0D3-B5FF68D9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5DE7-6BC5-4A63-AFDF-D054C7AE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CC0EB-DAE0-49DB-B70C-84ADA27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70B3C-876D-425C-A7EE-4337E78C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3CFC0-D59E-4CA2-9EA9-6863B5D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91F7A-D5CA-4C62-AC83-EA413C22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6643-8AD0-4D3F-8525-64552E16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798C5-79C3-4CE3-BC5C-5B71B20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9FF06-CB99-4678-93E2-799BB504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F65B4-2753-4141-9653-3D40E7F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22F6-D113-402A-A12C-EFB50978620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03EB-21CE-4DDB-BFEF-77619E70F07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5EE9-A99D-4AA0-9E8C-A090BAFD977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203C-A808-4BD6-96B6-10AC5AF4DDB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8B2-85D0-4964-97AA-C082C27074D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F318-0BFD-42DC-B61C-9905D28F922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4ECF-2DE6-4C56-A818-2E89F20AF95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04C-BFA6-41AE-83E1-1F77E65EDD1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EF2-0F2F-49E1-B894-90FAEC7171B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image" Target="../media/image11.jpeg"/><Relationship Id="rId7" Type="http://schemas.openxmlformats.org/officeDocument/2006/relationships/image" Target="../media/image20.jpeg"/><Relationship Id="rId8" Type="http://schemas.openxmlformats.org/officeDocument/2006/relationships/image" Target="../media/image13.jpeg"/><Relationship Id="rId9" Type="http://schemas.openxmlformats.org/officeDocument/2006/relationships/image" Target="../media/image21.jpeg"/><Relationship Id="rId10" Type="http://schemas.openxmlformats.org/officeDocument/2006/relationships/image" Target="../media/image15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304920" y="1066680"/>
            <a:ext cx="2555640" cy="2130480"/>
          </a:xfrm>
          <a:prstGeom prst="rect">
            <a:avLst/>
          </a:prstGeom>
          <a:ln w="0">
            <a:noFill/>
          </a:ln>
        </p:spPr>
      </p:pic>
      <p:pic>
        <p:nvPicPr>
          <p:cNvPr id="507" name="Rectangle 7" descr=""/>
          <p:cNvPicPr/>
          <p:nvPr/>
        </p:nvPicPr>
        <p:blipFill>
          <a:blip r:embed="rId3"/>
          <a:stretch/>
        </p:blipFill>
        <p:spPr>
          <a:xfrm>
            <a:off x="-122400" y="853920"/>
            <a:ext cx="1311480" cy="11401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Click on the image to reveal the answer"/>
          <p:cNvPicPr/>
          <p:nvPr/>
        </p:nvPicPr>
        <p:blipFill>
          <a:blip r:embed="rId4"/>
          <a:stretch/>
        </p:blipFill>
        <p:spPr>
          <a:xfrm>
            <a:off x="6324480" y="914400"/>
            <a:ext cx="2575080" cy="2146320"/>
          </a:xfrm>
          <a:prstGeom prst="rect">
            <a:avLst/>
          </a:prstGeom>
          <a:ln w="0">
            <a:noFill/>
          </a:ln>
        </p:spPr>
      </p:pic>
      <p:pic>
        <p:nvPicPr>
          <p:cNvPr id="509" name="Rectangle 8" descr=""/>
          <p:cNvPicPr/>
          <p:nvPr/>
        </p:nvPicPr>
        <p:blipFill>
          <a:blip r:embed="rId5"/>
          <a:stretch/>
        </p:blipFill>
        <p:spPr>
          <a:xfrm>
            <a:off x="5894280" y="7016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Click on the image to reveal the answer"/>
          <p:cNvPicPr/>
          <p:nvPr/>
        </p:nvPicPr>
        <p:blipFill>
          <a:blip r:embed="rId6"/>
          <a:stretch/>
        </p:blipFill>
        <p:spPr>
          <a:xfrm>
            <a:off x="228600" y="4191120"/>
            <a:ext cx="2800440" cy="2333520"/>
          </a:xfrm>
          <a:prstGeom prst="rect">
            <a:avLst/>
          </a:prstGeom>
          <a:ln w="0">
            <a:noFill/>
          </a:ln>
        </p:spPr>
      </p:pic>
      <p:pic>
        <p:nvPicPr>
          <p:cNvPr id="511" name="Rectangle 9" descr=""/>
          <p:cNvPicPr/>
          <p:nvPr/>
        </p:nvPicPr>
        <p:blipFill>
          <a:blip r:embed="rId7"/>
          <a:stretch/>
        </p:blipFill>
        <p:spPr>
          <a:xfrm>
            <a:off x="-201600" y="3975120"/>
            <a:ext cx="1311120" cy="1146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Click on the image to reveal the answer"/>
          <p:cNvPicPr/>
          <p:nvPr/>
        </p:nvPicPr>
        <p:blipFill>
          <a:blip r:embed="rId8"/>
          <a:stretch/>
        </p:blipFill>
        <p:spPr>
          <a:xfrm>
            <a:off x="6248520" y="4114800"/>
            <a:ext cx="2895480" cy="241308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10" descr=""/>
          <p:cNvPicPr/>
          <p:nvPr/>
        </p:nvPicPr>
        <p:blipFill>
          <a:blip r:embed="rId9"/>
          <a:stretch/>
        </p:blipFill>
        <p:spPr>
          <a:xfrm>
            <a:off x="5894280" y="3902040"/>
            <a:ext cx="1311480" cy="11397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0" descr="Click on the image to reveal the answer"/>
          <p:cNvPicPr/>
          <p:nvPr/>
        </p:nvPicPr>
        <p:blipFill>
          <a:blip r:embed="rId10"/>
          <a:stretch/>
        </p:blipFill>
        <p:spPr>
          <a:xfrm>
            <a:off x="3048120" y="2438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515" name="Rectangle 11" descr=""/>
          <p:cNvPicPr/>
          <p:nvPr/>
        </p:nvPicPr>
        <p:blipFill>
          <a:blip r:embed="rId11"/>
          <a:stretch/>
        </p:blipFill>
        <p:spPr>
          <a:xfrm>
            <a:off x="2620800" y="2225520"/>
            <a:ext cx="13114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http://www.whatsfordinner.net/mystery/Mystery09-26Ans.jpg"/>
          <p:cNvPicPr/>
          <p:nvPr/>
        </p:nvPicPr>
        <p:blipFill>
          <a:blip r:embed="rId3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lick on the image to reveal the answer"/>
          <p:cNvPicPr/>
          <p:nvPr/>
        </p:nvPicPr>
        <p:blipFill>
          <a:blip r:embed="rId4"/>
          <a:stretch/>
        </p:blipFill>
        <p:spPr>
          <a:xfrm>
            <a:off x="762120" y="1981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http://www.whatsfordinner.net/mystery/Mystery09-24Ans.jpg"/>
          <p:cNvPicPr/>
          <p:nvPr/>
        </p:nvPicPr>
        <p:blipFill>
          <a:blip r:embed="rId5"/>
          <a:stretch/>
        </p:blipFill>
        <p:spPr>
          <a:xfrm>
            <a:off x="5334120" y="1978200"/>
            <a:ext cx="1523880" cy="1269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3124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http://www.whatsfordinner.net/mystery/Mystery09-23Ans.jpg"/>
          <p:cNvPicPr/>
          <p:nvPr/>
        </p:nvPicPr>
        <p:blipFill>
          <a:blip r:embed="rId7"/>
          <a:stretch/>
        </p:blipFill>
        <p:spPr>
          <a:xfrm>
            <a:off x="5334120" y="32767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4" descr="Click on the image to reveal the answer"/>
          <p:cNvPicPr/>
          <p:nvPr/>
        </p:nvPicPr>
        <p:blipFill>
          <a:blip r:embed="rId8"/>
          <a:stretch/>
        </p:blipFill>
        <p:spPr>
          <a:xfrm>
            <a:off x="762120" y="4267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6" descr="http://www.whatsfordinner.net/mystery/Mystery09-18Ans.jpg"/>
          <p:cNvPicPr/>
          <p:nvPr/>
        </p:nvPicPr>
        <p:blipFill>
          <a:blip r:embed="rId9"/>
          <a:stretch/>
        </p:blipFill>
        <p:spPr>
          <a:xfrm>
            <a:off x="5334120" y="44197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8" descr="Click on the image to reveal the answer"/>
          <p:cNvPicPr/>
          <p:nvPr/>
        </p:nvPicPr>
        <p:blipFill>
          <a:blip r:embed="rId10"/>
          <a:stretch/>
        </p:blipFill>
        <p:spPr>
          <a:xfrm>
            <a:off x="762120" y="5410080"/>
            <a:ext cx="1428480" cy="11908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0" descr="http://www.whatsfordinner.net/mystery/Mystery09-19Ans.jpg"/>
          <p:cNvPicPr/>
          <p:nvPr/>
        </p:nvPicPr>
        <p:blipFill>
          <a:blip r:embed="rId11"/>
          <a:stretch/>
        </p:blipFill>
        <p:spPr>
          <a:xfrm>
            <a:off x="5334120" y="5562720"/>
            <a:ext cx="150480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3:18Z</dcterms:modified>
  <cp:revision>160</cp:revision>
  <dc:subject/>
  <dc:title>Slide 1</dc:title>
</cp:coreProperties>
</file>