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5.wmf" ContentType="image/x-wmf"/>
  <Override PartName="/ppt/media/image1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50C6-FFEA-4054-9D03-633BD253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1949-C6D4-41CC-B854-67F05535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75A3C-F816-4975-86CC-4ACE292E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A07B5-A9F6-4E53-B220-CC6619CA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29E7B-0236-4636-9C77-AAB5F39F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21C19-1ED3-4D47-9D68-886BEF85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9BA52-99BF-49F7-BC0D-43056726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7E11C-04C9-444E-8063-D2D4D8EC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BD76B-612E-4AAC-B92A-5B6B51F9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901AB-5904-4EFA-A874-4FB89549C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FD0F2-2498-45CB-8D3B-969C48DA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1B43-6C2D-4A32-9C8D-6CCF796A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239A-B268-4DFA-95E6-99B6A7E2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C00C-321A-4108-81BA-DC840D37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48E3-8276-4223-BDF8-A4E83AFB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178B-EA7D-4E53-853C-F41A80D1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C1A2-5A9E-4A3C-A008-9135FD93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E620-A746-4141-BEEC-A7093637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A9C1-24FF-4B5F-9BA7-6D4208C5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93B0-5081-434D-837C-3FAE7CA1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A989-9383-446A-95A2-DA101F3B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3FF9-852E-40EA-9C2F-8F54BF73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5685-04DD-4D8F-9964-14164CDE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5BC8-C42F-4309-88BE-9BF2D6EC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7DD4-4865-40F4-A8AF-8E0C86B1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8488-02B9-47CF-84DC-D4F26160A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6E907-D545-4CE4-BED7-9C99B5C9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E0499-39D1-43E2-B5D8-D20656A3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3ED36-EE17-4106-8F9E-00CE85E2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5A7AB-73E7-451F-96E3-CE46364A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F2AE2-0240-4F9A-8FCB-D446F129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1ABD-1381-45F3-A9AA-6D7EF47B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8B560-3E46-484F-ADF1-10CE41D6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BB49D-0027-406E-A22A-CBBD75DA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C5B2F-B34B-4BCA-97E4-3D915CE5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383C1-B55F-4D4C-A788-77717A7D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3844A-A12A-44C4-AD43-DBF4AF45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9BA0A-59C5-4489-86F1-AE367798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2F8E3-97B5-4665-8DFE-C30689FC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BC89A-636D-4CF8-B898-6908B768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2F5F6-DDB5-434B-B5D6-AC11D7FC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DAFFF-DD34-498E-A033-812EFE35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36FA-B9CE-46E0-8EA3-E06B46C4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73DBF-4482-4A43-8D7D-39A81D00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A46D3-42BE-4FF3-8D1E-C26252B0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91095-A564-48DB-A3DD-EAF4D2D9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2857E-1C9D-44EB-80A9-731DA0BF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EFFF1-6CB4-4671-ACD8-40D996B0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B4D15-704F-4F5F-A1FC-D7BAC2B0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19BF0-6C0D-44CC-A6C1-06500F91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73EBE-3528-411F-B962-6619E94B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1E502-B777-4253-9E3F-B7DF3849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DC152-6D60-42B6-9415-8CAF83EB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ABEE-EE25-48A2-AFF5-5357C1CF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673C0-1B4B-4A3A-A5CE-18C260DF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C3C87-A919-4B0F-BF9E-C138F5BC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FD955-B050-4208-88B6-7323A9C5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5B55E-A0F1-4EB6-A656-F5F02E9E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8836C-037A-4E39-A9D2-AFEE277B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E17CF-1196-4CEF-9499-C6AD8C73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3E268-F729-4B9A-8447-8BB33FB4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97DA9-6753-48F5-8266-7EB70311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A92D6-E900-4E26-BCE1-E9C6536E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FBCB8-47B7-4987-9246-2A9F7448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E741-0BF2-4F41-80AA-4D1EAD15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490D6-7EB3-4356-9384-9CE6C98C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0863F-88E7-49AE-8CA7-7D5BB617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2B0D1-D377-474D-A8B6-460D9A5E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8B4DC-F03B-4FCD-A846-6AD2FC80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050CE-6311-40C3-A25C-C1B87388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58059-7EFE-467C-B6FF-3ED8A089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9E420-AEA9-4BCC-9D98-F46B0C82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4B7C7-A147-4725-87ED-6F010BB2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EC5D5-BA21-4F52-972E-F5DCE976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EA86C-25A6-44D2-8135-7A1CB8A0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8F64-5485-420E-894D-F54E1E62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3041C-F107-4393-A5E1-CA0BB547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85FD5-D2A5-4B20-95E1-BFB2A54B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B519B-B062-4EB4-8ABB-CF6537DC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F70AC-4E6F-4F83-9D78-340A42FD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762D4-FB1B-41D3-B988-B8FE56FD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E9590-DD23-4E89-BAA6-B673F024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D0D7C-5A4F-4C2C-9B96-9C4EC264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8D6A2-ABE3-4249-8298-B1981305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A6502-5F2E-4978-9D78-011B95C8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E560B-8810-4E46-9F88-9459D245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6C1F-7264-46CB-90AE-597BD416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8459A-A1B1-47D5-8047-1EDA2D3A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F4F1C-C282-4D21-A5DC-45687AA1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A30A0-DAEE-43FB-BF52-CAA6E638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49B6B-C3A2-40E0-B3C7-F68F98C7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CF381-A5D6-4867-9ED9-E745094F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C93A3-C4CF-4D9C-82CC-9126E42B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9DDBB-A2F5-441A-9C14-CB109688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6F936-79AF-49FD-A5CC-AE37414B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7D03D-3271-4547-A00B-74EC285F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9CB05-E95F-4EDF-B1C0-36BB1A49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CD70-C86C-4092-A432-0B9C3CE5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E4C90-6302-4285-939D-84FA70BC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0D62D-3EA1-4135-B572-0CD071DA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019C8-E125-4056-AD1A-F1551CD5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9D757-9C1A-45AA-9CD9-D6827479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236F9-F8B9-4F4C-8BF3-92F43A4B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63253-7C4E-438F-81F5-4267B197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79DC7-F755-44D6-B47C-C4192590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CCC6B-7F8B-478D-9E62-947C8A6B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E0399-DC6B-4E2F-A4A2-4D179DD4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C94C5-BBC6-4F7D-A270-F9F4541C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0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6AC3-E0F1-47E4-8079-A27C6D8788F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5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5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5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6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64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C582-95AC-40E3-8BE4-2BCA58FFEFA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10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11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12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15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18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Group 23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122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4FFB-4F9D-441D-AE25-D3D377B5D13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67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68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69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72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75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5AF9-D3BB-4AF3-B049-73E0918A4E7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21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22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23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26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29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33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F30E-0F90-4901-804C-091ABF500FD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78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79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80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83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86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90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C808-118B-4E3A-9945-2A9E386283E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35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36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37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8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40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343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347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9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0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1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42B0-F4F7-4144-9700-10BD7A2CCDE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9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9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9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9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00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F309-B276-4DAD-A8CB-D05E9CAE59B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44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44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4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45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54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458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19F5-3883-4804-86F7-9AF86362D65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image" Target="../media/image15.jpe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image" Target="../media/image19.jpeg"/><Relationship Id="rId6" Type="http://schemas.openxmlformats.org/officeDocument/2006/relationships/image" Target="../media/image11.jpeg"/><Relationship Id="rId7" Type="http://schemas.openxmlformats.org/officeDocument/2006/relationships/image" Target="../media/image20.jpeg"/><Relationship Id="rId8" Type="http://schemas.openxmlformats.org/officeDocument/2006/relationships/image" Target="../media/image13.jpeg"/><Relationship Id="rId9" Type="http://schemas.openxmlformats.org/officeDocument/2006/relationships/image" Target="../media/image21.jpeg"/><Relationship Id="rId10" Type="http://schemas.openxmlformats.org/officeDocument/2006/relationships/image" Target="../media/image15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Challenge 4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2" name="WordArt 4"/>
          <p:cNvSpPr txBox="1"/>
          <p:nvPr/>
        </p:nvSpPr>
        <p:spPr>
          <a:xfrm>
            <a:off x="228600" y="762120"/>
            <a:ext cx="8686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aa49aa"/>
                </a:solidFill>
                <a:latin typeface="Cooper Black"/>
              </a:rPr>
              <a:t>Mystery Photo Friday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aa49aa"/>
              </a:solidFill>
              <a:latin typeface="Cooper Black"/>
              <a:ea typeface="Cooper Black"/>
            </a:endParaRPr>
          </a:p>
        </p:txBody>
      </p:sp>
      <p:pic>
        <p:nvPicPr>
          <p:cNvPr id="503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C:\Documents and Settings\kstrong\Local Settings\Temporary Internet Files\Content.IE5\WU1BHSLA\MCHH01619_0000[1].wmf"/>
          <p:cNvPicPr/>
          <p:nvPr/>
        </p:nvPicPr>
        <p:blipFill>
          <a:blip r:embed="rId2"/>
          <a:stretch/>
        </p:blipFill>
        <p:spPr>
          <a:xfrm>
            <a:off x="3124080" y="2666880"/>
            <a:ext cx="247824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Title 1" descr=""/>
          <p:cNvPicPr/>
          <p:nvPr/>
        </p:nvPicPr>
        <p:blipFill>
          <a:blip r:embed="rId1"/>
          <a:stretch/>
        </p:blipFill>
        <p:spPr>
          <a:xfrm>
            <a:off x="347760" y="195120"/>
            <a:ext cx="8345520" cy="8226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2" descr="Click on the image to reveal the answer"/>
          <p:cNvPicPr/>
          <p:nvPr/>
        </p:nvPicPr>
        <p:blipFill>
          <a:blip r:embed="rId2"/>
          <a:stretch/>
        </p:blipFill>
        <p:spPr>
          <a:xfrm>
            <a:off x="304920" y="1066680"/>
            <a:ext cx="2555640" cy="2130480"/>
          </a:xfrm>
          <a:prstGeom prst="rect">
            <a:avLst/>
          </a:prstGeom>
          <a:ln w="0">
            <a:noFill/>
          </a:ln>
        </p:spPr>
      </p:pic>
      <p:pic>
        <p:nvPicPr>
          <p:cNvPr id="507" name="Rectangle 7" descr=""/>
          <p:cNvPicPr/>
          <p:nvPr/>
        </p:nvPicPr>
        <p:blipFill>
          <a:blip r:embed="rId3"/>
          <a:stretch/>
        </p:blipFill>
        <p:spPr>
          <a:xfrm>
            <a:off x="-122400" y="853920"/>
            <a:ext cx="1311480" cy="11401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" descr="Click on the image to reveal the answer"/>
          <p:cNvPicPr/>
          <p:nvPr/>
        </p:nvPicPr>
        <p:blipFill>
          <a:blip r:embed="rId4"/>
          <a:stretch/>
        </p:blipFill>
        <p:spPr>
          <a:xfrm>
            <a:off x="6324480" y="914400"/>
            <a:ext cx="2575080" cy="2146320"/>
          </a:xfrm>
          <a:prstGeom prst="rect">
            <a:avLst/>
          </a:prstGeom>
          <a:ln w="0">
            <a:noFill/>
          </a:ln>
        </p:spPr>
      </p:pic>
      <p:pic>
        <p:nvPicPr>
          <p:cNvPr id="509" name="Rectangle 8" descr=""/>
          <p:cNvPicPr/>
          <p:nvPr/>
        </p:nvPicPr>
        <p:blipFill>
          <a:blip r:embed="rId5"/>
          <a:stretch/>
        </p:blipFill>
        <p:spPr>
          <a:xfrm>
            <a:off x="5894280" y="701640"/>
            <a:ext cx="1311480" cy="11397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Click on the image to reveal the answer"/>
          <p:cNvPicPr/>
          <p:nvPr/>
        </p:nvPicPr>
        <p:blipFill>
          <a:blip r:embed="rId6"/>
          <a:stretch/>
        </p:blipFill>
        <p:spPr>
          <a:xfrm>
            <a:off x="228600" y="4191120"/>
            <a:ext cx="2800440" cy="2333520"/>
          </a:xfrm>
          <a:prstGeom prst="rect">
            <a:avLst/>
          </a:prstGeom>
          <a:ln w="0">
            <a:noFill/>
          </a:ln>
        </p:spPr>
      </p:pic>
      <p:pic>
        <p:nvPicPr>
          <p:cNvPr id="511" name="Rectangle 9" descr=""/>
          <p:cNvPicPr/>
          <p:nvPr/>
        </p:nvPicPr>
        <p:blipFill>
          <a:blip r:embed="rId7"/>
          <a:stretch/>
        </p:blipFill>
        <p:spPr>
          <a:xfrm>
            <a:off x="-201600" y="3975120"/>
            <a:ext cx="1311120" cy="11462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8" descr="Click on the image to reveal the answer"/>
          <p:cNvPicPr/>
          <p:nvPr/>
        </p:nvPicPr>
        <p:blipFill>
          <a:blip r:embed="rId8"/>
          <a:stretch/>
        </p:blipFill>
        <p:spPr>
          <a:xfrm>
            <a:off x="6248520" y="4114800"/>
            <a:ext cx="2895480" cy="2413080"/>
          </a:xfrm>
          <a:prstGeom prst="rect">
            <a:avLst/>
          </a:prstGeom>
          <a:ln w="0">
            <a:noFill/>
          </a:ln>
        </p:spPr>
      </p:pic>
      <p:pic>
        <p:nvPicPr>
          <p:cNvPr id="513" name="Rectangle 10" descr=""/>
          <p:cNvPicPr/>
          <p:nvPr/>
        </p:nvPicPr>
        <p:blipFill>
          <a:blip r:embed="rId9"/>
          <a:stretch/>
        </p:blipFill>
        <p:spPr>
          <a:xfrm>
            <a:off x="5894280" y="3902040"/>
            <a:ext cx="1311480" cy="113976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0" descr="Click on the image to reveal the answer"/>
          <p:cNvPicPr/>
          <p:nvPr/>
        </p:nvPicPr>
        <p:blipFill>
          <a:blip r:embed="rId10"/>
          <a:stretch/>
        </p:blipFill>
        <p:spPr>
          <a:xfrm>
            <a:off x="3048120" y="2438280"/>
            <a:ext cx="3200400" cy="2514600"/>
          </a:xfrm>
          <a:prstGeom prst="rect">
            <a:avLst/>
          </a:prstGeom>
          <a:ln w="0">
            <a:noFill/>
          </a:ln>
        </p:spPr>
      </p:pic>
      <p:pic>
        <p:nvPicPr>
          <p:cNvPr id="515" name="Rectangle 11" descr=""/>
          <p:cNvPicPr/>
          <p:nvPr/>
        </p:nvPicPr>
        <p:blipFill>
          <a:blip r:embed="rId11"/>
          <a:stretch/>
        </p:blipFill>
        <p:spPr>
          <a:xfrm>
            <a:off x="2620800" y="2225520"/>
            <a:ext cx="1311480" cy="11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Title 1" descr=""/>
          <p:cNvPicPr/>
          <p:nvPr/>
        </p:nvPicPr>
        <p:blipFill>
          <a:blip r:embed="rId1"/>
          <a:stretch/>
        </p:blipFill>
        <p:spPr>
          <a:xfrm>
            <a:off x="334800" y="268200"/>
            <a:ext cx="8358480" cy="7318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" descr="Click on the image to reveal the answer"/>
          <p:cNvPicPr/>
          <p:nvPr/>
        </p:nvPicPr>
        <p:blipFill>
          <a:blip r:embed="rId2"/>
          <a:stretch/>
        </p:blipFill>
        <p:spPr>
          <a:xfrm>
            <a:off x="762120" y="762120"/>
            <a:ext cx="1428480" cy="11905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4" descr="http://www.whatsfordinner.net/mystery/Mystery09-26Ans.jpg"/>
          <p:cNvPicPr/>
          <p:nvPr/>
        </p:nvPicPr>
        <p:blipFill>
          <a:blip r:embed="rId3"/>
          <a:stretch/>
        </p:blipFill>
        <p:spPr>
          <a:xfrm>
            <a:off x="5334120" y="762120"/>
            <a:ext cx="1428480" cy="11905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6" descr="Click on the image to reveal the answer"/>
          <p:cNvPicPr/>
          <p:nvPr/>
        </p:nvPicPr>
        <p:blipFill>
          <a:blip r:embed="rId4"/>
          <a:stretch/>
        </p:blipFill>
        <p:spPr>
          <a:xfrm>
            <a:off x="762120" y="1981080"/>
            <a:ext cx="1428480" cy="11908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8" descr="http://www.whatsfordinner.net/mystery/Mystery09-24Ans.jpg"/>
          <p:cNvPicPr/>
          <p:nvPr/>
        </p:nvPicPr>
        <p:blipFill>
          <a:blip r:embed="rId5"/>
          <a:stretch/>
        </p:blipFill>
        <p:spPr>
          <a:xfrm>
            <a:off x="5334120" y="1978200"/>
            <a:ext cx="1523880" cy="12697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0" descr="Click on the image to reveal the answer"/>
          <p:cNvPicPr/>
          <p:nvPr/>
        </p:nvPicPr>
        <p:blipFill>
          <a:blip r:embed="rId6"/>
          <a:stretch/>
        </p:blipFill>
        <p:spPr>
          <a:xfrm>
            <a:off x="762120" y="3124080"/>
            <a:ext cx="1428480" cy="1190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2" descr="http://www.whatsfordinner.net/mystery/Mystery09-23Ans.jpg"/>
          <p:cNvPicPr/>
          <p:nvPr/>
        </p:nvPicPr>
        <p:blipFill>
          <a:blip r:embed="rId7"/>
          <a:stretch/>
        </p:blipFill>
        <p:spPr>
          <a:xfrm>
            <a:off x="5334120" y="3276720"/>
            <a:ext cx="1523880" cy="11905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4" descr="Click on the image to reveal the answer"/>
          <p:cNvPicPr/>
          <p:nvPr/>
        </p:nvPicPr>
        <p:blipFill>
          <a:blip r:embed="rId8"/>
          <a:stretch/>
        </p:blipFill>
        <p:spPr>
          <a:xfrm>
            <a:off x="762120" y="4267080"/>
            <a:ext cx="1428480" cy="11908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6" descr="http://www.whatsfordinner.net/mystery/Mystery09-18Ans.jpg"/>
          <p:cNvPicPr/>
          <p:nvPr/>
        </p:nvPicPr>
        <p:blipFill>
          <a:blip r:embed="rId9"/>
          <a:stretch/>
        </p:blipFill>
        <p:spPr>
          <a:xfrm>
            <a:off x="5334120" y="4419720"/>
            <a:ext cx="1523880" cy="11905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8" descr="Click on the image to reveal the answer"/>
          <p:cNvPicPr/>
          <p:nvPr/>
        </p:nvPicPr>
        <p:blipFill>
          <a:blip r:embed="rId10"/>
          <a:stretch/>
        </p:blipFill>
        <p:spPr>
          <a:xfrm>
            <a:off x="762120" y="5410080"/>
            <a:ext cx="1428480" cy="11908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0" descr="http://www.whatsfordinner.net/mystery/Mystery09-19Ans.jpg"/>
          <p:cNvPicPr/>
          <p:nvPr/>
        </p:nvPicPr>
        <p:blipFill>
          <a:blip r:embed="rId11"/>
          <a:stretch/>
        </p:blipFill>
        <p:spPr>
          <a:xfrm>
            <a:off x="5334120" y="5562720"/>
            <a:ext cx="150480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Liz LaRosa</dc:creator>
  <dc:description/>
  <dc:language>en-US</dc:language>
  <cp:lastModifiedBy>Tracy</cp:lastModifiedBy>
  <dcterms:modified xsi:type="dcterms:W3CDTF">2009-10-02T23:53:18Z</dcterms:modified>
  <cp:revision>160</cp:revision>
  <dc:subject/>
  <dc:title>Slide 1</dc:title>
</cp:coreProperties>
</file>