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5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FF26-C4FD-4ECE-A156-D0B9EF5D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1D78-3329-4A32-8ACC-B377D490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1CF16-DA85-4E2E-A040-5C86D458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ABEE3-5C1C-4292-BC58-A06C9B20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6AB4E-72A0-499C-AEE9-288CFC89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C99C6-4DF6-4D2C-B80F-90FD958D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3CE16-D23D-4034-A576-C681A707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AD76F-DF24-48BD-9B25-A27AE72D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1C01E-0CE2-4362-9684-0495306A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52A12-FA14-4974-B83C-8167F1FA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3FA46-83F6-4B3C-ACD7-2BF838A6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32F-4609-484C-9214-9EFB911A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C2F0-DA12-4BD5-AFA4-01E12ED0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1831-172C-4FA3-8983-F13A0C8E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3F2B-BFC0-4789-9345-FE45EB1C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B428-C5C1-492F-914D-8D6344A4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CB9C-0BA1-4DEB-BF94-945263EC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9403-E333-4788-A0E3-96C3C5C2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80C9-784B-4FF3-B94F-A7AC069A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E59F-2FD4-404C-9E19-81611A3F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5D7-3A45-4440-9633-3E322B84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4A57-AF6E-4D1E-B0CF-BA6D54E8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59AD-25D4-4499-9139-9239093F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D4C1-6615-4F52-AF11-877FAE83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25F6-FA38-48CC-BB57-359A702A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DE56-852D-4E0B-8C57-C802F368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7A8AA-316B-4CCE-BD7F-127CA027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812E5-F278-40CB-8A79-B42489F8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49768-EFF2-4CB7-9011-93FD950B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B4C8D-1A9A-437F-B307-6CD54905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D557B-B4F1-4514-AE4B-A4F7390B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484-27AB-4158-91BF-53295823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588BF-BDFC-4415-A6DB-038FBBB5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AA46E-0AE9-47F6-9715-53B99C2A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3DA82-6495-44AC-9D8C-DDAF63C2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038D6-3ACC-4191-B07C-348BE81D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F4615-157B-464B-AE27-9830B405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04404-4C12-476D-9367-BD79A36F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039D6-A39D-47D6-90E3-038D8F97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AC8C3-137B-4EA2-9FF0-81EEAD36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16F51-7374-4F90-BF15-4D424D6A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C3AFC-9C51-46D2-93B5-5CA602E6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E74-A5AA-4F53-8B13-D8FFD7C1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FADD7-29B4-4B10-B898-747AC051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D624B-9944-4518-9C23-9D46CFBA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2E945-E578-4AB7-B3F8-EE3034D2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3BDE9-DDDC-41D3-B97E-956376E3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43770-39F9-4933-BECD-D6E535AF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36543-36FB-400D-B8F4-B5552712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8A06A-2F0A-451C-AFC9-3A7B9FCB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C961A-1261-4860-AC23-F2D90435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0011D-4920-40B1-800B-81DEDA61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C27FF-5475-4399-B2B7-61388D9F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C05-304D-4091-B5E3-2F07F1A0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47CAC-D7C9-4580-80D0-CFEBA126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2956F-E774-41AD-8661-77D86DAD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E3F7D-CF29-4506-9700-B3419AF3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42883-E7D0-49BD-8AEA-F99658A6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8B6BD-C961-4821-9A4A-D6233994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FAB11-2912-44C8-98C6-040D6E78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3085E-1ABB-454D-B8B8-7A2BEF07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556FD-8F6F-4E3C-A234-A26B1FD1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37153-D063-4E16-A9FC-28CC7852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EA97D-6945-4AFE-9B8F-59C1A6DE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9E3-96BA-44E9-9B8E-5B65B2C0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B04AA-77E8-47A4-973F-77D3D802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283E1-8EE2-4923-97F3-23315721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C7D01-4C51-4C5A-AEAF-051F05C3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80CE1-CD97-43E4-BE46-5C095ED7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48EB1-52D4-4C8A-BB28-67F56794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4E57F-43A1-4075-B5DB-9B1D9793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6838D-5A76-4327-AFF5-7F9A058C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FFDA9-A9E8-4BEF-9A23-46A9A857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E7B85-65BD-45A6-BB25-30149D09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7A9F5-E7A1-4915-B91F-F0CDA8DE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9A2-6ABC-43B8-B9FB-84FCD49A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31F03-1D6D-4D1B-892E-18990338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120BD-6694-4713-BDAA-C2A3ACB9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6F850-814A-4324-B034-B9FD7C03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B6BA2-F4DD-4370-B46B-101B2E37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593B1-E817-4F95-832B-A5D426DD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C681D-09BC-4182-B200-FD16999D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6DF05-E72A-40ED-8764-7DFB3EE0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17635-E461-4912-BE7C-01C652D4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2E502-6845-4883-97A5-A405ED57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81CEB-B243-420B-9E28-DA2B8A3C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AB1-7F42-4C36-B7FB-886E1B1E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93328-199D-43CE-AEFB-F710B220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35F4C-1891-4511-9C62-6C4B7839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0089C-5732-4F7D-9686-6EA9A062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7A925-F535-40C5-B5E1-AB5C3CBB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70B59-9AF6-47DA-9267-ECA2B1E0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16803-7812-41D1-BD5C-ECEB4E87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F16C8-76AB-48E0-B678-51BD57B7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A0FC6-330E-4A6A-BE8D-61451255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E075A-9664-4CFA-BB22-7A3AC5B8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ECF32-EAC4-4526-8F18-2A463A7B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BC3-CB35-4D8B-AC3A-E1C788B2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1F240-F016-4BE8-86F8-516552A7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77EB9-0227-437D-B641-90E6FE65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7AB47-0B1D-4B05-A06D-9EC55EE0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B0564-E062-4768-995B-24C113D4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52A7E-46E0-43CA-8831-FCF7BBFC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05EBE-AC7E-413F-BB33-142544E7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D5020-F946-4EF3-8178-6DCA7CE0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5907A-2038-494F-AFA7-4E826687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BEA30-2196-4825-AF7B-DA4D4603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4BB3C-5D0C-400A-9967-B228792D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0C03-EB31-4744-9FED-F5330646B22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ED13-A5BE-4274-A86A-5B0FAC1BD7E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F631-A1E7-43DA-AF0C-F2937FA58B6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6BCE-7060-40C3-83EF-ABCF40BE9F3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7F15-3196-4E40-85C4-340353E0A62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4D49-B04B-4230-87A9-FDA8B4378A5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A5D1-F4FF-4F10-BE21-F2931308CE6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768A-C7D4-4DEC-900D-CB69A589BFE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22A6-1F04-47EF-8147-CFA5B6840AE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jpeg"/><Relationship Id="rId4" Type="http://schemas.openxmlformats.org/officeDocument/2006/relationships/image" Target="../media/image19.jpeg"/><Relationship Id="rId5" Type="http://schemas.openxmlformats.org/officeDocument/2006/relationships/image" Target="../media/image8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22.jpeg"/><Relationship Id="rId11" Type="http://schemas.openxmlformats.org/officeDocument/2006/relationships/image" Target="../media/image11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hallenge 3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WordArt 4"/>
          <p:cNvSpPr txBox="1"/>
          <p:nvPr/>
        </p:nvSpPr>
        <p:spPr>
          <a:xfrm>
            <a:off x="228600" y="762120"/>
            <a:ext cx="8686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aa49aa"/>
                </a:solidFill>
                <a:latin typeface="Cooper Black"/>
              </a:rPr>
              <a:t>Mystery Photo Friday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aa49aa"/>
              </a:solidFill>
              <a:latin typeface="Cooper Black"/>
              <a:ea typeface="Cooper Black"/>
            </a:endParaRPr>
          </a:p>
        </p:txBody>
      </p:sp>
      <p:pic>
        <p:nvPicPr>
          <p:cNvPr id="503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C:\Documents and Settings\kstrong\Local Settings\Temporary Internet Files\Content.IE5\WU1BHSLA\MCHH01619_0000[1].wmf"/>
          <p:cNvPicPr/>
          <p:nvPr/>
        </p:nvPicPr>
        <p:blipFill>
          <a:blip r:embed="rId2"/>
          <a:stretch/>
        </p:blipFill>
        <p:spPr>
          <a:xfrm>
            <a:off x="3124080" y="2666880"/>
            <a:ext cx="247824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Title 1" descr=""/>
          <p:cNvPicPr/>
          <p:nvPr/>
        </p:nvPicPr>
        <p:blipFill>
          <a:blip r:embed="rId1"/>
          <a:stretch/>
        </p:blipFill>
        <p:spPr>
          <a:xfrm>
            <a:off x="347760" y="195120"/>
            <a:ext cx="8345520" cy="8226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" descr="Click on the image to reveal the answer"/>
          <p:cNvPicPr/>
          <p:nvPr/>
        </p:nvPicPr>
        <p:blipFill>
          <a:blip r:embed="rId2"/>
          <a:stretch/>
        </p:blipFill>
        <p:spPr>
          <a:xfrm>
            <a:off x="304920" y="990720"/>
            <a:ext cx="2560680" cy="21333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Click on the image to reveal the answer"/>
          <p:cNvPicPr/>
          <p:nvPr/>
        </p:nvPicPr>
        <p:blipFill>
          <a:blip r:embed="rId3"/>
          <a:stretch/>
        </p:blipFill>
        <p:spPr>
          <a:xfrm>
            <a:off x="5867280" y="838080"/>
            <a:ext cx="2651400" cy="22100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Click on the image to reveal the answer"/>
          <p:cNvPicPr/>
          <p:nvPr/>
        </p:nvPicPr>
        <p:blipFill>
          <a:blip r:embed="rId4"/>
          <a:stretch/>
        </p:blipFill>
        <p:spPr>
          <a:xfrm>
            <a:off x="0" y="406404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8" descr="Click on the image to reveal the answer"/>
          <p:cNvPicPr/>
          <p:nvPr/>
        </p:nvPicPr>
        <p:blipFill>
          <a:blip r:embed="rId5"/>
          <a:stretch/>
        </p:blipFill>
        <p:spPr>
          <a:xfrm>
            <a:off x="6172200" y="407664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0" descr="Click on the image to reveal the answer"/>
          <p:cNvPicPr/>
          <p:nvPr/>
        </p:nvPicPr>
        <p:blipFill>
          <a:blip r:embed="rId6"/>
          <a:stretch/>
        </p:blipFill>
        <p:spPr>
          <a:xfrm>
            <a:off x="3124080" y="2362320"/>
            <a:ext cx="2667240" cy="2222280"/>
          </a:xfrm>
          <a:prstGeom prst="rect">
            <a:avLst/>
          </a:prstGeom>
          <a:ln w="0">
            <a:noFill/>
          </a:ln>
        </p:spPr>
      </p:pic>
      <p:pic>
        <p:nvPicPr>
          <p:cNvPr id="511" name="Rectangle 7" descr=""/>
          <p:cNvPicPr/>
          <p:nvPr/>
        </p:nvPicPr>
        <p:blipFill>
          <a:blip r:embed="rId7"/>
          <a:stretch/>
        </p:blipFill>
        <p:spPr>
          <a:xfrm>
            <a:off x="-201600" y="774720"/>
            <a:ext cx="1311120" cy="1146240"/>
          </a:xfrm>
          <a:prstGeom prst="rect">
            <a:avLst/>
          </a:prstGeom>
          <a:ln w="0">
            <a:noFill/>
          </a:ln>
        </p:spPr>
      </p:pic>
      <p:pic>
        <p:nvPicPr>
          <p:cNvPr id="512" name="Rectangle 8" descr=""/>
          <p:cNvPicPr/>
          <p:nvPr/>
        </p:nvPicPr>
        <p:blipFill>
          <a:blip r:embed="rId8"/>
          <a:stretch/>
        </p:blipFill>
        <p:spPr>
          <a:xfrm>
            <a:off x="5437080" y="622440"/>
            <a:ext cx="1311480" cy="1145880"/>
          </a:xfrm>
          <a:prstGeom prst="rect">
            <a:avLst/>
          </a:prstGeom>
          <a:ln w="0">
            <a:noFill/>
          </a:ln>
        </p:spPr>
      </p:pic>
      <p:pic>
        <p:nvPicPr>
          <p:cNvPr id="513" name="Rectangle 9" descr=""/>
          <p:cNvPicPr/>
          <p:nvPr/>
        </p:nvPicPr>
        <p:blipFill>
          <a:blip r:embed="rId9"/>
          <a:stretch/>
        </p:blipFill>
        <p:spPr>
          <a:xfrm>
            <a:off x="-426960" y="3822840"/>
            <a:ext cx="1311120" cy="114588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10" descr=""/>
          <p:cNvPicPr/>
          <p:nvPr/>
        </p:nvPicPr>
        <p:blipFill>
          <a:blip r:embed="rId10"/>
          <a:stretch/>
        </p:blipFill>
        <p:spPr>
          <a:xfrm>
            <a:off x="5742000" y="3902040"/>
            <a:ext cx="1311120" cy="1139760"/>
          </a:xfrm>
          <a:prstGeom prst="rect">
            <a:avLst/>
          </a:prstGeom>
          <a:ln w="0">
            <a:noFill/>
          </a:ln>
        </p:spPr>
      </p:pic>
      <p:pic>
        <p:nvPicPr>
          <p:cNvPr id="515" name="Rectangle 11" descr=""/>
          <p:cNvPicPr/>
          <p:nvPr/>
        </p:nvPicPr>
        <p:blipFill>
          <a:blip r:embed="rId11"/>
          <a:stretch/>
        </p:blipFill>
        <p:spPr>
          <a:xfrm>
            <a:off x="2620800" y="2146320"/>
            <a:ext cx="13114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Title 1" descr=""/>
          <p:cNvPicPr/>
          <p:nvPr/>
        </p:nvPicPr>
        <p:blipFill>
          <a:blip r:embed="rId1"/>
          <a:stretch/>
        </p:blipFill>
        <p:spPr>
          <a:xfrm>
            <a:off x="334800" y="268200"/>
            <a:ext cx="8358480" cy="7318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Click on the image to reveal the answer"/>
          <p:cNvPicPr/>
          <p:nvPr/>
        </p:nvPicPr>
        <p:blipFill>
          <a:blip r:embed="rId2"/>
          <a:stretch/>
        </p:blipFill>
        <p:spPr>
          <a:xfrm>
            <a:off x="914400" y="838080"/>
            <a:ext cx="1279440" cy="10670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Click on the image to reveal the answer"/>
          <p:cNvPicPr/>
          <p:nvPr/>
        </p:nvPicPr>
        <p:blipFill>
          <a:blip r:embed="rId3"/>
          <a:stretch/>
        </p:blipFill>
        <p:spPr>
          <a:xfrm>
            <a:off x="762120" y="838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" descr="http://whatsfordinner.net/mystery/Mystery09-17Ans.jpg"/>
          <p:cNvPicPr/>
          <p:nvPr/>
        </p:nvPicPr>
        <p:blipFill>
          <a:blip r:embed="rId4"/>
          <a:stretch/>
        </p:blipFill>
        <p:spPr>
          <a:xfrm>
            <a:off x="5334120" y="76212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Click on the image to reveal the answer"/>
          <p:cNvPicPr/>
          <p:nvPr/>
        </p:nvPicPr>
        <p:blipFill>
          <a:blip r:embed="rId5"/>
          <a:stretch/>
        </p:blipFill>
        <p:spPr>
          <a:xfrm>
            <a:off x="762120" y="205740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6" descr="http://whatsfordinner.net/mystery/Mystery09-16Ans.jpg"/>
          <p:cNvPicPr/>
          <p:nvPr/>
        </p:nvPicPr>
        <p:blipFill>
          <a:blip r:embed="rId6"/>
          <a:stretch/>
        </p:blipFill>
        <p:spPr>
          <a:xfrm>
            <a:off x="5334120" y="205740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http://www.whatsfordinner.net/mystery/Mystery09-14Ans.jpg"/>
          <p:cNvPicPr/>
          <p:nvPr/>
        </p:nvPicPr>
        <p:blipFill>
          <a:blip r:embed="rId7"/>
          <a:stretch/>
        </p:blipFill>
        <p:spPr>
          <a:xfrm>
            <a:off x="5334120" y="33526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Click on the image to reveal the answer"/>
          <p:cNvPicPr/>
          <p:nvPr/>
        </p:nvPicPr>
        <p:blipFill>
          <a:blip r:embed="rId8"/>
          <a:stretch/>
        </p:blipFill>
        <p:spPr>
          <a:xfrm>
            <a:off x="685800" y="3124080"/>
            <a:ext cx="1428840" cy="1190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0" descr="Click on the image to reveal the answer"/>
          <p:cNvPicPr/>
          <p:nvPr/>
        </p:nvPicPr>
        <p:blipFill>
          <a:blip r:embed="rId9"/>
          <a:stretch/>
        </p:blipFill>
        <p:spPr>
          <a:xfrm>
            <a:off x="762120" y="4267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2" descr="http://www.whatsfordinner.net/mystery/Mystery09-06Ans.jpg"/>
          <p:cNvPicPr/>
          <p:nvPr/>
        </p:nvPicPr>
        <p:blipFill>
          <a:blip r:embed="rId10"/>
          <a:stretch/>
        </p:blipFill>
        <p:spPr>
          <a:xfrm>
            <a:off x="5334120" y="457200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4" descr="Click on the image to reveal the answer"/>
          <p:cNvPicPr/>
          <p:nvPr/>
        </p:nvPicPr>
        <p:blipFill>
          <a:blip r:embed="rId11"/>
          <a:stretch/>
        </p:blipFill>
        <p:spPr>
          <a:xfrm>
            <a:off x="685800" y="566748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6" descr="http://www.whatsfordinner.net/mystery/Mystery09-13Ans.jpg"/>
          <p:cNvPicPr/>
          <p:nvPr/>
        </p:nvPicPr>
        <p:blipFill>
          <a:blip r:embed="rId12"/>
          <a:stretch/>
        </p:blipFill>
        <p:spPr>
          <a:xfrm>
            <a:off x="5334120" y="5667480"/>
            <a:ext cx="1428480" cy="11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Tracy</cp:lastModifiedBy>
  <dcterms:modified xsi:type="dcterms:W3CDTF">2009-10-02T23:53:46Z</dcterms:modified>
  <cp:revision>160</cp:revision>
  <dc:subject/>
  <dc:title>Slide 1</dc:title>
</cp:coreProperties>
</file>