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0E5-5DFC-4966-9B49-9E44FE37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299-C681-4706-9D95-9F622DF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979B1-08C7-4F5E-9E80-2F88FBFE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BE615-249C-43F4-B0B7-EEC444D9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ACBFE-1AA6-4D30-AB5C-34034767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875B7-4954-489A-855A-72E695F1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2DBF3-2E96-4E37-AD43-CA900FE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D7C66-CE7B-4735-8889-AAEFF3D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ABB14-2979-45F9-9794-04B1B142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8F563-3081-46D5-88CB-5091348E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19B32-8463-435F-830B-81B8570B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530-AE9A-467D-A5E5-B8804456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ACC-D9F3-4C4C-86C3-C0613C48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75D-567F-4328-AC0C-9F20C241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E46-99EE-4F52-9B68-081ED081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395F-DF07-46DF-9DCC-104604F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C25C-823F-474C-95ED-A013BAAF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8D98-6CF1-4BE9-A99A-B1C07FC2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652E-D562-405E-9728-2A9D2ADE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B48E-4A3C-43DB-8C69-E62799F4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8A0-D355-4358-8A5F-3E8C5B5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4335-500D-42E1-A860-4AC0E27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9EFF-8268-447F-BE7D-1C9CEE7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C123-18A5-4013-A760-3044B824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2049-B760-4C1C-927A-B7182929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8A0-8454-4ADC-8B3A-89E47E63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78659-47A5-4BC1-956E-EAE89715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718B5-596F-4A8C-A157-917DE52B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6DE5-7204-4CB4-8556-76DB082A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6EB2-8093-49AD-BD63-594C7E7C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33D2-55CE-4E5C-8B0B-81B1568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50A-BEA1-4407-AFF3-8BCCC9AC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EFC8-8FAE-4060-91BF-BD2CB55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7FAF-9A26-4349-9041-CD91D945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5AAD-F8C6-4C3D-8864-D442227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70F28-5236-4007-9A4F-ABF2A74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ED0B-9521-4408-95F1-75807E1C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48E5-8FFF-49F8-8647-8BBC3CAD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0D37-EC53-48D8-8FAA-1C151400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8579-005A-47BA-985A-DA13AB0E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779C-D4B4-4493-B60F-68FB16F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2A7A-4846-4DCE-BD12-CCA45FF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F1B-78E6-45CB-BFCE-C8ED2CBB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DEE6-679A-4798-99C5-B3A5CEA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A5A8-C9FC-4589-B26C-CF2E106F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30B65-9B1C-468D-BEE8-0722433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619ED-5A2A-4FB1-938F-707A8CF8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37E05-D0AA-48BC-87E6-068B9A3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6570-4305-41A1-9754-60274803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2AF84-3E58-46D1-B685-D66A7B92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863C-14C0-46E9-AE23-CD48B2D6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D2F0-DADB-4869-A552-7274C8D9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8DB9-F459-45E0-ABBA-D698BE44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DFD-4526-470C-BB26-56F79D92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3B44-11C9-4EA7-AA3C-B6838F75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DAA63-FC14-40B4-8715-F36996B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E8D4-D675-4C11-8864-3508A539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F090-24DE-4749-8CB7-6DD2A1CA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447A-A1A7-49A2-85BA-969FAC39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3D03D-C6CE-4857-9497-71D2EF2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3C316-4229-452C-A9D2-6AE78D8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D6AB-026D-4D7D-9075-4871EDF6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CAC9-DAA6-4E38-8101-16ABA3B0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08A57-1962-426F-9A49-BBFEDABE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5A4-F6E2-404C-8E5C-5434F4A5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CA17-1CC7-4B1B-BF36-8E631328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8A6A-2013-4E55-823C-90B1E05F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3BCC7-7E99-4316-B2EB-64D74A92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F6645-BE24-4A83-A2C5-403A3C9D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8807-6B47-46E8-9A8D-6883347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541B6-0E74-411C-88B7-6CCCD2F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91718-742F-488C-A143-DA051843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E085B-8103-452A-BA46-4BCD2ACE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614E1-B97D-4960-921D-E2FB9E66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B945-D37A-4C3B-9D17-87F4964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C29-54CB-4147-B142-E7695D7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463C-6507-4162-9B84-7DE7B7F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9A1B-A6F8-451F-A0E7-FFF045DE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ED2D1-2966-462A-8EE4-E3B2FB0B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658A-AE5E-4573-97BB-5235C5A1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CDAAC-2AA8-4ABC-8F1E-9024DF70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B448-3F00-44DC-A927-1E0A801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FC21D-3DA5-414D-8977-916E926D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48B3-5674-41ED-83C7-A98C9A09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406C-FE73-4B34-9274-996F4753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0AE65-2B86-40CD-BD2B-0389218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47D-6FB0-497C-958B-2DC5602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40C0B-94F4-42D4-BF3B-3160D926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8DDA-B844-4A81-ABCA-ECC0143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4BE8-1E93-48D3-9256-A87508F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7AA74-0788-48A8-B186-D763E32B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F62C8-76A1-444A-91F4-EC3C2DBE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2379-964D-4D08-87CB-73BDA48F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CBD8-75D1-4ED8-966F-0996AC32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C98E2-C891-49A2-9394-89136A8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3AFBD-3D6F-4482-B32D-C3A6A128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8480F-3FB4-4455-B748-5FEDD59F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918-5063-4270-AC98-3C67BC4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8CB2-8045-4AEC-A7F4-5AD0736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30FEA-1A6B-4055-B6F8-B1901EE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1407A-BA79-4693-9A37-AD6BE8C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298D-E822-4632-9976-7F72CFF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0F854-8BA8-475B-99A3-E92D09D6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3070-C13A-4A33-82EA-B6AA9906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8885-9EAF-49E3-B8D6-84D60E37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46E89-CB23-427D-A7E2-A896BDC5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09E71-8DCA-40BA-9413-76490403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08CF3-049C-4D07-AC0A-7DBB92AE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598F-1FA0-4B4B-8997-55C30C0F19A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E125-DA6B-43B8-B3E1-76298206BCE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9875-AE14-4514-A0A6-8A35710741C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DB0-C4E7-4A60-ADF9-DCDAC7800B5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CAAE-8F82-4CAF-9601-5D7FD5303FA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037F-279C-42FB-B2B3-42DCE0FDA59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D5EE-D804-48A4-A01A-D0ED5FB2C74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A611-40EE-4761-93EE-66FE66D1FA4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A05-AFC1-431D-9FD5-E8F40455B15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7.jpeg"/><Relationship Id="rId4" Type="http://schemas.openxmlformats.org/officeDocument/2006/relationships/image" Target="../media/image19.jpeg"/><Relationship Id="rId5" Type="http://schemas.openxmlformats.org/officeDocument/2006/relationships/image" Target="../media/image8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22.jpeg"/><Relationship Id="rId11" Type="http://schemas.openxmlformats.org/officeDocument/2006/relationships/image" Target="../media/image11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3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304920" y="990720"/>
            <a:ext cx="2560680" cy="21333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Click on the image to reveal the answer"/>
          <p:cNvPicPr/>
          <p:nvPr/>
        </p:nvPicPr>
        <p:blipFill>
          <a:blip r:embed="rId3"/>
          <a:stretch/>
        </p:blipFill>
        <p:spPr>
          <a:xfrm>
            <a:off x="5867280" y="838080"/>
            <a:ext cx="2651400" cy="2210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Click on the image to reveal the answer"/>
          <p:cNvPicPr/>
          <p:nvPr/>
        </p:nvPicPr>
        <p:blipFill>
          <a:blip r:embed="rId4"/>
          <a:stretch/>
        </p:blipFill>
        <p:spPr>
          <a:xfrm>
            <a:off x="0" y="406404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lick on the image to reveal the answer"/>
          <p:cNvPicPr/>
          <p:nvPr/>
        </p:nvPicPr>
        <p:blipFill>
          <a:blip r:embed="rId5"/>
          <a:stretch/>
        </p:blipFill>
        <p:spPr>
          <a:xfrm>
            <a:off x="6172200" y="407664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lick on the image to reveal the answer"/>
          <p:cNvPicPr/>
          <p:nvPr/>
        </p:nvPicPr>
        <p:blipFill>
          <a:blip r:embed="rId6"/>
          <a:stretch/>
        </p:blipFill>
        <p:spPr>
          <a:xfrm>
            <a:off x="3124080" y="2362320"/>
            <a:ext cx="2667240" cy="222228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7" descr=""/>
          <p:cNvPicPr/>
          <p:nvPr/>
        </p:nvPicPr>
        <p:blipFill>
          <a:blip r:embed="rId7"/>
          <a:stretch/>
        </p:blipFill>
        <p:spPr>
          <a:xfrm>
            <a:off x="-201600" y="77472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Rectangle 8" descr=""/>
          <p:cNvPicPr/>
          <p:nvPr/>
        </p:nvPicPr>
        <p:blipFill>
          <a:blip r:embed="rId8"/>
          <a:stretch/>
        </p:blipFill>
        <p:spPr>
          <a:xfrm>
            <a:off x="5437080" y="622440"/>
            <a:ext cx="1311480" cy="114588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9" descr=""/>
          <p:cNvPicPr/>
          <p:nvPr/>
        </p:nvPicPr>
        <p:blipFill>
          <a:blip r:embed="rId9"/>
          <a:stretch/>
        </p:blipFill>
        <p:spPr>
          <a:xfrm>
            <a:off x="-426960" y="3822840"/>
            <a:ext cx="1311120" cy="114588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10" descr=""/>
          <p:cNvPicPr/>
          <p:nvPr/>
        </p:nvPicPr>
        <p:blipFill>
          <a:blip r:embed="rId10"/>
          <a:stretch/>
        </p:blipFill>
        <p:spPr>
          <a:xfrm>
            <a:off x="5742000" y="3902040"/>
            <a:ext cx="1311120" cy="1139760"/>
          </a:xfrm>
          <a:prstGeom prst="rect">
            <a:avLst/>
          </a:prstGeom>
          <a:ln w="0">
            <a:noFill/>
          </a:ln>
        </p:spPr>
      </p:pic>
      <p:pic>
        <p:nvPicPr>
          <p:cNvPr id="515" name="Rectangle 11" descr=""/>
          <p:cNvPicPr/>
          <p:nvPr/>
        </p:nvPicPr>
        <p:blipFill>
          <a:blip r:embed="rId11"/>
          <a:stretch/>
        </p:blipFill>
        <p:spPr>
          <a:xfrm>
            <a:off x="2620800" y="2146320"/>
            <a:ext cx="1311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lick on the image to reveal the answer"/>
          <p:cNvPicPr/>
          <p:nvPr/>
        </p:nvPicPr>
        <p:blipFill>
          <a:blip r:embed="rId2"/>
          <a:stretch/>
        </p:blipFill>
        <p:spPr>
          <a:xfrm>
            <a:off x="914400" y="838080"/>
            <a:ext cx="1279440" cy="1067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Click on the image to reveal the answer"/>
          <p:cNvPicPr/>
          <p:nvPr/>
        </p:nvPicPr>
        <p:blipFill>
          <a:blip r:embed="rId3"/>
          <a:stretch/>
        </p:blipFill>
        <p:spPr>
          <a:xfrm>
            <a:off x="762120" y="838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http://whatsfordinner.net/mystery/Mystery09-17Ans.jpg"/>
          <p:cNvPicPr/>
          <p:nvPr/>
        </p:nvPicPr>
        <p:blipFill>
          <a:blip r:embed="rId4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Click on the image to reveal the answer"/>
          <p:cNvPicPr/>
          <p:nvPr/>
        </p:nvPicPr>
        <p:blipFill>
          <a:blip r:embed="rId5"/>
          <a:stretch/>
        </p:blipFill>
        <p:spPr>
          <a:xfrm>
            <a:off x="762120" y="2057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http://whatsfordinner.net/mystery/Mystery09-16Ans.jpg"/>
          <p:cNvPicPr/>
          <p:nvPr/>
        </p:nvPicPr>
        <p:blipFill>
          <a:blip r:embed="rId6"/>
          <a:stretch/>
        </p:blipFill>
        <p:spPr>
          <a:xfrm>
            <a:off x="5334120" y="2057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http://www.whatsfordinner.net/mystery/Mystery09-14Ans.jpg"/>
          <p:cNvPicPr/>
          <p:nvPr/>
        </p:nvPicPr>
        <p:blipFill>
          <a:blip r:embed="rId7"/>
          <a:stretch/>
        </p:blipFill>
        <p:spPr>
          <a:xfrm>
            <a:off x="5334120" y="33526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Click on the image to reveal the answer"/>
          <p:cNvPicPr/>
          <p:nvPr/>
        </p:nvPicPr>
        <p:blipFill>
          <a:blip r:embed="rId8"/>
          <a:stretch/>
        </p:blipFill>
        <p:spPr>
          <a:xfrm>
            <a:off x="685800" y="312408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Click on the image to reveal the answer"/>
          <p:cNvPicPr/>
          <p:nvPr/>
        </p:nvPicPr>
        <p:blipFill>
          <a:blip r:embed="rId9"/>
          <a:stretch/>
        </p:blipFill>
        <p:spPr>
          <a:xfrm>
            <a:off x="762120" y="4267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2" descr="http://www.whatsfordinner.net/mystery/Mystery09-06Ans.jpg"/>
          <p:cNvPicPr/>
          <p:nvPr/>
        </p:nvPicPr>
        <p:blipFill>
          <a:blip r:embed="rId10"/>
          <a:stretch/>
        </p:blipFill>
        <p:spPr>
          <a:xfrm>
            <a:off x="5334120" y="45720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4" descr="Click on the image to reveal the answer"/>
          <p:cNvPicPr/>
          <p:nvPr/>
        </p:nvPicPr>
        <p:blipFill>
          <a:blip r:embed="rId11"/>
          <a:stretch/>
        </p:blipFill>
        <p:spPr>
          <a:xfrm>
            <a:off x="685800" y="566748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6" descr="http://www.whatsfordinner.net/mystery/Mystery09-13Ans.jpg"/>
          <p:cNvPicPr/>
          <p:nvPr/>
        </p:nvPicPr>
        <p:blipFill>
          <a:blip r:embed="rId12"/>
          <a:stretch/>
        </p:blipFill>
        <p:spPr>
          <a:xfrm>
            <a:off x="5334120" y="5667480"/>
            <a:ext cx="1428480" cy="11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3:46Z</dcterms:modified>
  <cp:revision>160</cp:revision>
  <dc:subject/>
  <dc:title>Slide 1</dc:title>
</cp:coreProperties>
</file>