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6A8D-040B-4AA8-B019-8DC9E17E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4EF-52E4-4D38-AEB7-36F0C9E1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55C99-721B-406C-B918-031C49EF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DF466-F54C-4B67-92A1-E880E025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63201-7268-4B6C-9AF7-D5366596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70E35-BAF8-45FC-84CE-A8CDB7E3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B679B-C5F9-4F95-B6B9-FC15DA55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A1584-5282-40F7-AD77-2DB9663E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783E8-8F90-4288-B5FB-348D0323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E8D1F-FD2D-4C73-B659-ACFF043A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342B0-ABEE-4940-ACAC-E2713E93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520A-2B98-4FFF-94C7-6592072B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E947-AF86-4BF2-B1B2-7A44B359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7F6B-B45A-4975-8FEB-8D0D6F3D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789A-3837-48B3-BBCB-802E2BF4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87DB-F20A-4CC0-B42F-0702BC21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3979-B431-43F5-A53C-BE402849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B556-6C1D-434D-8DF7-EC1730F6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6038-FA24-41B5-B9ED-6D3F03E8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CDB9-7830-4597-ADE5-90E708DD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C9F3-3A19-4ECC-848B-9C42D4C7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EE7F-87C6-43DD-B5AF-8AC126A4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9B6D-77E1-43D5-9C23-C9E06538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61F1-F96A-436B-AD2B-220F51F1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C434-9360-4232-B901-B43D287F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34D0-690D-40BF-8892-EE14C57D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4F052-E3AD-4052-B9A2-1CAE829F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13716-22A2-4221-844D-18EFE2E8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85923-F319-4E59-BDFE-5126AD64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C5BD3-8A44-48CF-975E-71328F91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8AC8F-0543-4711-B5F8-ED74CE53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2829-C08D-4924-96D3-AAA71D5B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F9E3B-7579-4C80-A33B-35EB4A7A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4795D-721A-4782-933C-9C8DD32C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32C89-88B2-4DDE-AA64-0B36CDC3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3225A-B200-4D97-97A4-6632D6B1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C895C-70C1-451D-B267-6C6EB991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AA3F1-CE3A-499D-BB00-B8AE0427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78D70-048B-44DE-B812-CA30EC69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671EA-D137-4387-9471-01A18034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F61DD-15C6-4BE8-B51B-DB01B7F4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EE135-CFD5-41F0-A23B-9A1605B0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95F-472A-4ADE-A542-24B328C6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760E6-FA98-42B6-AEE1-6FCCBEB8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E5296-93D4-4437-91C0-CC751BF5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32509-B816-4CA2-97C4-599DE95F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65468-C0FF-4830-9CC9-9D110E1F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D3C62-FB36-4B40-8AF5-DE725DA9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2759A-BE98-4559-B6E7-92ED201C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7043D-7A26-43A9-B4D3-698631CD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E6E1E-7ED4-4212-80CE-C2F66D85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60CDD-5644-44E6-B17B-9C072688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7473F-2F1C-47AA-93FA-3A743CF5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1F3A-B835-415C-A514-9F02B259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4A0DF-0581-4404-B81C-B1055246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F8682-925A-4607-A13A-22A5D3EE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61497-FF64-4232-8D11-DF7917CB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A80D7-1816-454E-BAE9-F363D534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1501F-A6C8-4FE6-8E6A-DA7B5413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F124A-03C8-4EE4-BB2A-E719C2A5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A7865-62FC-4802-85AF-EA39D838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8386C-C32D-4BDD-9DAE-454978F9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E1179-36C8-4731-B00F-9DA0C03D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F141D-04D0-4773-8A93-473C342B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70D6-46B3-43F6-B005-4139F649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BAA15-68AB-4AF0-9D65-7EF28B23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7A41E-108A-40D5-B5BB-C02BBE1B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D0BEA-47BD-44CA-8ED3-0672B335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7EC25-6FF0-4B6C-8E6E-E2FD1F1A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405D4-29F6-4D28-9A2F-F4049E87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10D35-6BA4-4A9F-B2D9-C3100118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D274E-5C03-4A88-B8C6-A7C8AB89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E2CB8-08E4-444B-87BF-A3CF1265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545B0-8AF9-45AD-8316-70AFC70F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C3A62-306D-4F13-8A85-E868F4DE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0BC-7ECF-4AF3-859D-245BAC60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438AB-558C-4408-90EC-8DF17C8D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FEA61-E6CA-40D6-911B-3396892E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56C69-DCF5-4EE9-A139-FBD44A72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00EF9-C3ED-420C-A71E-C9CEAD3C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A92F3-27A9-4DAD-81E0-09040376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48112-6604-4F41-98F7-529204F0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49019-F025-4913-84AC-E54AC6D7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E381A-416F-45D3-AD47-82599D40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9E709-522D-45AD-BAAE-D9955BC0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6DC7E-483C-45AA-911F-E0006B96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DDFB-7AB4-402E-81DA-5F2242B5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BF3F6-5689-4F03-8E95-A6414570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3CF60-2124-471A-BD7B-075A18D3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FA14D-899F-41D0-A00D-AD89F8B8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62E83-7AD5-47D9-86A6-0757875A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E167F-E20F-49F9-9A2E-DBBD30B2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D3921-8996-4928-8323-603903F0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47AAA-6079-404D-8C5B-B6F68C30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2F763-D912-46EB-897C-7AF37F37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9FAC2-FDB2-4CBF-9BEE-867897DC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912DD-E9DF-4F10-AF75-AE41A991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280-287C-485F-AEE5-C027D884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6A5BA-D092-483D-A1C4-892972BD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B0D12-E7AC-49DF-A78D-91D1B7CE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F3880-0645-4F66-8F86-A3F80A3C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3084B-328E-4B18-A10E-041B9B3D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A9629-51FD-4C3C-AEC2-956E357E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23C58-48CA-42F3-987A-70BA945C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70DA1-18C8-4AD8-92DD-7D1CAD7B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14BEA-72E8-43EA-BA51-602A9E9D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CCFD7-57E4-4F7F-82A6-9437A33A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2F36E-5C6E-45C8-B737-84BCD4A8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1C77-F038-491C-9E36-3AD2D5DBA81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6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5E1D-F0A8-42E8-94A8-FFC86A4108A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10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11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1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1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18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23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22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B290-7DA7-427F-9ADF-BD3691B07BD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67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68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69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72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5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90FF-77BC-4933-958D-300A177FCC7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21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22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23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26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29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33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64B6-AA20-4FC9-A250-FFFDDF0357E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78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79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80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83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86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90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BAC9-2031-47B9-8BB4-8880C4EA823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35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36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37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40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43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347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F34C-BA30-41E3-BD39-54884082844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9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9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9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9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0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1271-EDD2-497E-82BD-DE6665E3356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44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44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4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45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5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458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CDEC-2A3E-4E4C-BCF8-E09F11EF5A5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7.jpeg"/><Relationship Id="rId4" Type="http://schemas.openxmlformats.org/officeDocument/2006/relationships/image" Target="../media/image14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5.jpeg"/><Relationship Id="rId8" Type="http://schemas.openxmlformats.org/officeDocument/2006/relationships/image" Target="../media/image10.jpeg"/><Relationship Id="rId9" Type="http://schemas.openxmlformats.org/officeDocument/2006/relationships/image" Target="../media/image16.jpeg"/><Relationship Id="rId10" Type="http://schemas.openxmlformats.org/officeDocument/2006/relationships/image" Target="../media/image11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hallenge 1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WordArt 4"/>
          <p:cNvSpPr txBox="1"/>
          <p:nvPr/>
        </p:nvSpPr>
        <p:spPr>
          <a:xfrm>
            <a:off x="228600" y="762120"/>
            <a:ext cx="8686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aa49aa"/>
                </a:solidFill>
                <a:latin typeface="Cooper Black"/>
              </a:rPr>
              <a:t>Mystery Photo Friday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aa49aa"/>
              </a:solidFill>
              <a:latin typeface="Cooper Black"/>
              <a:ea typeface="Cooper Black"/>
            </a:endParaRPr>
          </a:p>
        </p:txBody>
      </p:sp>
      <p:pic>
        <p:nvPicPr>
          <p:cNvPr id="503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C:\Documents and Settings\kstrong\Local Settings\Temporary Internet Files\Content.IE5\WU1BHSLA\MCHH01619_0000[1].wmf"/>
          <p:cNvPicPr/>
          <p:nvPr/>
        </p:nvPicPr>
        <p:blipFill>
          <a:blip r:embed="rId2"/>
          <a:stretch/>
        </p:blipFill>
        <p:spPr>
          <a:xfrm>
            <a:off x="3124080" y="2666880"/>
            <a:ext cx="247824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Title 1" descr=""/>
          <p:cNvPicPr/>
          <p:nvPr/>
        </p:nvPicPr>
        <p:blipFill>
          <a:blip r:embed="rId1"/>
          <a:stretch/>
        </p:blipFill>
        <p:spPr>
          <a:xfrm>
            <a:off x="347760" y="195120"/>
            <a:ext cx="8345520" cy="8226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" descr="Click on the image to reveal the answer"/>
          <p:cNvPicPr/>
          <p:nvPr/>
        </p:nvPicPr>
        <p:blipFill>
          <a:blip r:embed="rId2"/>
          <a:stretch/>
        </p:blipFill>
        <p:spPr>
          <a:xfrm>
            <a:off x="762120" y="990720"/>
            <a:ext cx="1225440" cy="9144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Click on the image to reveal the answer"/>
          <p:cNvPicPr/>
          <p:nvPr/>
        </p:nvPicPr>
        <p:blipFill>
          <a:blip r:embed="rId3"/>
          <a:stretch/>
        </p:blipFill>
        <p:spPr>
          <a:xfrm>
            <a:off x="762120" y="1981080"/>
            <a:ext cx="1336680" cy="11145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Click on the image to reveal the answer"/>
          <p:cNvPicPr/>
          <p:nvPr/>
        </p:nvPicPr>
        <p:blipFill>
          <a:blip r:embed="rId4"/>
          <a:stretch/>
        </p:blipFill>
        <p:spPr>
          <a:xfrm>
            <a:off x="685800" y="320040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0" descr="Click on the image to reveal the answer"/>
          <p:cNvPicPr/>
          <p:nvPr/>
        </p:nvPicPr>
        <p:blipFill>
          <a:blip r:embed="rId5"/>
          <a:stretch/>
        </p:blipFill>
        <p:spPr>
          <a:xfrm>
            <a:off x="685800" y="548640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6" descr="Click on the image to reveal the answer"/>
          <p:cNvPicPr/>
          <p:nvPr/>
        </p:nvPicPr>
        <p:blipFill>
          <a:blip r:embed="rId6"/>
          <a:stretch/>
        </p:blipFill>
        <p:spPr>
          <a:xfrm>
            <a:off x="762120" y="4419720"/>
            <a:ext cx="1199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334800" y="268200"/>
            <a:ext cx="8358480" cy="7318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http://www.whatsfordinner.net/mystery/Mystery09-03Ans.jpg"/>
          <p:cNvPicPr/>
          <p:nvPr/>
        </p:nvPicPr>
        <p:blipFill>
          <a:blip r:embed="rId2"/>
          <a:stretch/>
        </p:blipFill>
        <p:spPr>
          <a:xfrm>
            <a:off x="5334120" y="76212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" descr="Click on the image to reveal the answer"/>
          <p:cNvPicPr/>
          <p:nvPr/>
        </p:nvPicPr>
        <p:blipFill>
          <a:blip r:embed="rId3"/>
          <a:stretch/>
        </p:blipFill>
        <p:spPr>
          <a:xfrm>
            <a:off x="914400" y="838080"/>
            <a:ext cx="1279440" cy="10670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http://www.whatsfordinner.net/mystery/Mystery08-30Ans.jpg"/>
          <p:cNvPicPr/>
          <p:nvPr/>
        </p:nvPicPr>
        <p:blipFill>
          <a:blip r:embed="rId4"/>
          <a:stretch/>
        </p:blipFill>
        <p:spPr>
          <a:xfrm>
            <a:off x="5334120" y="205740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8" descr="Click on the image to reveal the answer"/>
          <p:cNvPicPr/>
          <p:nvPr/>
        </p:nvPicPr>
        <p:blipFill>
          <a:blip r:embed="rId5"/>
          <a:stretch/>
        </p:blipFill>
        <p:spPr>
          <a:xfrm>
            <a:off x="838080" y="1981080"/>
            <a:ext cx="1428840" cy="11908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Click on the image to reveal the answer"/>
          <p:cNvPicPr/>
          <p:nvPr/>
        </p:nvPicPr>
        <p:blipFill>
          <a:blip r:embed="rId6"/>
          <a:stretch/>
        </p:blipFill>
        <p:spPr>
          <a:xfrm>
            <a:off x="838080" y="320040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http://www.whatsfordinner.net/mystery/Mystery08-29Ans.jpg"/>
          <p:cNvPicPr/>
          <p:nvPr/>
        </p:nvPicPr>
        <p:blipFill>
          <a:blip r:embed="rId7"/>
          <a:stretch/>
        </p:blipFill>
        <p:spPr>
          <a:xfrm>
            <a:off x="5334120" y="327672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2" descr="Click on the image to reveal the answer"/>
          <p:cNvPicPr/>
          <p:nvPr/>
        </p:nvPicPr>
        <p:blipFill>
          <a:blip r:embed="rId8"/>
          <a:stretch/>
        </p:blipFill>
        <p:spPr>
          <a:xfrm>
            <a:off x="838080" y="548640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4" descr="http://www.whatsfordinner.net/mystery/Mystery08-21Ans.jpg"/>
          <p:cNvPicPr/>
          <p:nvPr/>
        </p:nvPicPr>
        <p:blipFill>
          <a:blip r:embed="rId9"/>
          <a:stretch/>
        </p:blipFill>
        <p:spPr>
          <a:xfrm>
            <a:off x="5334120" y="566748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6" descr="Click on the image to reveal the answer"/>
          <p:cNvPicPr/>
          <p:nvPr/>
        </p:nvPicPr>
        <p:blipFill>
          <a:blip r:embed="rId10"/>
          <a:stretch/>
        </p:blipFill>
        <p:spPr>
          <a:xfrm>
            <a:off x="838080" y="4267080"/>
            <a:ext cx="1428840" cy="11908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8" descr="http://www.whatsfordinner.net/mystery/Mystery08-19Ans.jpg"/>
          <p:cNvPicPr/>
          <p:nvPr/>
        </p:nvPicPr>
        <p:blipFill>
          <a:blip r:embed="rId11"/>
          <a:stretch/>
        </p:blipFill>
        <p:spPr>
          <a:xfrm>
            <a:off x="5334120" y="4495680"/>
            <a:ext cx="1428480" cy="11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Tracy</cp:lastModifiedBy>
  <dcterms:modified xsi:type="dcterms:W3CDTF">2009-10-02T23:52:12Z</dcterms:modified>
  <cp:revision>156</cp:revision>
  <dc:subject/>
  <dc:title>Slide 1</dc:title>
</cp:coreProperties>
</file>