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6C1-EDF1-4F9D-A45F-7728472C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926-C57B-4F24-B920-6E12FB34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EE6D5-A418-4B4B-880A-3643C0A7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5521A-8898-4F28-A21D-04F57B78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0C459-DE6B-4D90-B8C9-340EE260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10EB2-07EF-4ADF-92EE-F14DBAF8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EC0A9-98D9-40CD-8897-56C0730F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030E7-78BB-4A64-83E2-2AA00853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C1550-DBEA-4C94-A1D3-1BAACCAB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E34A4-1D8B-453F-BDDB-A494295A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2D349-DFBA-47D4-B993-2C41EA1A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D34-6594-47E4-AD37-0B182386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002-749B-4F38-85CD-4EBCA5DD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4647-0FBC-4AAD-929D-D908E855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4BD7-E9BD-49BB-A165-FAFB0F35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6468-A515-450F-839D-D878BEB8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DBD5-5521-458F-BCC1-D4385681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7DD2-F31A-47C2-AC92-BF4D5B98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8CF4-B1DF-42F7-9BB6-95C57741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1F49-09C4-42D5-82D4-1F995C4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737-C497-4A2E-A333-B9C5827E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C3A4-CCC0-4190-B3B0-CC437C46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AF8A-DD0C-480D-BF8C-14546FE6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AEAA-A8E6-42BE-8154-5D184BB8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0D51-DC55-46EC-A197-BBC75B1D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8F06-5024-481C-B15E-29CFF9EB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DE38A-570F-431E-AD63-8D772F60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07E5C-C54A-4719-9EB6-24482ABA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06435-564A-4250-BDE7-0EC38200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C3D70-2BFC-44F6-8F98-B7EDD75D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F755-3035-405D-B951-5259D557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954-9F26-4001-883E-A98F52B3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6CFB-3265-44C8-B020-3E9BC643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7C58-24A8-45FE-B20E-F055748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E40D-764E-4826-84A0-C72C36E1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F983-BEC9-4C78-8F19-A75ED3EE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2DBA-57D9-492C-9A7A-0E0190E9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5CB8-04E4-4426-8F92-5DFCCF08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83F3-CB2A-4106-8BD1-90711991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07B9C-26BB-4492-B03C-25FF8C94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9682-8538-4031-90FC-41F3FBC8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615A-B079-40E3-8CF9-F3565A25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110-8793-424A-9507-E72AA6AC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05F8-653A-4409-9EC9-A2235B12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937DF-3CF2-4EB6-8DFD-007C0FA8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4F198-6B86-4B4F-8191-D975A9B2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093B5-D8AF-47F9-A28E-7A3814BA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65BA5-EEFF-4E8F-9F81-43CE8129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C7365-4F01-476B-80DE-9A1313CB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4BA2-54B6-4722-BE2C-22E68A24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8CB1-44AD-464D-9E9A-43D14126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DEAE-EF7A-496E-AB5B-688055F1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1153A-3FF4-463B-B22F-60D65172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D1F-7016-47FF-B838-CCF451C5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B6F52-7A50-401D-BD85-9121DC5B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8FB3B-C948-4788-8F72-EAB24292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3C742-5E89-468E-909B-646338A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4F677-A2A0-446D-87AC-A86D20F1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BDCC4-F740-4A3E-B440-702ED8DD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9AFA7-A108-450B-A114-00B2505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8581-8A28-451E-B5F1-264F73D4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FDB6A-C1A5-46A6-A490-98262AA0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AB699-A20A-4AFC-B284-F3D2A87A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4FD75-64BA-45D2-8535-5096B54F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E1B-D7F6-43A2-8DB7-C9A7A9B7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A2421-BB4C-482C-82D6-861E67C3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9647C-C71F-484F-9F8A-0337BEB2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4B5F5-5CA2-4622-83A5-41B6ED55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9CC31-EC35-416D-9DC9-ED2A1F6F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CAC4D-C901-46C4-A7A6-5466A19E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D9B37-A009-40A2-9CBD-F6D1CC13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35B25-5C16-47A8-8259-F8E02990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7FFF9-8EB7-43F1-AC7C-FDB367B7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3227-32D8-4CCF-94C1-7F894F79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07654-E2AE-4A5A-BD0B-B9BAFACE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FAD-67FD-45B7-9FBF-B489D267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56D1B-B30C-4939-9D58-CE8FB017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3B186-0AEC-4190-A6C3-6FCF1725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A8FD7-7F5B-4B69-8318-7FB4F4DF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CE923-7C61-4FC8-9DA6-3AB5BAD3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97C5E-BB4F-42F0-851E-00FA176B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38C96-CEA6-4E7C-BEEE-3652892E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AFDD1-4E10-463E-8B42-0315F78F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2371D-C6BF-435F-9E41-FD8EDAEC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DBA19-C06F-42E1-AD86-E728EC93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81312-9408-4909-A7F5-1D6ECF04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AB9-5FDB-4985-80B4-A438A12A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DB2B1-FF61-4025-A706-75BC976F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2CF59-E040-411A-8D07-75530B31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B745C-C0AD-4264-8748-79385EAA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52FB3-B2BF-402C-AFCF-DC687218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97892-0357-4C1E-961F-87FF12C9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0FFC8-0C7C-4D79-AD87-3F5FE677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C0C36-4B6B-41D9-8364-2A9B20F8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7C4CD-D92A-4E82-BC61-350DA94C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CAD17-116E-47C4-9C32-C79B7B4C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0E0D6-6180-4E6F-954A-8F22BA55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177-E7BF-4141-B2A2-0B65BAE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A2546-26E3-4324-B763-6529DCA1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B521F-5DA6-4B2D-87B7-8612CDAE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9B16-5783-4A46-9427-06E6F530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C93D9-8DDA-46A6-A139-23E462E1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88944-7E8F-41F2-B710-2BACC2F5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43A47-4954-44FC-94D3-26E097BC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B8554-DE05-4D27-AD2C-F598E39F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55C7F-4686-472C-8E19-0C0CD79A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48B8C-DCC8-4118-9474-2402C86A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54A23-1673-4A59-8BC7-5A1358E0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0051-F5AE-4C89-8472-68B4ACB0A54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5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5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5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6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54F1-7332-46BD-9D79-400281C88A9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10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11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12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15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Group 23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A7E9-3B8C-45FB-AB36-2AA922ADB01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167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168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169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172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BB90-4B29-4866-B67F-A9A2E4D3D46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21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22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23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26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14AA-4234-4231-883B-DC142AB47FD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278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279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280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283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7F16-5AA5-4533-BCB9-35704575274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35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36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37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40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72F-15C4-4AA7-864C-CAFAC6DDED8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392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393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394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397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6DEE-C186-41A0-9D0C-1F7212A2BE7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7"/>
          <p:cNvGrpSpPr/>
          <p:nvPr/>
        </p:nvGrpSpPr>
        <p:grpSpPr>
          <a:xfrm>
            <a:off x="0" y="6570720"/>
            <a:ext cx="9144000" cy="287280"/>
            <a:chOff x="0" y="6570720"/>
            <a:chExt cx="9144000" cy="287280"/>
          </a:xfrm>
        </p:grpSpPr>
        <p:grpSp>
          <p:nvGrpSpPr>
            <p:cNvPr id="446" name="Group 16"/>
            <p:cNvGrpSpPr/>
            <p:nvPr/>
          </p:nvGrpSpPr>
          <p:grpSpPr>
            <a:xfrm>
              <a:off x="0" y="6570720"/>
              <a:ext cx="8756640" cy="286200"/>
              <a:chOff x="0" y="6570720"/>
              <a:chExt cx="8756640" cy="286200"/>
            </a:xfrm>
          </p:grpSpPr>
          <p:grpSp>
            <p:nvGrpSpPr>
              <p:cNvPr id="447" name="Freeform 9"/>
              <p:cNvGrpSpPr/>
              <p:nvPr/>
            </p:nvGrpSpPr>
            <p:grpSpPr>
              <a:xfrm>
                <a:off x="0" y="6705000"/>
                <a:ext cx="8756640" cy="151920"/>
                <a:chOff x="0" y="6705000"/>
                <a:chExt cx="8756640" cy="151920"/>
              </a:xfrm>
            </p:grpSpPr>
            <p:pic>
              <p:nvPicPr>
                <p:cNvPr id="448" name="Freeform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05000"/>
                  <a:ext cx="875664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76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Freeform 10"/>
              <p:cNvGrpSpPr/>
              <p:nvPr/>
            </p:nvGrpSpPr>
            <p:grpSpPr>
              <a:xfrm>
                <a:off x="0" y="6570720"/>
                <a:ext cx="8756640" cy="146160"/>
                <a:chOff x="0" y="6570720"/>
                <a:chExt cx="8756640" cy="146160"/>
              </a:xfrm>
            </p:grpSpPr>
            <p:pic>
              <p:nvPicPr>
                <p:cNvPr id="451" name="Freeform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540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3" name="Group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Chevron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>
                      <a:alpha val="60000"/>
                    </a:srgbClr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Chevron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Chevron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2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15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Chevron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15294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20000"/>
                  </a:srgbClr>
                </a:gs>
                <a:gs pos="100000">
                  <a:srgbClr val="006aed">
                    <a:alpha val="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92BB-9CCE-4445-A44D-B08403DA73D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7.jpeg"/><Relationship Id="rId4" Type="http://schemas.openxmlformats.org/officeDocument/2006/relationships/image" Target="../media/image14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5.jpeg"/><Relationship Id="rId8" Type="http://schemas.openxmlformats.org/officeDocument/2006/relationships/image" Target="../media/image10.jpeg"/><Relationship Id="rId9" Type="http://schemas.openxmlformats.org/officeDocument/2006/relationships/image" Target="../media/image16.jpeg"/><Relationship Id="rId10" Type="http://schemas.openxmlformats.org/officeDocument/2006/relationships/image" Target="../media/image11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Challenge 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WordArt 4"/>
          <p:cNvSpPr txBox="1"/>
          <p:nvPr/>
        </p:nvSpPr>
        <p:spPr>
          <a:xfrm>
            <a:off x="228600" y="76212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aa49aa"/>
                </a:solidFill>
                <a:latin typeface="Cooper Black"/>
              </a:rPr>
              <a:t>Mystery Photo Friday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aa49aa"/>
              </a:solidFill>
              <a:latin typeface="Cooper Black"/>
              <a:ea typeface="Cooper Black"/>
            </a:endParaRPr>
          </a:p>
        </p:txBody>
      </p:sp>
      <p:pic>
        <p:nvPicPr>
          <p:cNvPr id="503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C:\Documents and Settings\kstrong\Local Settings\Temporary Internet Files\Content.IE5\WU1BHSLA\MCHH01619_0000[1].wmf"/>
          <p:cNvPicPr/>
          <p:nvPr/>
        </p:nvPicPr>
        <p:blipFill>
          <a:blip r:embed="rId2"/>
          <a:stretch/>
        </p:blipFill>
        <p:spPr>
          <a:xfrm>
            <a:off x="3124080" y="2666880"/>
            <a:ext cx="24782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Title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8345520" cy="822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Click on the image to reveal the answer"/>
          <p:cNvPicPr/>
          <p:nvPr/>
        </p:nvPicPr>
        <p:blipFill>
          <a:blip r:embed="rId2"/>
          <a:stretch/>
        </p:blipFill>
        <p:spPr>
          <a:xfrm>
            <a:off x="762120" y="990720"/>
            <a:ext cx="1225440" cy="914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Click on the image to reveal the answer"/>
          <p:cNvPicPr/>
          <p:nvPr/>
        </p:nvPicPr>
        <p:blipFill>
          <a:blip r:embed="rId3"/>
          <a:stretch/>
        </p:blipFill>
        <p:spPr>
          <a:xfrm>
            <a:off x="762120" y="1981080"/>
            <a:ext cx="1336680" cy="11145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Click on the image to reveal the answer"/>
          <p:cNvPicPr/>
          <p:nvPr/>
        </p:nvPicPr>
        <p:blipFill>
          <a:blip r:embed="rId4"/>
          <a:stretch/>
        </p:blipFill>
        <p:spPr>
          <a:xfrm>
            <a:off x="685800" y="32004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Click on the image to reveal the answer"/>
          <p:cNvPicPr/>
          <p:nvPr/>
        </p:nvPicPr>
        <p:blipFill>
          <a:blip r:embed="rId5"/>
          <a:stretch/>
        </p:blipFill>
        <p:spPr>
          <a:xfrm>
            <a:off x="685800" y="54864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6" descr="Click on the image to reveal the answer"/>
          <p:cNvPicPr/>
          <p:nvPr/>
        </p:nvPicPr>
        <p:blipFill>
          <a:blip r:embed="rId6"/>
          <a:stretch/>
        </p:blipFill>
        <p:spPr>
          <a:xfrm>
            <a:off x="762120" y="4419720"/>
            <a:ext cx="1199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358480" cy="7318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http://www.whatsfordinner.net/mystery/Mystery09-03Ans.jpg"/>
          <p:cNvPicPr/>
          <p:nvPr/>
        </p:nvPicPr>
        <p:blipFill>
          <a:blip r:embed="rId2"/>
          <a:stretch/>
        </p:blipFill>
        <p:spPr>
          <a:xfrm>
            <a:off x="5334120" y="7621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Click on the image to reveal the answer"/>
          <p:cNvPicPr/>
          <p:nvPr/>
        </p:nvPicPr>
        <p:blipFill>
          <a:blip r:embed="rId3"/>
          <a:stretch/>
        </p:blipFill>
        <p:spPr>
          <a:xfrm>
            <a:off x="914400" y="838080"/>
            <a:ext cx="1279440" cy="10670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http://www.whatsfordinner.net/mystery/Mystery08-30Ans.jpg"/>
          <p:cNvPicPr/>
          <p:nvPr/>
        </p:nvPicPr>
        <p:blipFill>
          <a:blip r:embed="rId4"/>
          <a:stretch/>
        </p:blipFill>
        <p:spPr>
          <a:xfrm>
            <a:off x="5334120" y="205740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Click on the image to reveal the answer"/>
          <p:cNvPicPr/>
          <p:nvPr/>
        </p:nvPicPr>
        <p:blipFill>
          <a:blip r:embed="rId5"/>
          <a:stretch/>
        </p:blipFill>
        <p:spPr>
          <a:xfrm>
            <a:off x="838080" y="1981080"/>
            <a:ext cx="1428840" cy="11908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Click on the image to reveal the answer"/>
          <p:cNvPicPr/>
          <p:nvPr/>
        </p:nvPicPr>
        <p:blipFill>
          <a:blip r:embed="rId6"/>
          <a:stretch/>
        </p:blipFill>
        <p:spPr>
          <a:xfrm>
            <a:off x="838080" y="32004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http://www.whatsfordinner.net/mystery/Mystery08-29Ans.jpg"/>
          <p:cNvPicPr/>
          <p:nvPr/>
        </p:nvPicPr>
        <p:blipFill>
          <a:blip r:embed="rId7"/>
          <a:stretch/>
        </p:blipFill>
        <p:spPr>
          <a:xfrm>
            <a:off x="5334120" y="327672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Click on the image to reveal the answer"/>
          <p:cNvPicPr/>
          <p:nvPr/>
        </p:nvPicPr>
        <p:blipFill>
          <a:blip r:embed="rId8"/>
          <a:stretch/>
        </p:blipFill>
        <p:spPr>
          <a:xfrm>
            <a:off x="838080" y="548640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4" descr="http://www.whatsfordinner.net/mystery/Mystery08-21Ans.jpg"/>
          <p:cNvPicPr/>
          <p:nvPr/>
        </p:nvPicPr>
        <p:blipFill>
          <a:blip r:embed="rId9"/>
          <a:stretch/>
        </p:blipFill>
        <p:spPr>
          <a:xfrm>
            <a:off x="5334120" y="5667480"/>
            <a:ext cx="1428480" cy="11905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6" descr="Click on the image to reveal the answer"/>
          <p:cNvPicPr/>
          <p:nvPr/>
        </p:nvPicPr>
        <p:blipFill>
          <a:blip r:embed="rId10"/>
          <a:stretch/>
        </p:blipFill>
        <p:spPr>
          <a:xfrm>
            <a:off x="838080" y="4267080"/>
            <a:ext cx="1428840" cy="1190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8" descr="http://www.whatsfordinner.net/mystery/Mystery08-19Ans.jpg"/>
          <p:cNvPicPr/>
          <p:nvPr/>
        </p:nvPicPr>
        <p:blipFill>
          <a:blip r:embed="rId11"/>
          <a:stretch/>
        </p:blipFill>
        <p:spPr>
          <a:xfrm>
            <a:off x="5334120" y="4495680"/>
            <a:ext cx="1428480" cy="11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Liz LaRosa</dc:creator>
  <dc:description/>
  <dc:language>en-US</dc:language>
  <cp:lastModifiedBy>Tracy</cp:lastModifiedBy>
  <dcterms:modified xsi:type="dcterms:W3CDTF">2009-10-02T23:52:12Z</dcterms:modified>
  <cp:revision>156</cp:revision>
  <dc:subject/>
  <dc:title>Slide 1</dc:title>
</cp:coreProperties>
</file>