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83E-4860-46EB-8441-6C70D251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6F5-C019-405E-85FD-9F19ED8E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04B25-4229-4707-88EF-1C7DE001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8BA3A-54C9-4DF8-B35A-79642B0E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5A058-D7DF-41DD-8D37-2F2406D8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541D8-3060-47E2-BFEF-674ECD10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0E3F6-C5EE-4DB7-BC9B-1C4803BB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FB9C3-D2D6-44A7-BF2A-47B17D19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3AFDA-E74C-483D-BD5A-7679DE7D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2B917-02BB-42EB-8602-ECA508A1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0C8DB-4F3A-4772-88D6-FF09E4E9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A68B-6318-41DB-9205-F03FC968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F10E-1454-4AC9-BEE7-80B008C2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A2D8-A835-465E-926C-42F49981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11BB-3A06-49F7-8E7D-B7A19346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013F-EA43-4335-B359-3D3E1526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95D0-D9C0-402D-A2BC-1A79554A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DDBD-DEF6-4971-B5A6-6BF12B3F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DA3E-22A9-4E74-AE26-6A29500C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08A9-85CC-49D4-A650-068A58BC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787-34D7-44E3-A6B0-06EC73F4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53C5-E754-4118-B324-B39396DC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0F68-1DA6-400C-8396-D21EFA5B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6532-50C0-412F-9865-DBF521B2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1B3F-53B0-49FF-9049-034E2152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B2F8-5151-452C-BD0E-8FA66284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DE7FC-9BB1-4D13-975E-A9C80423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8DC33-227C-4485-BE8E-EA520107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680D7-69E8-4A31-B12D-B8E72781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C3783-FB43-4CA3-B334-4C6C1C63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9296A-67EE-40B6-8EE9-7421C28E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B78-2973-418B-81B1-D56521AE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FAE3-F049-4575-82D7-69FBFFA4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AAFCF-E128-4BCD-86DF-A0B74652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1B4B3-255C-42BD-9378-98A7473B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BF9F0-6F8E-4F1A-90EF-D66A7657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7D5E7-F9FA-4274-A43C-00BBE809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A609-F2C9-413A-8025-4FF5C166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44D7E-2FB5-4723-A855-78BDC500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84669-0EB0-44B5-8325-FB99FA8C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98E4B-A910-4AF1-9F9A-B8F2B70F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D5F8C-814B-4D5F-9A81-731FCC83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BC3-4AD6-4B05-A04C-6BA6C897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5E41F-B9B4-43A5-82C7-617FED16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72E8F-AA5A-4476-AD1B-EC8A01B5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F70AD-228A-430F-B71D-2BB80890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9FCF6-C3F5-41EE-95DB-C8E88B2A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4B7F6-8127-44CE-88F6-FE09D9F6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2C889-E7A1-4AD1-836F-7074CA73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B40AB-89BA-4A4E-A3B5-D357DF46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29E1A-F314-4E83-A28F-B573FC34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20221-99DD-4B2B-9253-F78D8710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FCDE0-12BF-4256-89D8-51B3789D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E36-4AE6-4683-AEBF-458F3F9A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71FE4-F3A7-4D57-8E13-DD9C17AA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3E1CB-E5B7-4892-B8B7-0B326934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E5954-C30C-4883-BFA4-ECAB6D41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50E00-1DD0-428A-8851-F2A58916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A733A-8EA2-4653-A49E-BF9A25FD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85F91-ACC7-4757-94A5-25B78D17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DAD4B-DBC9-41E9-BA4F-C4BD391C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B6630-9937-495F-89CA-4DE9B8BA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05264-CBAC-43D9-AD33-A80A3C64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80992-F92B-4B6D-B655-0863D91D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8E9-75B8-4A88-8FF9-6EFED8D1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2E38F-2CBA-4F7D-9CC6-4EC11AA2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91269-AA48-4796-98F4-316999D6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1621B-8D29-43AA-B225-837DCCB8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2B02C-1E6F-4A4F-BA33-262D7F45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55BDE-3708-4458-94C0-FEAD4783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69839-129E-4042-B757-00DF2B1E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C6734-33C2-4A9C-88E3-E2DF1957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10AB9-3B7A-489B-B130-DBB400D1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1132D-E07C-4B0D-9B48-5060C8C9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72D49-1C96-492F-B535-8124C82A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572-E9F2-4A00-9665-440D644A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239F2-D89B-49CD-A31A-F14F2FC9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6A5E8-776E-4EA1-8F86-86A8835F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11FE5-AE66-4F2C-971C-6CFD2D6C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17553-41D8-44ED-A582-A9063EDD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F0B12-A463-4392-8779-F09C8338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DE6EA-47F5-4E26-A8C7-6D46367B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1296C-7BF6-40B0-9DB1-36651A9E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5A228-C4F8-4B9C-81FD-3362D7A8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3C415-C186-4D7E-99EF-8E821D82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57047-9159-4CE8-B7C3-A6C29201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2A3-3DD9-433F-98FC-40873896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45AB8-FB31-4F86-8DEA-FF4AA78C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51197-1F66-4C8A-BD13-2927D784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7E686-480B-4F77-8A6F-59AE6D2F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A1FCE-9AF1-4509-8746-0A1045B7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2703C-7DC9-47B4-8F95-3B587F5F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797CC-FAC2-4EEB-BB11-282CE8DC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F9A30-8997-4B5A-B723-250B3A19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3DC43-1F60-40A8-A9CD-30853E60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DC928-9299-44A7-8557-28C4D1E7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57948-3C29-4A44-B595-20E108EC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5FE-719A-4076-85F6-B4110E29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83592-329E-4674-9117-FDF6F231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D4990-264A-4491-B035-798CBB8B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02F28-F9BD-483E-9C63-454976A9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C3A98-BBE8-476C-B55D-90F25970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72190-2D41-4F9F-8010-F2373EFE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812BB-616B-4AA1-A518-2712C240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8F15D-806D-406D-B885-9A5FFD4A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2E948-C769-4060-BE92-7C0C73CB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EDCF7-7B00-4570-B51B-A090C1AC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834A7-D7E3-4EA5-B1F9-2FE58BC2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7681-8A29-4193-B21F-1950AB3D59F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B6C9-7A2C-4A4E-91BD-12753F3C323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AAAB-ACE3-4021-BD12-BC2989DDB14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1CC9-1668-4E03-AE8F-B11F5FA9B5E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3889-1296-4BAF-A23A-6E16C156E34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A7C2-A99B-43F1-BA95-FF76136A6FA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9575-393D-420D-B3AD-AEA0E8E1B63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9BD8-69B8-4853-B060-7C0B4335242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D87C-6C14-4F97-AA13-1F323B8C99C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whatsfordinner.net/Mystery.html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whatsfordinner.net/Mystery.html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whatsfordinner.net/Mystery.html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www.whatsfordinner.net/Mystery.html" TargetMode="External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hallenge 1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WordArt 4"/>
          <p:cNvSpPr txBox="1"/>
          <p:nvPr/>
        </p:nvSpPr>
        <p:spPr>
          <a:xfrm>
            <a:off x="228600" y="762120"/>
            <a:ext cx="8686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aa49aa"/>
                </a:solidFill>
                <a:latin typeface="Cooper Black"/>
              </a:rPr>
              <a:t>Mystery Photo Friday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aa49aa"/>
              </a:solidFill>
              <a:latin typeface="Cooper Black"/>
              <a:ea typeface="Cooper Black"/>
            </a:endParaRPr>
          </a:p>
        </p:txBody>
      </p:sp>
      <p:pic>
        <p:nvPicPr>
          <p:cNvPr id="503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C:\Documents and Settings\kstrong\Local Settings\Temporary Internet Files\Content.IE5\WU1BHSLA\MCHH01619_0000[1].wmf"/>
          <p:cNvPicPr/>
          <p:nvPr/>
        </p:nvPicPr>
        <p:blipFill>
          <a:blip r:embed="rId2"/>
          <a:stretch/>
        </p:blipFill>
        <p:spPr>
          <a:xfrm>
            <a:off x="3124080" y="2666880"/>
            <a:ext cx="247824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Title 1" descr=""/>
          <p:cNvPicPr/>
          <p:nvPr/>
        </p:nvPicPr>
        <p:blipFill>
          <a:blip r:embed="rId1"/>
          <a:stretch/>
        </p:blipFill>
        <p:spPr>
          <a:xfrm>
            <a:off x="347760" y="195120"/>
            <a:ext cx="8345520" cy="822600"/>
          </a:xfrm>
          <a:prstGeom prst="rect">
            <a:avLst/>
          </a:prstGeom>
          <a:ln w="0">
            <a:noFill/>
          </a:ln>
        </p:spPr>
      </p:pic>
      <p:pic>
        <p:nvPicPr>
          <p:cNvPr id="506" name="Content Placeholder 5" descr="Click on the image to reveal the answ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99072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6" descr="Click on the image to reveal the answ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2057400"/>
            <a:ext cx="1200240" cy="990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7" descr="Click on the image to reveal the answ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38080" y="3276720"/>
            <a:ext cx="1200240" cy="990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8" descr="Click on the image to reveal the answe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8080" y="449568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9" descr="Click on the image to reveal the answer"/>
          <p:cNvPicPr/>
          <p:nvPr/>
        </p:nvPicPr>
        <p:blipFill>
          <a:blip r:embed="rId10"/>
          <a:stretch/>
        </p:blipFill>
        <p:spPr>
          <a:xfrm>
            <a:off x="838080" y="5562720"/>
            <a:ext cx="12002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334800" y="268200"/>
            <a:ext cx="8358480" cy="731880"/>
          </a:xfrm>
          <a:prstGeom prst="rect">
            <a:avLst/>
          </a:prstGeom>
          <a:ln w="0">
            <a:noFill/>
          </a:ln>
        </p:spPr>
      </p:pic>
      <p:pic>
        <p:nvPicPr>
          <p:cNvPr id="512" name="Content Placeholder 5" descr="Click on the image to reveal the answer"/>
          <p:cNvPicPr/>
          <p:nvPr/>
        </p:nvPicPr>
        <p:blipFill>
          <a:blip r:embed="rId2"/>
          <a:stretch/>
        </p:blipFill>
        <p:spPr>
          <a:xfrm>
            <a:off x="838080" y="99072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Click on the image to reveal the answer"/>
          <p:cNvPicPr/>
          <p:nvPr/>
        </p:nvPicPr>
        <p:blipFill>
          <a:blip r:embed="rId3"/>
          <a:stretch/>
        </p:blipFill>
        <p:spPr>
          <a:xfrm>
            <a:off x="838080" y="2057400"/>
            <a:ext cx="1200240" cy="9907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Click on the image to reveal the answer"/>
          <p:cNvPicPr/>
          <p:nvPr/>
        </p:nvPicPr>
        <p:blipFill>
          <a:blip r:embed="rId4"/>
          <a:stretch/>
        </p:blipFill>
        <p:spPr>
          <a:xfrm>
            <a:off x="838080" y="3276720"/>
            <a:ext cx="1200240" cy="9903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Click on the image to reveal the answer"/>
          <p:cNvPicPr/>
          <p:nvPr/>
        </p:nvPicPr>
        <p:blipFill>
          <a:blip r:embed="rId5"/>
          <a:stretch/>
        </p:blipFill>
        <p:spPr>
          <a:xfrm>
            <a:off x="838080" y="449568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Click on the image to reveal the answer"/>
          <p:cNvPicPr/>
          <p:nvPr/>
        </p:nvPicPr>
        <p:blipFill>
          <a:blip r:embed="rId6"/>
          <a:stretch/>
        </p:blipFill>
        <p:spPr>
          <a:xfrm>
            <a:off x="838080" y="5562720"/>
            <a:ext cx="1200240" cy="9903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http://www.whatsfordinner.net/mystery/Mystery08-26Ans.jpg"/>
          <p:cNvPicPr/>
          <p:nvPr/>
        </p:nvPicPr>
        <p:blipFill>
          <a:blip r:embed="rId7"/>
          <a:stretch/>
        </p:blipFill>
        <p:spPr>
          <a:xfrm>
            <a:off x="5486400" y="9907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1" descr="http://www.whatsfordinner.net/mystery/Mystery08-27Ans.jpg"/>
          <p:cNvPicPr/>
          <p:nvPr/>
        </p:nvPicPr>
        <p:blipFill>
          <a:blip r:embed="rId8"/>
          <a:stretch/>
        </p:blipFill>
        <p:spPr>
          <a:xfrm>
            <a:off x="5486400" y="205740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2" descr="http://www.whatsfordinner.net/mystery/Mystery08-25Ans.jpg"/>
          <p:cNvPicPr/>
          <p:nvPr/>
        </p:nvPicPr>
        <p:blipFill>
          <a:blip r:embed="rId9"/>
          <a:stretch/>
        </p:blipFill>
        <p:spPr>
          <a:xfrm>
            <a:off x="5486400" y="3200400"/>
            <a:ext cx="1247760" cy="10526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3" descr="http://www.whatsfordinner.net/mystery/Mystery08-24Ans.jpg"/>
          <p:cNvPicPr/>
          <p:nvPr/>
        </p:nvPicPr>
        <p:blipFill>
          <a:blip r:embed="rId10"/>
          <a:stretch/>
        </p:blipFill>
        <p:spPr>
          <a:xfrm>
            <a:off x="5486400" y="4419720"/>
            <a:ext cx="1295280" cy="9144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4" descr="http://www.whatsfordinner.net/mystery/Mystery08-23Ans.jpg"/>
          <p:cNvPicPr/>
          <p:nvPr/>
        </p:nvPicPr>
        <p:blipFill>
          <a:blip r:embed="rId11"/>
          <a:stretch/>
        </p:blipFill>
        <p:spPr>
          <a:xfrm>
            <a:off x="5486400" y="5486400"/>
            <a:ext cx="12952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Tracy</cp:lastModifiedBy>
  <dcterms:modified xsi:type="dcterms:W3CDTF">2009-10-02T23:51:27Z</dcterms:modified>
  <cp:revision>155</cp:revision>
  <dc:subject/>
  <dc:title>Slide 1</dc:title>
</cp:coreProperties>
</file>