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EA89-9629-42D2-88D0-C52BA903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2C54-23BD-4174-B9D4-5F7F955A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52E0D-D4CB-4068-9C11-4760D54E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130CA-6F43-4D81-8163-B19FBDC8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0439B-BE36-452C-9B98-A0C32AD9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427D9-03AE-467F-99C8-E45885AB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99631-C919-424F-B200-2DF2AD32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B713C-55D5-41BA-B175-176E72AF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F0F09-E26E-4B7A-98F6-446326EE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999F5-08EC-4264-A759-434FCE24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E9D4C-BEF3-41E5-9885-79FAA8F5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8D1D-0522-4CD1-906C-B7260C06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DD68-CF8E-4187-AE76-E80244FA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3A8B-BB48-46BC-825B-B30F61DB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6489-1463-4DBE-8371-3DB24104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D359-7FA5-4C2F-A0E4-1BC83439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EE4B-07CD-47C5-A8B1-BF4B1B3C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CDAD-72A7-4975-A3E7-D6696BC8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D1B4-2E46-42D7-8B90-163431F8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A036-1D26-4C16-AAB0-788BB122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7FAC-9E8B-44A9-9E44-2C649106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217D-5FEF-430F-8B64-B6E53C86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D68F-B164-444A-A912-68654F4A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9339-CB95-4E24-8279-5A5D1F4A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A17B-E3DA-476B-8100-6E1D04B5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FA28-1A61-4A6B-9447-5E0B4916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5BA3F-D730-49E7-9D3F-0C88AAB9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1BB45-E33B-435E-9DF1-63C5CC96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239C8-F9DA-4453-9D36-2856DD79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71CF3-220D-47D9-9048-98AB69B6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08D99-B299-491F-8C30-D38D200A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BA3-71A1-4205-8D0F-AB765A26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BA6E6-F0B3-44E9-96FA-584E6287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5FFA4-BF54-4588-BFAE-65865B3F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2F1F9-1DFF-4B0E-85DD-1A6935AE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B7C0C-00A6-40E8-BCEF-3BB82F08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563DF-C8BF-4E30-BF85-1016FDFE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C0160-2D4A-4C5D-8DFD-E580A988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14AC4-EA81-4B98-8963-670FFA20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26C2A-9744-4A48-997F-5A1BF931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BE9B3-B8DD-43F1-9CBA-E1C9079D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E435D-2943-47D1-B6C5-9CA54D83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668-28AC-4227-A5EC-97915ABE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5F229-096E-4447-8BCD-7CA4C68D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F0474-D888-457C-846F-ACBA4ED6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DA374-55F5-4A1A-8CAB-DE6BA52D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1FA46-2278-4227-9436-AC8AD95D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2D64B-0210-4F78-9B26-4004DB2E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43E8E-2BA2-4381-ADF5-555F5526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6C2A0-5FDE-40F3-BBE6-1D4B66E4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16DAD-E5E2-495B-AA6C-90D44688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0654F-AE5E-4066-8E3E-EC94E1B2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4A8F7-9B06-4B1A-A6DA-20C57126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3B97-8A71-47CC-BBD8-360A19A6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80183-9886-4A0F-9AC7-12ABC8EB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530B4-37DE-4B49-B40B-4EE9C711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40762-5E71-4B0D-B32A-C3BBE24C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6ADC7-FAE3-4D95-B2B6-0C95122A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E936E-E6E4-4FD3-B363-94274642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0077D-7290-4520-8A0B-20546E4E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DF7D4-3F25-479B-BFED-52D7EEE2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E73C4-712F-4D32-A3A4-5A686634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78AA5-E93B-4A52-951B-EF73BD98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CCFE6-43CD-4762-AFFE-3B6D181C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C04E-DCA7-45A6-852D-29220238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B7EDC-4A0B-460C-ABFA-257CF4CF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ED239-AFA2-413B-96BE-6D2E2AE3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98047-1E17-4CCC-AE07-67F2CCCF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4A67D-0C94-4FAC-9050-170F8C03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7ECAB-0D82-4781-AD79-594A9E22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387F1-CEE2-443F-8414-F1EC5BFA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CD171-8F9E-47CE-BB04-4F0A4AAD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8C260-08B5-4613-81BB-BEC8E08A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8BDA2-86B9-4F1A-B7A5-BBEA2C9D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5E055-50D4-4CF7-B2FC-0DA9E3CC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DDAE-B61E-4006-A0AF-37839342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7315B-CEA9-4139-9DAA-EC71CDFF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02805-9BE6-417F-825C-AC3045B3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E6EB9-8DCF-4731-A730-661F847F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FC071-7E9B-4328-9DD8-25D72BA1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51B67-E1D5-4A9D-8DA0-086E355D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563FF-C99A-4AD7-A5E4-3FE3330D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79896-E87A-4419-89AF-E0607696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B569B-91CD-44A3-91B7-47DA0957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34000-5D15-41B5-B4F9-05791A21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572C4-3648-4CEA-9D6D-2920892D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C446-F804-4F93-A5A7-93C2C4F5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4A3E9-6393-4BDA-B242-3CC050B2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D14E7-BC16-457A-9002-FF783C27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7A1B6-DC7E-4FB4-BC75-DE4A087D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CF062-ACA0-420A-B30F-7501ED6A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2AF54-139C-4FF6-B237-E3115F23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E3B6A-6237-49D6-9568-216CA629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CD591-2419-44D8-B5FB-7F259032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EF83A-2735-49FA-A59C-796E4EA6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F9F60-BFBC-46F8-B776-7D49D052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82DA8-2CAC-431A-AE2E-9C45DC81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4938-20CE-41F9-9A6D-9B7EA53C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36B54-9DDA-45CF-8F19-B6BC087D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61F54-E618-4370-BF14-8825A5CA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8DDB9-F3A6-4DB3-A143-CEF93BD3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8F21D-E06D-43C7-B95C-A6506558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BA65E-1973-4954-B079-4C23B3F9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47BFC-ACB1-46B0-8DCD-FED03208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168CD-7927-4606-B4D1-67BB503D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BDDA5-6BEF-4C68-AC37-1C1AA8C2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D983C-A476-4CBF-847B-01CC0F70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CA650-96F9-403D-9192-72DC78E7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7F5B-A550-4EAB-8ED3-6710AFC7326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5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5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5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6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6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C1CB-7DDD-4B11-9508-496DBE40CA9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10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11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12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15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18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Group 23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22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1C1E-D00C-48CD-A98D-54A59E10A4C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67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68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69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72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75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19A5-153D-41ED-9701-DBD3E352373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21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22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23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26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29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33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F23A-9A79-4657-A36E-9E1180B3E4B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78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79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80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83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86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90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7F4B-4436-45CF-BD21-52B5A7721E3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35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36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37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40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343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347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1B60-3F91-4261-8D46-3CBB85F45DD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9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9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9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9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0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8A46-3659-49B5-A809-75C810D7CA3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44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44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4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45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5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458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7908-2F54-429E-940F-8978A13D840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whatsfordinner.net/Mystery.html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whatsfordinner.net/Mystery.html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www.whatsfordinner.net/Mystery.html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www.whatsfordinner.net/Mystery.html" TargetMode="External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hallenge 1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2" name="WordArt 4"/>
          <p:cNvSpPr txBox="1"/>
          <p:nvPr/>
        </p:nvSpPr>
        <p:spPr>
          <a:xfrm>
            <a:off x="228600" y="762120"/>
            <a:ext cx="8686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aa49aa"/>
                </a:solidFill>
                <a:latin typeface="Cooper Black"/>
              </a:rPr>
              <a:t>Mystery Photo Friday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aa49aa"/>
              </a:solidFill>
              <a:latin typeface="Cooper Black"/>
              <a:ea typeface="Cooper Black"/>
            </a:endParaRPr>
          </a:p>
        </p:txBody>
      </p:sp>
      <p:pic>
        <p:nvPicPr>
          <p:cNvPr id="503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C:\Documents and Settings\kstrong\Local Settings\Temporary Internet Files\Content.IE5\WU1BHSLA\MCHH01619_0000[1].wmf"/>
          <p:cNvPicPr/>
          <p:nvPr/>
        </p:nvPicPr>
        <p:blipFill>
          <a:blip r:embed="rId2"/>
          <a:stretch/>
        </p:blipFill>
        <p:spPr>
          <a:xfrm>
            <a:off x="3124080" y="2666880"/>
            <a:ext cx="247824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Title 1" descr=""/>
          <p:cNvPicPr/>
          <p:nvPr/>
        </p:nvPicPr>
        <p:blipFill>
          <a:blip r:embed="rId1"/>
          <a:stretch/>
        </p:blipFill>
        <p:spPr>
          <a:xfrm>
            <a:off x="347760" y="195120"/>
            <a:ext cx="8345520" cy="822600"/>
          </a:xfrm>
          <a:prstGeom prst="rect">
            <a:avLst/>
          </a:prstGeom>
          <a:ln w="0">
            <a:noFill/>
          </a:ln>
        </p:spPr>
      </p:pic>
      <p:pic>
        <p:nvPicPr>
          <p:cNvPr id="506" name="Content Placeholder 5" descr="Click on the image to reveal the answ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990720"/>
            <a:ext cx="1200240" cy="9144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6" descr="Click on the image to reveal the answe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2057400"/>
            <a:ext cx="1200240" cy="9907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7" descr="Click on the image to reveal the answe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38080" y="3276720"/>
            <a:ext cx="1200240" cy="990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8" descr="Click on the image to reveal the answer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38080" y="4495680"/>
            <a:ext cx="1200240" cy="9144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9" descr="Click on the image to reveal the answer"/>
          <p:cNvPicPr/>
          <p:nvPr/>
        </p:nvPicPr>
        <p:blipFill>
          <a:blip r:embed="rId10"/>
          <a:stretch/>
        </p:blipFill>
        <p:spPr>
          <a:xfrm>
            <a:off x="838080" y="5562720"/>
            <a:ext cx="120024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334800" y="268200"/>
            <a:ext cx="8358480" cy="731880"/>
          </a:xfrm>
          <a:prstGeom prst="rect">
            <a:avLst/>
          </a:prstGeom>
          <a:ln w="0">
            <a:noFill/>
          </a:ln>
        </p:spPr>
      </p:pic>
      <p:pic>
        <p:nvPicPr>
          <p:cNvPr id="512" name="Content Placeholder 5" descr="Click on the image to reveal the answer"/>
          <p:cNvPicPr/>
          <p:nvPr/>
        </p:nvPicPr>
        <p:blipFill>
          <a:blip r:embed="rId2"/>
          <a:stretch/>
        </p:blipFill>
        <p:spPr>
          <a:xfrm>
            <a:off x="838080" y="990720"/>
            <a:ext cx="1200240" cy="9144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Click on the image to reveal the answer"/>
          <p:cNvPicPr/>
          <p:nvPr/>
        </p:nvPicPr>
        <p:blipFill>
          <a:blip r:embed="rId3"/>
          <a:stretch/>
        </p:blipFill>
        <p:spPr>
          <a:xfrm>
            <a:off x="838080" y="2057400"/>
            <a:ext cx="1200240" cy="9907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Click on the image to reveal the answer"/>
          <p:cNvPicPr/>
          <p:nvPr/>
        </p:nvPicPr>
        <p:blipFill>
          <a:blip r:embed="rId4"/>
          <a:stretch/>
        </p:blipFill>
        <p:spPr>
          <a:xfrm>
            <a:off x="838080" y="3276720"/>
            <a:ext cx="1200240" cy="9903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8" descr="Click on the image to reveal the answer"/>
          <p:cNvPicPr/>
          <p:nvPr/>
        </p:nvPicPr>
        <p:blipFill>
          <a:blip r:embed="rId5"/>
          <a:stretch/>
        </p:blipFill>
        <p:spPr>
          <a:xfrm>
            <a:off x="838080" y="4495680"/>
            <a:ext cx="1200240" cy="9144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Click on the image to reveal the answer"/>
          <p:cNvPicPr/>
          <p:nvPr/>
        </p:nvPicPr>
        <p:blipFill>
          <a:blip r:embed="rId6"/>
          <a:stretch/>
        </p:blipFill>
        <p:spPr>
          <a:xfrm>
            <a:off x="838080" y="5562720"/>
            <a:ext cx="1200240" cy="9903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http://www.whatsfordinner.net/mystery/Mystery08-26Ans.jpg"/>
          <p:cNvPicPr/>
          <p:nvPr/>
        </p:nvPicPr>
        <p:blipFill>
          <a:blip r:embed="rId7"/>
          <a:stretch/>
        </p:blipFill>
        <p:spPr>
          <a:xfrm>
            <a:off x="5486400" y="99072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1" descr="http://www.whatsfordinner.net/mystery/Mystery08-27Ans.jpg"/>
          <p:cNvPicPr/>
          <p:nvPr/>
        </p:nvPicPr>
        <p:blipFill>
          <a:blip r:embed="rId8"/>
          <a:stretch/>
        </p:blipFill>
        <p:spPr>
          <a:xfrm>
            <a:off x="5486400" y="205740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2" descr="http://www.whatsfordinner.net/mystery/Mystery08-25Ans.jpg"/>
          <p:cNvPicPr/>
          <p:nvPr/>
        </p:nvPicPr>
        <p:blipFill>
          <a:blip r:embed="rId9"/>
          <a:stretch/>
        </p:blipFill>
        <p:spPr>
          <a:xfrm>
            <a:off x="5486400" y="3200400"/>
            <a:ext cx="1247760" cy="10526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3" descr="http://www.whatsfordinner.net/mystery/Mystery08-24Ans.jpg"/>
          <p:cNvPicPr/>
          <p:nvPr/>
        </p:nvPicPr>
        <p:blipFill>
          <a:blip r:embed="rId10"/>
          <a:stretch/>
        </p:blipFill>
        <p:spPr>
          <a:xfrm>
            <a:off x="5486400" y="4419720"/>
            <a:ext cx="1295280" cy="9144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4" descr="http://www.whatsfordinner.net/mystery/Mystery08-23Ans.jpg"/>
          <p:cNvPicPr/>
          <p:nvPr/>
        </p:nvPicPr>
        <p:blipFill>
          <a:blip r:embed="rId11"/>
          <a:stretch/>
        </p:blipFill>
        <p:spPr>
          <a:xfrm>
            <a:off x="5486400" y="5486400"/>
            <a:ext cx="12952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Liz LaRosa</dc:creator>
  <dc:description/>
  <dc:language>en-US</dc:language>
  <cp:lastModifiedBy>Tracy</cp:lastModifiedBy>
  <dcterms:modified xsi:type="dcterms:W3CDTF">2009-10-02T23:51:27Z</dcterms:modified>
  <cp:revision>155</cp:revision>
  <dc:subject/>
  <dc:title>Slide 1</dc:title>
</cp:coreProperties>
</file>