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E04-4F64-4F35-8F9C-774570CC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C96-A3AC-4C0A-9CA7-FD77E626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EC1-D423-42C7-8C39-2BE84AE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28A-B819-408E-AADD-72E151E0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D90-D51C-425E-A373-8E048E1D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EB2-9516-45E1-BCEA-16ACD8D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9F6-2AE7-4EA1-A21A-E556804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324-A259-4210-8687-5CF1C96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F04-40AB-4BE7-A698-39915E7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2B9-2278-4C37-BA58-08A5E20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752-47A2-456D-92FA-D654A40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5C7-88F2-41D8-9501-2DA2B15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8B2-E0C6-47E5-826C-4627F07D6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orter@saintcolumbanschool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85680" y="-152280"/>
            <a:ext cx="4778280" cy="462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psorter.STCS0\AppData\Local\Microsoft\Windows\Temporary Internet Files\Content.IE5\4FEJKFQQ\11-lime-lemon-400x400[1].jpg"/>
          <p:cNvPicPr/>
          <p:nvPr/>
        </p:nvPicPr>
        <p:blipFill>
          <a:blip r:embed="rId2"/>
          <a:stretch/>
        </p:blipFill>
        <p:spPr>
          <a:xfrm>
            <a:off x="1219320" y="4038480"/>
            <a:ext cx="232416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psorter.STCS0\AppData\Local\Microsoft\Windows\Temporary Internet Files\Content.IE5\FW3NL1ER\cleaning_bathroom.preview[1].jpg"/>
          <p:cNvPicPr/>
          <p:nvPr/>
        </p:nvPicPr>
        <p:blipFill>
          <a:blip r:embed="rId3"/>
          <a:stretch/>
        </p:blipFill>
        <p:spPr>
          <a:xfrm>
            <a:off x="4425840" y="1981080"/>
            <a:ext cx="441036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5105520" y="609480"/>
            <a:ext cx="12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9:42:09Z</dcterms:created>
  <dc:creator>Patty Sorter</dc:creator>
  <dc:description/>
  <dc:language>en-US</dc:language>
  <cp:lastModifiedBy>Tracy Tomm</cp:lastModifiedBy>
  <dcterms:modified xsi:type="dcterms:W3CDTF">2015-01-15T20:19:14Z</dcterms:modified>
  <cp:revision>18</cp:revision>
  <dc:subject/>
  <dc:title>Acids  and  Bases</dc:title>
</cp:coreProperties>
</file>