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7304-F924-4497-9087-678921B76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0006-2A73-4BF3-9927-3D14EC27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BA8D-6344-400F-8AC7-CD58C5B1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1E23-BB42-4DEF-A57E-B3D68070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8AD5-0B3C-4D0A-8B41-99E1D693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20F4-CC7C-4220-B6A2-2CCA8566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8AC8-ACDE-48D3-A611-15AAC46E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7442-5AD2-46C1-9EF9-1FA086DB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CA66-4242-4CD6-AAD7-B7DEBBA3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A616-96B3-4198-B550-23AAF0F4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EA86-610C-4538-A66E-C651A5F1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EAA3-7360-49D1-985A-01BBC795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E420-D281-41F7-A5F8-E1146C62E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0" y="6488280"/>
            <a:ext cx="9144000" cy="3682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sorter@saintcolumbanschool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Title 1" descr=""/>
          <p:cNvPicPr/>
          <p:nvPr/>
        </p:nvPicPr>
        <p:blipFill>
          <a:blip r:embed="rId1"/>
          <a:stretch/>
        </p:blipFill>
        <p:spPr>
          <a:xfrm>
            <a:off x="85680" y="-152280"/>
            <a:ext cx="4778280" cy="4620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psorter.STCS0\AppData\Local\Microsoft\Windows\Temporary Internet Files\Content.IE5\4FEJKFQQ\11-lime-lemon-400x400[1].jpg"/>
          <p:cNvPicPr/>
          <p:nvPr/>
        </p:nvPicPr>
        <p:blipFill>
          <a:blip r:embed="rId2"/>
          <a:stretch/>
        </p:blipFill>
        <p:spPr>
          <a:xfrm>
            <a:off x="1219320" y="4038480"/>
            <a:ext cx="2324160" cy="2324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psorter.STCS0\AppData\Local\Microsoft\Windows\Temporary Internet Files\Content.IE5\FW3NL1ER\cleaning_bathroom.preview[1].jpg"/>
          <p:cNvPicPr/>
          <p:nvPr/>
        </p:nvPicPr>
        <p:blipFill>
          <a:blip r:embed="rId3"/>
          <a:stretch/>
        </p:blipFill>
        <p:spPr>
          <a:xfrm>
            <a:off x="4425840" y="1981080"/>
            <a:ext cx="4410360" cy="4267440"/>
          </a:xfrm>
          <a:prstGeom prst="rect">
            <a:avLst/>
          </a:prstGeom>
          <a:ln w="0">
            <a:noFill/>
          </a:ln>
        </p:spPr>
      </p:pic>
      <p:sp>
        <p:nvSpPr>
          <p:cNvPr id="45" name="TextBox 9"/>
          <p:cNvSpPr/>
          <p:nvPr/>
        </p:nvSpPr>
        <p:spPr>
          <a:xfrm>
            <a:off x="5105520" y="609480"/>
            <a:ext cx="129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#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3"/>
          <p:cNvSpPr/>
          <p:nvPr/>
        </p:nvSpPr>
        <p:spPr>
          <a:xfrm>
            <a:off x="0" y="0"/>
            <a:ext cx="9372600" cy="67345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hoose A, B, or C for each question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tances that tastes sour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tances with a bitter taste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ny cleaning products and medicine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 Water has a pH of 7 and is therefor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idered to b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ids mixed with bases can creat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tances that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. Vinegar and lemonade are bot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. neutr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B. bases        C. ac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0" y="0"/>
            <a:ext cx="9372600" cy="67345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hoose A, B, or C for each question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tances that tastes sour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_C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tances with a bitter taste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ny cleaning products and medicine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 Water has a pH of 7 and is therefor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idered to b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ids mixed with bases can creat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tances that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. Vinegar and lemonade are bot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. neutr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B. bases        C. ac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0" y="0"/>
            <a:ext cx="9372600" cy="67345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hoose A, B, or C for each question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tances that tastes sour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_C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tances with a bitter taste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_B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ny cleaning products and medicine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 Water has a pH of 7 and is therefor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idered to b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ids mixed with bases can creat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tances that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. Vinegar and lemonade are bot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. neutr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B. bases        C. ac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0" y="0"/>
            <a:ext cx="9372600" cy="67345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hoose A, B, or C for each question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tances that tastes sour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_C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tances with a bitter taste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_B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ny cleaning products and medicine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B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 Water has a pH of 7 and is therefor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idered to b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ids mixed with bases can creat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tances that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. Vinegar and lemonade are bot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. neutr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B. bases        C. ac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0" y="0"/>
            <a:ext cx="9372600" cy="67345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hoose A, B, or C for each question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tances that tastes sour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_C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tances with a bitter taste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_B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ny cleaning products and medicine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B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 Water has a pH of 7 and is therefor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idered to b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_A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ids mixed with bases can creat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tances that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. Vinegar and lemonade are bot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. neutr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B. bases        C. ac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0" y="0"/>
            <a:ext cx="9372600" cy="67345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hoose A, B, or C for each question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tances that tastes sour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_C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tances with a bitter taste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_B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ny cleaning products and medicine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B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 Water has a pH of 7 and is therefor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idered to b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_A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ids mixed with bases can creat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tances that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_A_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. Vinegar and lemonade are bot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_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. neutr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B. bases        C. ac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0" y="0"/>
            <a:ext cx="9372600" cy="67345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Choose A, B, or C for each question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tances that tastes sour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_C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tances with a bitter taste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_B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ny cleaning products and medicine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B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 Water has a pH of 7 and is therefor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idered to b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_A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ids mixed with bases can creat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bstances that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_A_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. Vinegar and lemonade are both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_C_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. neutr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B. bases        C. ac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19:42:09Z</dcterms:created>
  <dc:creator>Patty Sorter</dc:creator>
  <dc:description/>
  <dc:language>en-US</dc:language>
  <cp:lastModifiedBy>Tracy Tomm</cp:lastModifiedBy>
  <dcterms:modified xsi:type="dcterms:W3CDTF">2015-01-15T20:19:14Z</dcterms:modified>
  <cp:revision>18</cp:revision>
  <dc:subject/>
  <dc:title>Acids  and  Bases</dc:title>
</cp:coreProperties>
</file>