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123-FE9F-438C-A16B-7E278EEE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CBA-85A8-43EB-9BBB-D350C93E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037-9457-4D43-8689-B940FB0F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052-4977-4804-8DE4-539DCC60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8AE-476E-4822-93C5-A2B12662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066-4FD9-4910-9A98-86EE1DEB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FB1-8A29-4600-9E9F-B5AFCE7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B9C-12AD-4AF3-BA7D-9DC556C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BBE-6A4F-41A7-95B2-7A8F55E4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9A0-854A-422F-9AC1-F1DCEB4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F31-A3F0-4A06-A145-66DFC07A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2B9-5BDA-416E-BCDA-D1C071EE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4957-C9D6-4ECC-B593-CAE8DD923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819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ne 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idopte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can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ca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 and its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forms in the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s between life forms in an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forces that change and shape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1143000"/>
            <a:ext cx="5257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Volca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ound and its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Life forms in the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nteractions between life forms in an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Studies forces that change and shape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Volcan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031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u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768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Lepidopte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05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arine 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267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Geo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46:09Z</dcterms:modified>
  <cp:revision>39</cp:revision>
  <dc:subject/>
  <dc:title>Slide 1</dc:title>
</cp:coreProperties>
</file>