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595-A7B5-4656-8AF4-B34E2C75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A19-7FDF-4DA6-A71B-C877E9A2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B5B-8EF6-4677-902F-25FC9CD5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13C-F6E3-4631-8D8C-072F58A1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D31-DC9D-4890-91B0-5B19DF40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878-5419-49A7-9B21-701158CB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ED9-0861-4570-80A9-F0CD71C2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3B1A-A65A-456A-977B-A72FFE9F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4D6-C36F-4B7F-B3DB-56AFD35C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A4E-51F5-4B16-8CB4-253FCC51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BC4-64E1-45B3-B8C3-78EFB1F3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8A5-F55A-4129-AC50-FBD57B4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1DBD-5FDB-46BB-AB51-22740D472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819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ne 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pidopte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can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can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 and its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forms in the oc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s between life forms in an 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forces that change and shape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1143000"/>
            <a:ext cx="5257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Volcan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ound and its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Life forms in the oc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nteractions between life forms in an 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Studies forces that change and shape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Volcan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0318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u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768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Lepidopte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05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arine 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267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Geo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46:09Z</dcterms:modified>
  <cp:revision>39</cp:revision>
  <dc:subject/>
  <dc:title>Slide 1</dc:title>
</cp:coreProperties>
</file>