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01A-CC38-4A6E-A3DF-85ADE1C8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76A-97D4-4819-B1C7-29372EAC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DC9-76D9-4C4E-9F6B-73E4D30B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3CA-BC6D-4499-B243-927281FC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15A-1DD1-41BE-BC42-5F46FA24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F41-E7DD-4BCC-ACA3-D5152C7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3B0-B84B-43E8-A043-94B7B677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0BD-0848-4A0B-B4B4-4180304B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A5D-F6E3-44A2-8728-4EE18CE5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7FB-8B55-48A9-AB9B-C9EC1AFA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686-5605-4A1A-BFD0-DEE3DAF2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FEB-C363-4676-87E9-D8A2163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7CD1-89F3-4D32-9313-4B49285B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590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ma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&amp; the wat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org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&amp; it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371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Vi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28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yd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1910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Physic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0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icrob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0115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eis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923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ema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1066680"/>
            <a:ext cx="5334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&amp; the wat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, forces, &amp;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org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&amp; its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46:53Z</dcterms:modified>
  <cp:revision>35</cp:revision>
  <dc:subject/>
  <dc:title>Slide 1</dc:title>
</cp:coreProperties>
</file>