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EC9-CE0E-45F8-A506-999A8209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518-7F08-45CF-96A7-1AF6C126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D9C-F8FA-4D42-AC03-6E17CA42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D1F-A5BB-4B04-8C21-0C62A0F6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583-B014-470D-BCDC-4D8DDC68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B57-17C6-49AB-90CE-29A73733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C067-C013-4B33-A823-F8FEE887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975-A9E2-40DF-9BDD-DC443E3A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314-1AD4-4300-94D1-B7DBFAE3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E8A-6557-42D6-8BC9-391AC987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8A5-5960-443C-8006-9B4F7948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EB0A-D00E-4BF4-A54F-7A80D0C1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B218-295C-456D-B3A0-2B370EC52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838080"/>
            <a:ext cx="8382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Name-The-Ologist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795840"/>
            <a:ext cx="2895840" cy="27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6477120"/>
            <a:ext cx="5334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339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 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es each of these scientists stu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1285920"/>
            <a:ext cx="2590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mat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b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ism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85920"/>
            <a:ext cx="5334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&amp; the wat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, forces, &amp;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copic organis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 &amp; its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181944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371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Vir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281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ydr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1910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Physic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0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Microb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0115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Seism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923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emat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1066680"/>
            <a:ext cx="5334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&amp; the wat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, forces, &amp;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copic organis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 &amp; its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8:46:53Z</dcterms:modified>
  <cp:revision>35</cp:revision>
  <dc:subject/>
  <dc:title>Slide 1</dc:title>
</cp:coreProperties>
</file>