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60A5-651F-4E99-BD43-65BD09C9B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6B03-7C11-4307-B7F8-DB583A6A1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E67A-EDB1-440A-AB94-AE991232B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DC1F-0248-4122-9506-C09991253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3707-AC64-4A14-A1F6-95271A526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BAC4-68B6-4B86-B9F2-FA2A02F20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00CF-6033-4D4A-B17A-EB20126ED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9FE7-788E-4477-8D7D-E79880CB6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9AAA-9C77-4350-AFA3-07E338078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3002-B510-461B-8333-A346BD11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C7C8-7313-4469-AFDC-DA0CE440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95CF-1410-471B-AF96-ED61238D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3AC50-F954-485A-8C38-CD774AA26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80880" y="838080"/>
            <a:ext cx="838224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latin typeface="Cooper Black"/>
              </a:rPr>
              <a:t>Name-The-Ologist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009999"/>
              </a:solidFill>
              <a:latin typeface="Cooper Black"/>
              <a:ea typeface="Cooper Blac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0880" y="3795840"/>
            <a:ext cx="2895840" cy="2709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657600" y="6477120"/>
            <a:ext cx="5334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477120" y="152280"/>
            <a:ext cx="2381040" cy="447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733920" y="48769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llenge #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380880"/>
            <a:ext cx="861048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does each of these scientists stud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19920" y="1285920"/>
            <a:ext cx="25905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petolog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mma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c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nith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sit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xonom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285920"/>
            <a:ext cx="53341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tiles &amp; amphib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m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581280" y="4952880"/>
            <a:ext cx="1819440" cy="16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380880"/>
            <a:ext cx="861048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447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Myc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1143000"/>
            <a:ext cx="5333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tiles &amp; amphib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m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2178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Ornith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29098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Herpet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364176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. Tax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437364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Mamma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51055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 Parasit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05-31T18:34:51Z</dcterms:modified>
  <cp:revision>32</cp:revision>
  <dc:subject/>
  <dc:title>Slide 1</dc:title>
</cp:coreProperties>
</file>