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898-1018-4786-A579-A6106B63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819-AE9B-4822-9A21-527B3AEB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5CE-D5FD-46A7-9056-C0C14F93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2D8-881A-405F-9132-9B5C7EAE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43A-9F28-4848-9004-515B154B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219-FEAC-44A9-B133-72A276A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7B5-E83F-4766-A99C-CD737E50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430-9AAA-459C-9562-0F13DB2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F4D-853A-4F9F-BC41-FE2F47C8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FB0-0D05-4654-985C-54203C1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2D7-0463-4473-A9EB-E3C395F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CF8-B4B4-468B-A0C2-BDED0BF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7C58-9D47-44F3-9F23-151FC81E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838080"/>
            <a:ext cx="83822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Name-The-Ologist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795840"/>
            <a:ext cx="2895840" cy="270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6477120"/>
            <a:ext cx="5334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each of these scientists stu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1285920"/>
            <a:ext cx="2590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pet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nit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8592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 &amp; amphib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181944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447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y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143000"/>
            <a:ext cx="533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 &amp; amphib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178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nith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909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erpe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641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373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amma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05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Parasit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8:34:51Z</dcterms:modified>
  <cp:revision>32</cp:revision>
  <dc:subject/>
  <dc:title>Slide 1</dc:title>
</cp:coreProperties>
</file>