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89C2-843B-4DAE-A6FE-FEFD8125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E361-EF3D-40F6-98B6-7D1E39AC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2B28-C52C-4A8F-BDD5-E71C7302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72C2-5C37-428C-A72E-C3CE6224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7707-BBE3-41BE-B176-5CEBDF22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C86C-C1EE-4A47-96AB-B8C5019C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4F8-1672-4738-A42B-8974332C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A74-8227-4CB8-8336-2ADAD447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275C-B9E2-4114-80DE-FE77F2D4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B909-5999-44AC-867B-6F3D326F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075-9736-48AC-8B18-A0FE4302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9CC-E930-4DFE-B981-98322076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84F3-2A5C-4322-B1D1-480241E4C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838080"/>
            <a:ext cx="83822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Name-The-Ologist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795840"/>
            <a:ext cx="2895840" cy="2709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6477120"/>
            <a:ext cx="5334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33920" y="4876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llenge 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es each of these scientists stu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1285920"/>
            <a:ext cx="2590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leont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ogra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om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hthy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e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85920"/>
            <a:ext cx="5334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ins of human life &amp; civil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s and ocean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ins of anim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, forces, &amp;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ts, stars, and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81280" y="4952880"/>
            <a:ext cx="181944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143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 Arche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143000"/>
            <a:ext cx="5333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ins of human life &amp; civil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s and ocean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ins of anim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, forces, &amp;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ts, stars, and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8669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Ichthy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590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Oceanogra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314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Entom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038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Paleont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7624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Physic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5486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stron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8:46:39Z</dcterms:modified>
  <cp:revision>30</cp:revision>
  <dc:subject/>
  <dc:title>Slide 1</dc:title>
</cp:coreProperties>
</file>