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F23E-2533-4766-8AF1-307AD9DBA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9058-AB09-41F7-AFF7-2C57CCE0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CF11-EEB4-4F82-885B-0001EB4AA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3A6A-3958-48BC-B991-92E6484DA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58D2-7285-42B5-869B-EBB19FEA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9770-2563-4723-A352-BEF08A58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E47C-D4BA-413A-80F9-1DD58027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D69F-31EA-43E5-AA3C-FE2B5FCD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1B21-C36F-49A4-B030-5FE58D6E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711C-08F7-4D60-904E-5A797778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F185-23C9-41A4-82E0-32807A60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86CE-6462-42B1-BAE5-C247010D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E925-4A1C-4902-B7B0-2916D2351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838080"/>
            <a:ext cx="83822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Name-The-Ologist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3795840"/>
            <a:ext cx="2895840" cy="2709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57600" y="6477120"/>
            <a:ext cx="5334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77120" y="152280"/>
            <a:ext cx="2381040" cy="447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733920" y="48769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llenge #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380880"/>
            <a:ext cx="8610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es each of these scientists stud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19920" y="1285920"/>
            <a:ext cx="25905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tron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leont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ogra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om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hthy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e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85920"/>
            <a:ext cx="53341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ains of human life &amp; civil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s and ocean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ains of animal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, forces, &amp;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ts, stars, and sol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81280" y="4952880"/>
            <a:ext cx="1819440" cy="16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380880"/>
            <a:ext cx="8610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143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. Arche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1143000"/>
            <a:ext cx="5333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ains of human life &amp; civil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s and ocean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ains of animal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, forces, &amp;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ts, stars, and sol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86696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. Ichthy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2590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Oceanogra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314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 Entom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038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Paleont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7624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Physic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5486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Astron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5-31T18:46:39Z</dcterms:modified>
  <cp:revision>30</cp:revision>
  <dc:subject/>
  <dc:title>Slide 1</dc:title>
</cp:coreProperties>
</file>