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6E4-5C5B-43F7-AF8C-D804739D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1B9-575E-462F-ADE0-180F62DB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29C-1180-424D-8921-78005563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EF6-66C8-44E5-8B18-24B3C25A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3F8-2D7B-439D-A0E0-BC85CBD5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9BD-F5ED-4F08-A560-858451D1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465-790E-4C2B-851B-AB3A54A1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615-77E8-4718-8B7D-8260A39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6F2-7D81-4B2F-9658-62AD7DCE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0DA-FC1D-4334-8120-3C6D945A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FEC-D238-4499-B8BB-E9B4EBA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509-C449-45AC-A83F-F3DB728F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D70-751B-4A73-81CC-CBFEEBED8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361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a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, elements, and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s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 and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14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teo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53337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, elements, and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s &amp;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 and 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89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235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G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781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Zo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327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873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stron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Bota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00800" y="4495680"/>
            <a:ext cx="24289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28:42Z</dcterms:modified>
  <cp:revision>27</cp:revision>
  <dc:subject/>
  <dc:title>Slide 1</dc:title>
</cp:coreProperties>
</file>