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083-C8A8-40EE-B493-C3BDB7D5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FA1-B4FC-4D9C-85C9-33B36AB1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5F08-ADCA-4C6B-9985-2E7D1420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3A66-FD07-40F1-8F42-18A43F89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ACA-F710-434F-B1AF-90F082EE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50AE-F4DC-413D-90B9-F247520D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2CC4-1816-4C19-8B78-3889FB44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C83-3B7A-466A-A2E9-AA11D563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13AE-EB7B-410F-9CCF-D4B3E72C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9C4-7FF6-4D38-AB34-C5D55989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38C-0B73-4DD1-BBA1-12504F5D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32C-1525-422C-A985-57FDEB74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1CB3-36AC-42D3-A012-094DF3507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838080"/>
            <a:ext cx="83822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Cooper Black"/>
              </a:rPr>
              <a:t>Name-The-Ologist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795840"/>
            <a:ext cx="2895840" cy="2709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6477120"/>
            <a:ext cx="5334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33920" y="4876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llenge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es each of these scientists stu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1285920"/>
            <a:ext cx="2361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eor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an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85920"/>
            <a:ext cx="5334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, elements, and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s &amp;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ts and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81280" y="4952880"/>
            <a:ext cx="181944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143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Meteor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143000"/>
            <a:ext cx="53337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, elements, and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s &amp;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ts and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89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Chem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235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Ge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7813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Zo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327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B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873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stron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419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 Botan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400800" y="4495680"/>
            <a:ext cx="24289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8:28:42Z</dcterms:modified>
  <cp:revision>27</cp:revision>
  <dc:subject/>
  <dc:title>Slide 1</dc:title>
</cp:coreProperties>
</file>