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4C9-4964-48B7-B01F-FA952787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44D-E217-42F0-BD80-99555446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AAF-441B-4A7D-8B97-A860155C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867-B85F-4B39-93E9-84C39364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8F2-2F1E-4E2B-A0DB-3757724A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93E-AC16-4844-BAD4-4FAF0491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CBF-4430-4672-A151-0AD0585C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9CA0-6F73-4A3B-803C-B2B9C5F0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451E-8669-47B8-9369-9CFB6D0E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480-2817-4C6E-949F-89D58385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916-D6C6-4103-BB78-9D221B21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D1D-38CE-483F-ABAD-ABCC811F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AE7D-C472-4E33-BA73-C4A470165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ar of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609120"/>
            <a:ext cx="8915400" cy="9471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re all science terms we will study this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2131920"/>
            <a:ext cx="3200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OD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G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MSRE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ELI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INAS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2131920"/>
            <a:ext cx="3733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S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E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N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A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RSECP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O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 CSEO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821520"/>
            <a:ext cx="8915400" cy="5205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981080"/>
            <a:ext cx="28191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FOOD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EC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981080"/>
            <a:ext cx="3200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GE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MICRO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 DIS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3T23:12:23Z</dcterms:modified>
  <cp:revision>17</cp:revision>
  <dc:subject/>
  <dc:title>Slide 1</dc:title>
</cp:coreProperties>
</file>