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500-B373-464A-9789-1C78F413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F5C-FB11-4933-944B-07BEB40B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F5A-6D73-41F1-9335-69C23EC3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4AD-6B9A-49E6-B9D2-0AA1F855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848-B637-42AE-A0DC-441EB1A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763-80B1-46FF-883F-F874687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E9C-11A8-4E20-B7EF-F0F0C885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775-8A98-4CCB-B054-A2876BA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925-68E4-48C0-ADFF-929F52E0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447-4D71-4E14-8757-F6C036C8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345-76E3-4B34-9F26-263248E2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24F-B71C-467D-A602-361619A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7009-0213-4BD9-B1F2-AD9C27CF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ar of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091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re all science terms we will study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2131920"/>
            <a:ext cx="3200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D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G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MSREY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ELI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INAS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2131920"/>
            <a:ext cx="3733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S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E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N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RSEC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. CSEO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821520"/>
            <a:ext cx="8915400" cy="5205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981080"/>
            <a:ext cx="28191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FO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981080"/>
            <a:ext cx="3200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MICRO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DIS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23:12:23Z</dcterms:modified>
  <cp:revision>17</cp:revision>
  <dc:subject/>
  <dc:title>Slide 1</dc:title>
</cp:coreProperties>
</file>