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B994-CDE6-4865-8FBF-D42B9623B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CC1E-5362-419B-9394-E31ADB26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89E4-6453-4BC6-98B8-A9047C1C9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96D8-9DBA-46D8-98D7-F23E47E6E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ECCD-1F3E-4A43-ADB2-327BEE97A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96E4-BC2D-47BA-B331-DB646F638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7674-81B2-436A-943E-BDF1BC647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9009-C54F-462E-8069-BAD895F38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6EAD-C10A-4DDF-8105-3611C5779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2BCB-76B0-4E4B-8373-EC133599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7CBF-9125-4A98-8619-DAE448BC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5FC3-515B-428B-9BDB-A324F5D1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CCC82-5B9B-4F43-BA8C-7A90FFC175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46483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, Y, Z” W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90720" y="4191120"/>
            <a:ext cx="1946160" cy="2286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609480" y="609480"/>
            <a:ext cx="815364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00ff"/>
                </a:solidFill>
                <a:latin typeface="Cooper Black"/>
              </a:rPr>
              <a:t>Science Scramble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9900ff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320" y="380520"/>
            <a:ext cx="8915400" cy="9471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you unscramble all the words below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nt:  They all start with the letters X, Y, or 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8288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 X E Y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91120" y="182880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I’m a water mo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26956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L E Y D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191120" y="2693880"/>
            <a:ext cx="45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I’m the arr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67812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 Y R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191120" y="3465360"/>
            <a:ext cx="451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This is the time between birthda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92444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 O R 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91120" y="4711680"/>
            <a:ext cx="451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Hopefully you’ll score better than thi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5958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 Z L O G O I T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91120" y="5958000"/>
            <a:ext cx="45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I study anim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6320" y="592920"/>
            <a:ext cx="8915400" cy="5205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18288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Y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28177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375912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E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49258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Z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59119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ZOOLOG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191120" y="182880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I’m a water mo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91120" y="2816280"/>
            <a:ext cx="45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I’m the arr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91120" y="3544920"/>
            <a:ext cx="451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This is the time between birthda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91120" y="4711680"/>
            <a:ext cx="451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Hopefully you’ll score better than thi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191120" y="5913360"/>
            <a:ext cx="45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I study anim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06-05T02:14:35Z</dcterms:modified>
  <cp:revision>66</cp:revision>
  <dc:subject/>
  <dc:title>Slide 1</dc:title>
</cp:coreProperties>
</file>