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15F-D551-49EE-8682-C36A516A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BCF-2DD2-4AA9-A1F0-A5E1C6AE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2FF-54A3-4FDD-BB4B-9C5530A4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17F-610B-423A-9D3F-51BE3894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6CF-9647-4FA5-ADB7-1F304530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41C-E4AF-42A1-B6B2-90FAB927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F41-4F8F-415A-80C6-BB114B1A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FB1-E3CC-4815-A0E4-197FD8F1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822-9574-4F87-9B6D-B2C380A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D52-3FEF-4CF4-B751-47282D8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277-7988-46C6-AD52-06AC8B04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5D7-985D-46DA-8A93-0F4305A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2B21-4D1A-41AD-9029-5C8A50BEA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, Y, Z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s X, Y, or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X E Y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 water m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695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 E Y D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693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the a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78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Y 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346536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is the time between birth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924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O R 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71168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Hopefully you’ll score better than th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Z L O G O I T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9580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study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17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759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92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911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 water m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816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the a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54492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is the time between birth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471168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Hopefully you’ll score better than th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591336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study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2:14:35Z</dcterms:modified>
  <cp:revision>66</cp:revision>
  <dc:subject/>
  <dc:title>Slide 1</dc:title>
</cp:coreProperties>
</file>