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3A3C-B205-4759-A4FC-0BAFF880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F4C-D0D2-4978-86D9-316C6B6B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319-0ADD-446E-87BB-5EF78EFB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69A-CE5E-40F8-8D61-8C475358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C05-8B53-41B2-A1CA-E161B603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0F3-9CC4-4414-8031-9196A099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2F2-D556-4532-A5E0-73C4ECF8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1E7A-8756-43B5-A675-55D37002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8B1-9892-4661-BBBF-BCA02C2C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AA04-6F91-4D86-A03C-C57801DC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B86-7505-444B-AB37-2BB15039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259-3541-4291-966A-F7F25F45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135A-C854-4A04-883B-EF9311120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, V, W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233971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s U, V, or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E V I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4191120" y="18288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e’re inside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2940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L O V C T Y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191120" y="294012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How fast can you 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28600" y="4052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N V I U R 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4191120" y="40528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’ve got a lot of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228600" y="49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E H W A E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191120" y="49672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’m always chan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228600" y="58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A 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4191120" y="5867280"/>
            <a:ext cx="451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can tell you how much power you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2940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8600" y="4052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VER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28600" y="49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28600" y="58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191120" y="18288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e’re inside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4191120" y="294012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How fast can you 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4191120" y="40528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’ve got a lot of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4191120" y="49672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’m always chan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4191120" y="5867280"/>
            <a:ext cx="451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can tell you how much power you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</cp:lastModifiedBy>
  <dcterms:modified xsi:type="dcterms:W3CDTF">2010-10-24T13:19:28Z</dcterms:modified>
  <cp:revision>65</cp:revision>
  <dc:subject/>
  <dc:title>Slide 1</dc:title>
</cp:coreProperties>
</file>