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045-4D10-44FE-9D1E-9AD3A52E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419-A098-435C-98B0-36563DD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839-68E8-4609-9020-1BA9FA83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997-8067-4667-B43E-8729A973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DC9-54B4-46CA-81BB-26847F4D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284-281A-4B0E-BB0C-A2E4D29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D5E-0A47-4825-8E6C-D2C2BD08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041F-5A34-4459-B6E8-AD4F6F3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73E-ABF0-429F-BEF3-3DB042F6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181-182E-4351-8D04-0B06B2B3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C88-4377-450A-A32A-257ACD67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7F2-B5E0-4056-87EA-FD0A7A7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E5B-1CB2-4DF1-A451-8E282391F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, V, W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s U, V, or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E V I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e’re insid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9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L O V C T Y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191120" y="29401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fast can you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40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N V I U R 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191120" y="4052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ve got a lot of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E H W A E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191120" y="49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lway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A 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191120" y="586728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tell you how much power you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940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40528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VE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e’re inside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191120" y="29401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fast can you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4191120" y="4052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ve got a lot of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191120" y="49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alway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191120" y="586728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tell you how much power you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0-10-24T13:19:28Z</dcterms:modified>
  <cp:revision>65</cp:revision>
  <dc:subject/>
  <dc:title>Slide 1</dc:title>
</cp:coreProperties>
</file>