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925-C1AB-449E-91EE-81C74684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E08-A37A-40C5-82E9-E20DFECB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4E0-F637-4994-A0A7-0B5B5D03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BAC-C2A9-4DE6-BE05-9ED2A2F0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6E4-6161-4686-9548-4DE69E72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28E-1A68-4BD8-95E6-38C1DCD0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59E-963F-44E7-A763-00344131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F7E-0DD7-4FAA-A51C-DF753F66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86B-B047-4DA5-9457-E81E281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5E1-FADB-4331-A424-25E8873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6B1-BB84-4FE5-A504-82A2D00B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C9A-768A-4580-8396-8385E566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49D7-8FE6-4DDB-B4CA-9D17B07D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L A T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full of el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O S E T L E C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see the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R E X T 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be very 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5720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R A 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586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might need more than 1 of these to find an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I T L O B E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’ll only find me as a fos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857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9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715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LO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full of el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see the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be very 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586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might need more than 1 of these to find an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’ll only find me as a fos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1:39:00Z</dcterms:modified>
  <cp:revision>76</cp:revision>
  <dc:subject/>
  <dc:title>Slide 1</dc:title>
</cp:coreProperties>
</file>