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2B3-0D6D-4B93-ADED-F429E1B9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22A-B34F-4CBC-AF7D-2F7A1AFB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3F9-E6F1-488A-A2BE-4A372463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E83-C8B6-4271-8E76-56E32A7A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06A-FD07-40AE-A24F-C1521391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C2C-479E-425F-8BD9-C8639EEB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533-D644-449F-8E13-3EB150D9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E2A-228B-4317-8FC3-8BD97B76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323-AC8A-40D9-9ADA-1AEAE01A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772-B128-479E-8DC2-9A8ACEC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43D-A9D7-4FD0-8113-128EC123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8A6-3086-477A-B402-7441D19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0739-3BB5-4BF0-B414-7FA76053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L A T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full of ele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19520"/>
            <a:ext cx="38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O S E T L E C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see the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33920"/>
            <a:ext cx="36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R E X T 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be very 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5720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 R A T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5864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might need more than 1 of these to find an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40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I T L O B E I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’ll only find me as a fos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8576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9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7624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715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LOB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8288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’m full of ele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803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can help you see the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778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can be very 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5864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You might need more than 1 of these to find an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57294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’ll only find me as a foss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5T01:39:00Z</dcterms:modified>
  <cp:revision>76</cp:revision>
  <dc:subject/>
  <dc:title>Slide 1</dc:title>
</cp:coreProperties>
</file>