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C49-A51E-44CD-BEA2-7AF50DAD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64D-AA61-4CE9-B357-18D61C4B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099-854B-4784-AD4C-177F1424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1783-3D38-48A3-8893-EE7B95E8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1F1-6F33-4526-82B4-4C3EA6E9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87D4-6735-4437-8A47-0A1E778D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81E-30CD-40FD-8F6A-43442D66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C5BE-08F6-44D9-BA07-B6EFC2F6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828-26EC-4AED-A4EF-7796B571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BC1-2674-4FC6-A9B9-974FF3E5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06C-ADC4-49BB-8309-F8AB1FE7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76B-C8DE-48FD-B2D9-3CDA1A7E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9BE3-E168-46A0-A402-80A1B11DB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F T S 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lways keep this in mi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819520"/>
            <a:ext cx="38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S U D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2803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You can hear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733920"/>
            <a:ext cx="36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I S T C E N I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3778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study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73868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D S R E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47530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can be very cree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72940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T O S M T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5729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’m a part of a lea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905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857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8098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I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76244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7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lways keep this in mi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803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You can hear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778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study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7530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can be very cree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5729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’m a part of a lea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5T01:31:22Z</dcterms:modified>
  <cp:revision>72</cp:revision>
  <dc:subject/>
  <dc:title>Slide 1</dc:title>
</cp:coreProperties>
</file>