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CB4-50B4-43AF-B6B5-AD3B424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24B-41FE-47DA-A77A-0684FD3E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D8D-4A26-423E-A289-24183464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A3C-25EE-44D2-B647-21D9337A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297-0092-40CA-AA4C-599FD7B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186-2978-4129-930A-5B51B4DD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C96-28C9-43E2-AEAA-5D8D7DF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928-4D02-4A42-8370-510610BE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212-6E29-4D33-A80C-9668D41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F94-5654-4D00-83A9-70745CE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756-37D2-405E-9A7B-6FFD133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315-67F9-4727-B5CC-827CD273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630D-ACFE-4217-A9C3-E6026330F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F T S 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lways keep this in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S U D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can hea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S T C E N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D S R 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be very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 O S M 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part of a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lways keep this in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can hea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be very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part of a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31:22Z</dcterms:modified>
  <cp:revision>72</cp:revision>
  <dc:subject/>
  <dc:title>Slide 1</dc:title>
</cp:coreProperties>
</file>