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0B2-D0FF-4FF5-A2CF-E20C610C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05D-DCDD-4E9C-9159-12CD9BD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A34-97CA-4B42-BE36-D13F3C81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EF9-8BD1-42E1-9C26-AA481631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064-3BD6-4BE0-BFEA-8EF42160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FF2-8C92-435F-AC0C-EF3EE5A8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4CF-EC7D-4A08-89C3-66BD7984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4F9-119E-4A4C-8E52-0F4E2D43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4C4-F8A6-4F9E-A0D7-BEF3A798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4DA-516B-4579-AF87-D343ACCE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F6E-7191-4EA1-AF71-6B71D8D5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FBD-8598-49D7-A491-CDBD116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BA08-2EB6-4802-9C77-FCF16C11C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A T R O I N O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ake it for a “spi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A R T E N A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before the y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R S M O E B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a protein fa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I R W B A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show all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R E N E B L 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be made over and o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57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B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NEW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ake it for a “spi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before the y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a protein fa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show all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can be made over and ov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1:07:12Z</dcterms:modified>
  <cp:revision>69</cp:revision>
  <dc:subject/>
  <dc:title>Slide 1</dc:title>
</cp:coreProperties>
</file>