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722-F7BF-40A8-9CD8-85ED3ABE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C11-6364-40A5-A082-EF10F0A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B04-F93B-4605-9547-D3AF6408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608-E152-40D0-BE33-BA2D355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EF3-5EAD-4058-A3CD-D46F5FD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8F3-6B72-4418-A2A9-2CB18667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25B-8EF4-41C3-A43A-0EBB495B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B4C-26ED-4C85-A3DE-01091C6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19F-3B94-438C-8FCC-8F29EC7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FEB-A720-4688-9B11-6C704413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F55-BA75-45BD-8A53-D6AB24B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932-BE7B-49EE-A500-AD68092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01D0-CF17-4775-9819-88345C0B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A T R O I N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ake it for a “sp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A R T E N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before the y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R S M O E B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a protein 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R W B A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show all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R E N E B L 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be made over and o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B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EW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ake it for a “sp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before the y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a protein 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show all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be made over and o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07:12Z</dcterms:modified>
  <cp:revision>69</cp:revision>
  <dc:subject/>
  <dc:title>Slide 1</dc:title>
</cp:coreProperties>
</file>