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D83-CBD3-4ED4-911D-5FD6ACA0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438A-0CBA-40C3-B3BB-127F4D64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0C45-592A-4F08-9B7C-A325B8F4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1D05-B44E-4F71-AE1B-2F8CF6D8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3790-63C1-4B00-8005-987EBC41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A3F1-BCD3-4C54-B699-3005C971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C3D-6479-4CE2-B497-21D376AE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05A9-0CBA-43AF-B70E-6BD76CF2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4A61-34DC-4CA7-B69E-2A0C20AB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B5A2-418A-48C4-8320-E647FE81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ED83-B913-4278-9C4F-30D4E319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8901-B4B2-4FCE-B9A0-AC4207D0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93A6-F944-44B0-8B42-4ECC4A8DD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Q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 Q R K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1828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make up protons, neutrons, and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9401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S U T Q O 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91120" y="2940120"/>
            <a:ext cx="451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You might deal with these during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0528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 Q E N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405288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’m tops in the colo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967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 R A Q T R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496728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’m a half m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867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 U A Q R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586728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ime to ro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1828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make up protons, neutrons, and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9401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2940120"/>
            <a:ext cx="451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You might deal with these during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0528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405288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’m tops in the colo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4967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496728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’m a half m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5867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586728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ime to ro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5T00:52:12Z</dcterms:modified>
  <cp:revision>61</cp:revision>
  <dc:subject/>
  <dc:title>Slide 1</dc:title>
</cp:coreProperties>
</file>