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E383-B912-4674-A14F-F59D3EE4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08E-53BD-4D1A-B496-601A19DB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60E-9020-4D78-A9FD-EF51EF57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348-3B60-4656-BB49-DFD96F10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39C-208D-4C7C-8AAE-B06A930E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837-15A5-4F35-BBB5-06341D8B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A7D-FC74-4C82-B0ED-7466EC03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AD3-0EFA-41AF-A2EB-8F29D668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F76-AA31-44AB-A05A-5A065214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449-249C-4D9C-BBF4-7E8095BA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218-E4F4-4B5F-A875-1793148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1AB-E028-4926-828A-F0C0DD5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E2B9-ADB6-46F6-A3C1-910673E22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Q R K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1828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make up protons, neutrons, and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940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S U T Q O 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94012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might deal with these during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052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Q E N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40528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tops in the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R A Q T R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9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 half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U A Q R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58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ime to ro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1828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make up protons, neutrons, and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940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4012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might deal with these during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052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40528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tops in the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9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 half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58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ime to ro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0:52:12Z</dcterms:modified>
  <cp:revision>61</cp:revision>
  <dc:subject/>
  <dc:title>Slide 1</dc:title>
</cp:coreProperties>
</file>