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4C99-7E58-4C50-AF2B-72C9C21C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AD19-279C-4CA8-A30D-147BD07C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7C39-8FC0-403E-B87E-D08D965A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116F-C92C-47A5-A583-48AAF6C57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82C8-E13B-4A83-9D16-131A18B1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C2A8-DB6B-4787-95A5-9ED3E73A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0A52-3EE6-437F-A9F4-900E5467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F8F0-D5A1-41F1-A6E0-086A2EE1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6BF0-6524-4373-9FEE-F1F20B40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9B15-B513-4258-9861-84612DB5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C8E4-7A10-4FA5-9E64-2418C613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3920-055A-4692-8460-75258008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0B14-BA8D-4AB5-827D-FDF02E14B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j0233971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4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286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O T O 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4191120" y="18288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positi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28386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 O L E 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191120" y="283860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can be carried all o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228600" y="384804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R E P T A I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4191120" y="384804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like to feed on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228600" y="485784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 I M P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4191120" y="485784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make rainb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7"/>
          <p:cNvSpPr/>
          <p:nvPr/>
        </p:nvSpPr>
        <p:spPr>
          <a:xfrm>
            <a:off x="228600" y="5867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 N A T E P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8"/>
          <p:cNvSpPr/>
          <p:nvPr/>
        </p:nvSpPr>
        <p:spPr>
          <a:xfrm>
            <a:off x="4191120" y="586728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Earth is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57200" y="1828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57200" y="2822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57200" y="381636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457200" y="48099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457200" y="58053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8"/>
          <p:cNvSpPr/>
          <p:nvPr/>
        </p:nvSpPr>
        <p:spPr>
          <a:xfrm>
            <a:off x="4191120" y="18288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positi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4191120" y="384804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like to feed on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4191120" y="485784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make rainb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191120" y="586728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Earth is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4191120" y="283860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can be carried all o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</cp:lastModifiedBy>
  <dcterms:modified xsi:type="dcterms:W3CDTF">2009-04-26T18:39:13Z</dcterms:modified>
  <cp:revision>58</cp:revision>
  <dc:subject/>
  <dc:title>Slide 1</dc:title>
</cp:coreProperties>
</file>