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8D3-C271-4D0E-8EB6-724CBAF1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9A2-2D17-4630-B207-B82CD91A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DE7-6D66-4E2B-8939-12744503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4FF-127C-4AF0-BBEA-6F38DA30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EAD-BC3C-456D-AE24-C95CEFFE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E5E-59EA-41CC-B1B2-5E5D7527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C34-2F18-4F66-A861-D9D1CE06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EFDE-7D4D-42A0-9ECB-46084C8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0BE-B64E-4D4A-A5C1-7F6D0AB5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4D1-C142-47EC-8211-75D7DD90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464-F8C1-4CD8-B47C-56B403C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69F-FD10-41B6-B909-9730A95C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5404-8B0A-40C4-A80B-D0AAC292A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O T O 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po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38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O L E 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191120" y="28386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be carried all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84804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R E P T A I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191120" y="3848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like to feed o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8578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I M P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191120" y="48578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make rainb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N A T E P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Earth is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7200" y="2822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7200" y="3816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57200" y="4809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57200" y="5805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4191120" y="18288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po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4191120" y="3848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like to feed o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4191120" y="48578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make rainb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191120" y="586728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Earth is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4191120" y="283860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be carried all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4-26T18:39:13Z</dcterms:modified>
  <cp:revision>58</cp:revision>
  <dc:subject/>
  <dc:title>Slide 1</dc:title>
</cp:coreProperties>
</file>