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800-B6C9-45EA-B956-FD4CD988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29F-2211-4D18-8DA4-B1475170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2A0-40A2-4CE9-93DE-C85E6403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BE5-5153-4CA3-B50B-96F4B383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0B2-A2E4-46EE-A178-6DA4A2FC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2B6-B630-4FDA-ADD9-3C9DD175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2341-F137-45C5-8A0B-ABC59E6B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F06-4DC5-48F4-88CC-CF2C22E6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19F-04F4-4CDC-A333-60056B1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2A6-37D8-43A7-B3A2-2138E40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D25F-FB58-458B-B6CB-066DE7EC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918-2255-42D4-BEFF-2A53E7C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4FE4-57C7-4AA3-B9B5-34431745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4290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”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j0233971"/>
          <p:cNvPicPr/>
          <p:nvPr/>
        </p:nvPicPr>
        <p:blipFill>
          <a:blip r:embed="rId2"/>
          <a:stretch/>
        </p:blipFill>
        <p:spPr>
          <a:xfrm>
            <a:off x="990720" y="4191120"/>
            <a:ext cx="19461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9480" y="609480"/>
            <a:ext cx="8153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cience Scrambl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76320" y="380520"/>
            <a:ext cx="8915400" cy="9471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unscramble all the words below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:  They all start with the letter 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T I 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40384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e do this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R A E L E L O 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e are found in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228600" y="3778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O B R S E A I T N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4038480" y="377820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is something you might do during a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228600" y="50515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M O I N O E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4038480" y="5049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like plants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228600" y="5867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E G N O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4038480" y="5867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 need me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320" y="592920"/>
            <a:ext cx="8915400" cy="5205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828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2803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8600" y="3733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" y="496584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MNIV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8600" y="5729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4038480" y="182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We do this around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4038480" y="2803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e are found in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038480" y="3733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This is something you might do during a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4038480" y="4967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like plants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4038480" y="5867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You need me to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</cp:lastModifiedBy>
  <dcterms:modified xsi:type="dcterms:W3CDTF">2009-04-30T23:44:19Z</dcterms:modified>
  <cp:revision>52</cp:revision>
  <dc:subject/>
  <dc:title>Slide 1</dc:title>
</cp:coreProperties>
</file>