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3076-99DF-41DE-BFC3-2A6EEB7E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1C1F-0820-4478-895D-1875036F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0D49-98DF-4D0B-9876-4BD7F2A5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98C2-21A2-49D0-AE3F-8E399D83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B4BF-036C-4F6D-A55C-43D82D38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3DB0-B153-493E-9CA8-10A880F4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A99-5A19-4601-B6D1-EC7C4B73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C906-9113-4BB2-8F22-E1DE5102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F74-9401-47CC-ABC5-3F042D94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77BD-56E5-497D-9570-B65F4DB7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8398-9EEE-4D73-B5C2-E0149F58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83A1-6261-4521-888C-924A9F27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4EC6-5559-4119-83D1-8D1D49F33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j0233971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286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T I R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40384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We do this around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 R A E L E L O N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38480" y="2803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e are found in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28600" y="37782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 O B R S E A I T N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4038480" y="377820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This is something you might do during a la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228600" y="5051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M O I N O E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4038480" y="50497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like plants and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228600" y="58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 E G N O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4038480" y="5867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You need me to surv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828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8600" y="3733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S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28600" y="496584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MNIV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28600" y="5729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40384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We do this around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4038480" y="2803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e are found in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4038480" y="37339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This is something you might do during a la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4038480" y="4967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like plants and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7"/>
          <p:cNvSpPr/>
          <p:nvPr/>
        </p:nvSpPr>
        <p:spPr>
          <a:xfrm>
            <a:off x="4038480" y="5867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You need me to surv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</cp:lastModifiedBy>
  <dcterms:modified xsi:type="dcterms:W3CDTF">2009-04-30T23:44:19Z</dcterms:modified>
  <cp:revision>52</cp:revision>
  <dc:subject/>
  <dc:title>Slide 1</dc:title>
</cp:coreProperties>
</file>