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49E-454E-4C85-BF1B-4A601FE3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779F-DE78-4CAE-97E8-B0560ADC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AE43-49B3-4137-B972-E30D4EEB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756-9723-4443-9C4D-A7FCAA48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4B3-33E9-4ACE-BCFF-72AF1BA8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A84-5BA3-47C6-AFC0-E4C388E8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ED35-0935-4A47-92A8-4F92AC3C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6A7-6210-4A3C-B0A8-6BD9A5DA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CFB-166B-4ADA-A297-F1A0DD72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D7F-15B6-4476-8E40-C2B9BC16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E7B-3E39-474E-B709-EA6AE1EC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63D2-6EAB-487D-8DEA-1861D2C3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07FF-AE83-48E4-877A-4D16305F3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233971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28600" y="1828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U N O N R A T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7339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a night ow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2819520"/>
            <a:ext cx="38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 L E N C S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3733920" y="2803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’m the center of an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28600" y="3733920"/>
            <a:ext cx="36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E B U N R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3733920" y="3778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e count on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228600" y="473868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D E N S L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3733920" y="47530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Some trees have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228600" y="572940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T A R 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3733920" y="5729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attract a lot of critte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905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CTU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2857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8600" y="38098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28600" y="476244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28600" y="57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C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9"/>
          <p:cNvSpPr/>
          <p:nvPr/>
        </p:nvSpPr>
        <p:spPr>
          <a:xfrm>
            <a:off x="3733920" y="2803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’m the center of an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0"/>
          <p:cNvSpPr/>
          <p:nvPr/>
        </p:nvSpPr>
        <p:spPr>
          <a:xfrm>
            <a:off x="3733920" y="3778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e count on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1"/>
          <p:cNvSpPr/>
          <p:nvPr/>
        </p:nvSpPr>
        <p:spPr>
          <a:xfrm>
            <a:off x="3733920" y="47530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Some trees have th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2"/>
          <p:cNvSpPr/>
          <p:nvPr/>
        </p:nvSpPr>
        <p:spPr>
          <a:xfrm>
            <a:off x="3733920" y="5729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attract a lot of critte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3"/>
          <p:cNvSpPr/>
          <p:nvPr/>
        </p:nvSpPr>
        <p:spPr>
          <a:xfrm>
            <a:off x="37339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a “night” ow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</cp:lastModifiedBy>
  <dcterms:modified xsi:type="dcterms:W3CDTF">2013-12-09T15:55:35Z</dcterms:modified>
  <cp:revision>71</cp:revision>
  <dc:subject/>
  <dc:title>Slide 1</dc:title>
</cp:coreProperties>
</file>