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84C-DB31-4332-9A96-185259A5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3A6-6F7D-4537-AA35-765BDB2F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972-58E8-4C22-BBE9-19E2061C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E17-16A3-45D8-B0FF-35477249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4BE-BC6B-4C32-935E-F4AE4F6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9BA-C28D-47E0-8EBF-47249D2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E4F-D793-4D80-AD1B-0673A02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9B6-34D1-4EE3-9984-02BA7777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C24-E4AA-407D-A59B-368E2C3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479-29FD-45C4-87A5-27BA71D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615-4594-422E-BD7D-F5ACA8B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B2F-D3FA-40F0-9C09-780FCF9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BD6A-5E20-4163-BACF-0421302A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U N O N R A T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night 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L E N C S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center of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E B U N R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count on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D E N S L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ome trees have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 A R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ttract a lot of cri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CT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center of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0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count on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1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ome trees have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2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ttract a lot of cri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3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“night” 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3-12-09T15:55:35Z</dcterms:modified>
  <cp:revision>71</cp:revision>
  <dc:subject/>
  <dc:title>Slide 1</dc:title>
</cp:coreProperties>
</file>