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CD9-8CF7-412E-AEE0-6257EB3B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D7E-F712-4058-8A83-D9BD2988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7AB-B3B4-4E8C-A02D-762050D1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C6B-C8F0-43F1-AA8F-1851BDE2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7B3-D93E-44D0-9318-2848AB21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AF7-C704-4F84-9550-5AA484B2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910-812F-4C2C-B1B8-AD44F85E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252-03E4-4B83-B212-42A94200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304-F9D8-476D-A2D0-264D9598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52B-3E9E-43E1-9759-591FBEF3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AB4-1920-4AF4-AD19-A3F37AE6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3A9-F700-4314-89CB-7D2BC5D1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AC3F-FA9E-4F6C-9FF4-36FE014D8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G E M A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ttracted to lots of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1952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E M S A U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might do this during a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3392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M L M A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e are classified as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3868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I O M T I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his happens in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S N M I R A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make you pret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905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57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09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M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624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ttracted to lots of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might do this during a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e are classified as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his happens in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make you pret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1:08:53Z</dcterms:modified>
  <cp:revision>61</cp:revision>
  <dc:subject/>
  <dc:title>Slide 1</dc:title>
</cp:coreProperties>
</file>