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D4B-F239-4D7C-BE78-C75963CB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E3C-3745-4578-B4C6-A66A0286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496-0832-446D-B67B-9521FE8B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33F-CB4B-408B-8ABD-F7549529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02A-C704-4D66-BDC3-F617D3DE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EA0-9EBF-4890-82BE-955149C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F82-178C-4DAC-BBF0-9D113F4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01C-034C-4A62-9EE0-28E79845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356-AB32-4324-A711-69608E15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ADF-1C17-4D7B-BE44-A46CA99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144-02B8-4B26-84D9-583FA51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1DF-DA0B-492F-862D-BCB00DF7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809-4086-4FA0-A804-9D4A31CA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G E M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ttracted to lots of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E M S A U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o this during a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 L M A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are classified a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O M T I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happen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S N M I R 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make you pret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ttracted to lots of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o this during a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are classified a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This happens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make you pret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1:08:53Z</dcterms:modified>
  <cp:revision>61</cp:revision>
  <dc:subject/>
  <dc:title>Slide 1</dc:title>
</cp:coreProperties>
</file>