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EAB75-54E2-4EB0-9013-D495EBAD7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F5A7C-F307-4B34-9617-BCC868580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F90E1-07D5-4678-8BF4-924B5229A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3AE2C-C5B9-4AAC-8058-15C74A56F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2F801-2940-42FB-890A-C03BD2534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A18D5-72BD-4D1D-ACB0-78BFFCB47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561BD-AF1C-4FD6-A282-65C19F77B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12485-34EF-4981-8DD4-1195ED00E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1C2AC-578A-46B9-91AF-B0C862AE9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FD8BE-CD4D-4659-9C82-DB6A77439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843E9-409A-407E-8D25-4D693CC56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28E08-AC9E-4E1C-B4DA-ED092F613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3214F-934B-4E53-9452-C9E8018BD6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4648320"/>
            <a:ext cx="449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L” Wor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47920" y="6400800"/>
            <a:ext cx="6400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. Trimpe 2008   http://sciencespot.net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629400" y="152280"/>
            <a:ext cx="2381400" cy="4478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990720" y="4191120"/>
            <a:ext cx="1946160" cy="2286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 txBox="1"/>
          <p:nvPr/>
        </p:nvSpPr>
        <p:spPr>
          <a:xfrm>
            <a:off x="609480" y="609480"/>
            <a:ext cx="8153640" cy="3353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99ff33"/>
                </a:solidFill>
                <a:latin typeface="Cooper Black"/>
              </a:rPr>
              <a:t>Science Scramble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99ff33"/>
              </a:solidFill>
              <a:latin typeface="Cooper Black"/>
              <a:ea typeface="Cooper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76320" y="380520"/>
            <a:ext cx="8915400" cy="94716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an you unscramble all the words below?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int:  They all start with the letter 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1828800"/>
            <a:ext cx="396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 I L Q U 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191120" y="1828800"/>
            <a:ext cx="4724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 I’m not a solid or gas, but could be it things chang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28600" y="2986200"/>
            <a:ext cx="387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 A L V S 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191120" y="2986200"/>
            <a:ext cx="472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 I can keep you cool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3824280"/>
            <a:ext cx="362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 R V E 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191120" y="3824280"/>
            <a:ext cx="472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 I can help you d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28600" y="4738680"/>
            <a:ext cx="404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 L I E D A T U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191120" y="4616280"/>
            <a:ext cx="4724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. I can help you find out where you a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28600" y="5729400"/>
            <a:ext cx="404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 D I L 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191120" y="5729400"/>
            <a:ext cx="472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. I’m also known as a fa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76320" y="592920"/>
            <a:ext cx="8915400" cy="52056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answers are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1995480"/>
            <a:ext cx="335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IQU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28600" y="304812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EA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28600" y="390060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E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28600" y="475308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ATITU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28600" y="571500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IP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191120" y="1828800"/>
            <a:ext cx="4724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 I’m not a solid or gas, but could be it things chang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191120" y="2986200"/>
            <a:ext cx="472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 I can keep you cool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191120" y="3824280"/>
            <a:ext cx="472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 I can help you d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191120" y="4616280"/>
            <a:ext cx="4724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. I can help you find out where you a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191120" y="5729400"/>
            <a:ext cx="472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. I’m also known as a fa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27T19:50:33Z</dcterms:created>
  <dc:creator>Tracy Trimpe</dc:creator>
  <dc:description/>
  <dc:language>en-US</dc:language>
  <cp:lastModifiedBy>Tracy Trimpe</cp:lastModifiedBy>
  <dcterms:modified xsi:type="dcterms:W3CDTF">2008-06-04T01:02:41Z</dcterms:modified>
  <cp:revision>59</cp:revision>
  <dc:subject/>
  <dc:title>Slide 1</dc:title>
</cp:coreProperties>
</file>