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C84F-5618-4720-B9A8-34001095C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D09E-9052-459E-8353-7EC002126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C77D-0ABA-44D1-B942-956F46567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B790-4EFE-4721-9D15-287903F54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0067-C82F-4FF5-AEF6-FDFBA238A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36B8-8F48-4348-AAF8-E4F1F1C0A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F122-C826-4596-9E06-43E4C5FE8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A75D-49DB-4570-BD53-873986310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D655-5CF8-4E65-A92E-A554E83A7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C2D3-6AF1-45D7-B848-0CBD0776D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75B8-A0F2-46AD-8846-2B212841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15FD-8B19-4066-8E62-56EF7BDE4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D0C5D-F61A-4ACC-A674-83E7E5C892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46483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” Wo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990720" y="4191120"/>
            <a:ext cx="1946160" cy="2286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609480" y="609480"/>
            <a:ext cx="815364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ff33"/>
                </a:solidFill>
                <a:latin typeface="Cooper Black"/>
              </a:rPr>
              <a:t>Science Scramble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99ff33"/>
              </a:soli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320" y="380520"/>
            <a:ext cx="8915400" cy="9471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you unscramble all the words below?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nt:  They all start with the letter 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18288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 I L Q U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191120" y="1828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I’m not a solid or gas, but could be it things chan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2986200"/>
            <a:ext cx="387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 A L V S 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191120" y="298620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I can keep you coo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824280"/>
            <a:ext cx="362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 R V E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191120" y="382428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I can help you d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738680"/>
            <a:ext cx="404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 L I E D A T 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91120" y="461628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I can help you find out where you 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5729400"/>
            <a:ext cx="404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 D I L 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91120" y="572940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I’m also known as a f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6320" y="592920"/>
            <a:ext cx="8915400" cy="5205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19954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QU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304812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39006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47530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TI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5715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P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191120" y="1828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I’m not a solid or gas, but could be it things chan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91120" y="298620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I can keep you coo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91120" y="382428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I can help you d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191120" y="461628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I can help you find out where you 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191120" y="572940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I’m also known as a f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Tracy Trimpe</cp:lastModifiedBy>
  <dcterms:modified xsi:type="dcterms:W3CDTF">2008-06-04T01:02:41Z</dcterms:modified>
  <cp:revision>59</cp:revision>
  <dc:subject/>
  <dc:title>Slide 1</dc:title>
</cp:coreProperties>
</file>