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8C0-5672-4DA1-AED0-6207D959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DB1-53B6-4F74-BCB3-BFBE4B65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C67-2115-4545-86C1-64A49FF5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947-8BCF-4864-97C9-D177894E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12D-8BBC-44ED-AFEA-CC8E885B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B97-1685-4421-BF6F-76ADCA05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D8A-4F20-40A8-B80C-E8064023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868-66B5-420F-9558-1A9B47E2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120-3B61-4474-946F-9CBC8B22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A57-0A62-4B88-A893-3D7B6C44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56C-2C96-428C-94A5-D683116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6B4-D0D2-4A7C-A696-00CE82F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3D2E-3D8F-43A3-935E-3CC485E2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 &amp; K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J or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T 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you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L J U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803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much energy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 D G K M O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class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800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T I S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support a lot of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L D G O K E N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71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get this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elp you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8036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How much energy do you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’m tops in class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support a lot of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571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get this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54:19Z</dcterms:modified>
  <cp:revision>48</cp:revision>
  <dc:subject/>
  <dc:title>Slide 1</dc:title>
</cp:coreProperties>
</file>