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6A2-CD9C-4298-B48F-CCDC4AFE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9EB-AE66-442C-B858-C6828209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402-F6C7-49F3-B755-54B32234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5AC-0127-4989-91BF-72B9D4CA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74F-3A61-4B9E-808B-FA5179D4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9CE-3742-4185-94AC-350443E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834-3A04-4C86-A6C1-A77C5D64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79C-A4C3-4EC8-85FE-39D842C8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18B-4538-4070-BB27-F20BF432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165-3187-46C2-8910-1262B80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676-25C3-44CA-A5B1-A430435E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EEA-C7BF-45B1-991D-C508AEB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DAC6-418D-4787-9283-D66A447F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 &amp; K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J or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I T 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elp you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L J U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803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much energy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N D G K M O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tops in class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800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T I S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753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support a lot of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L D G O K E 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715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 get this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elp you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2803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much energy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tops in class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4753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support a lot of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5715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 get this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54:19Z</dcterms:modified>
  <cp:revision>48</cp:revision>
  <dc:subject/>
  <dc:title>Slide 1</dc:title>
</cp:coreProperties>
</file>