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F975-98D1-42A8-98D5-6ED8D3DFB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D62A-169F-4F90-896F-EFB10D638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B84D-7FF9-4266-84F0-313104574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C5B1-8891-478F-ADD8-74F69927B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DE98-E982-4E5D-AA91-386F0FD57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55F2-A0DD-4B9C-BE72-46979CFC4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424E-1362-4B2D-8C84-163AFA0C2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8780-72C3-467B-BC8B-797DBC19A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80F0-EBAD-40FA-9691-9C80958C8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4CB4-8002-4859-A283-12CA6359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09B4-D974-443F-84D5-3BCDDAC3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82B9-0995-4843-971B-0A9F17A8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22018-18BB-4618-AA88-0FC87FFDE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46483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” Wo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90720" y="4191120"/>
            <a:ext cx="1946160" cy="2286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609480" y="609480"/>
            <a:ext cx="815364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00ff"/>
                </a:solidFill>
                <a:latin typeface="Cooper Black"/>
              </a:rPr>
              <a:t>Science Scramble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9900ff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320" y="380520"/>
            <a:ext cx="8915400" cy="9471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you unscramble all the words below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nt:  They all start with the letter 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8288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 U L I O L N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18288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I may not be all I appear to b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28036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 L A R T N I U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2803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I can protect you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7782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 I R T E I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377820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I resist cha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89096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 T I E N C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38480" y="47530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We can be a little creep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58672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 I L U I S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38480" y="58672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I help your body work righ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6320" y="592920"/>
            <a:ext cx="8915400" cy="5205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18288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L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28036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SU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37782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ERT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47530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S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57294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SU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38480" y="18288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I may not be all I appear to b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038480" y="2803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I can protect you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038480" y="377820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I resist cha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038480" y="47530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We can be a little creep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571500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I help your body work righ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 Trimpe</cp:lastModifiedBy>
  <dcterms:modified xsi:type="dcterms:W3CDTF">2008-06-04T00:41:17Z</dcterms:modified>
  <cp:revision>45</cp:revision>
  <dc:subject/>
  <dc:title>Slide 1</dc:title>
</cp:coreProperties>
</file>