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4841-15C6-47F8-95E2-2A8317F3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173-5B3D-4C66-8793-70D72F39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8CB3-BCA0-4A54-85FF-E9875A8D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AC8E-4F5A-4E31-B0C6-7319B24E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C350-0224-4F7E-A712-97FBC6BC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BFC1-3A21-4E9A-9EDC-EA7F21EA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F02D-6FBC-4625-BE89-FBB864EB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E38F-47A5-4BC8-A990-C02CA64E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D941-DE4B-4FE8-B3F8-E060F8DB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A11B-13EA-4F42-A3B7-E4BE3DB5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C13B-FE9F-47DA-893B-50BC669C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15AF-BC7C-41B8-A2EA-E64DCD51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E90C-F3E1-44F6-9B4E-48DF67011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U L I O L 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82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may not be all I appear to 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803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L A R T N I U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2803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can protect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7782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I R T E I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3778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resist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8909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T I E N C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47530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e can be a little cree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867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I L U I S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58672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help your body work ri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828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803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778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ER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753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5729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U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182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may not be all I appear to 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2803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can protect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3778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resist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47530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e can be a little cree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57150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help your body work ri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4T00:41:17Z</dcterms:modified>
  <cp:revision>45</cp:revision>
  <dc:subject/>
  <dc:title>Slide 1</dc:title>
</cp:coreProperties>
</file>