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8AB-D861-433C-96BA-BCA49DB5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DB8-8C53-4EF2-8181-DA928A74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D89-BD14-43BA-AE50-FBBECAE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3C4-6DC2-4CF4-B3AA-C0DF4657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448-5FD9-48DB-BEC3-38C4F83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1CD-508E-4665-A01D-B1F683E5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9B6-E3A6-4E9B-9314-E5A2980E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88C-6DA4-4467-A537-08D88078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444-2424-46B6-BC0B-4FC6227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CA5-D114-46FF-B18B-812474E6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1FC-1E8F-495B-8EEB-0211669C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72D-A72D-45CB-8E39-C99D02D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7341-682D-4C2F-A7DA-69B7973B4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E I B H T A N O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038480" y="18288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animals survive the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E R O B H V E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like pla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I S H E P R H 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only half of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890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Y H T E H I S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4753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possible answer to a question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E A M H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038480" y="5958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little bone in your 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BER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B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038480" y="18288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animals survive the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like pla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only half of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038480" y="47530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 possible answer to a question or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038480" y="5958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little bone in your 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0-04-28T13:16:44Z</dcterms:modified>
  <cp:revision>41</cp:revision>
  <dc:subject/>
  <dc:title>Slide 1</dc:title>
</cp:coreProperties>
</file>