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9D0D-7416-4128-B6B5-FB80020B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D610-E22A-4385-A974-7A328959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457-9F59-472B-A268-FF8A6654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6442-4B6C-44AB-9168-F59C664C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243D-143C-451C-8E64-B24ADD4C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6EB-9B2D-4A50-8620-7FA9408E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C82-D379-4DA2-9EE5-4336BA07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F7D-5211-4542-8172-3672A5D3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223-43ED-4E1F-98D3-0A0F0D65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E0C8-EF8E-4344-9C08-10C7066B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D39A-0A00-4A64-B691-4B77AB23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B03-8B3C-4A8B-82D8-7381F3ED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7C70-EEB9-44F6-82A7-89FBDC0B2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j0233971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286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E I B H T A N O 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4038480" y="182880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help animals survive the wi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E R O B H V E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38480" y="2803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like pla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28600" y="3778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 I S H E P R H 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4038480" y="3778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am only half of a wh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228600" y="48909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Y H T E H I S P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038480" y="47530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’m a possible answer to a question or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228600" y="5958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 E A M H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4038480" y="59580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’m a little bone in your 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BER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BIV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8600" y="3778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MI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28600" y="4753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28600" y="5729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038480" y="182880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help animals survive the wi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4038480" y="2803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like pla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4038480" y="3778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only half of a wh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4038480" y="47530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’m a possible answer to a question or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4038480" y="59580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’m a little bone in your 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</cp:lastModifiedBy>
  <dcterms:modified xsi:type="dcterms:W3CDTF">2010-04-28T13:16:44Z</dcterms:modified>
  <cp:revision>41</cp:revision>
  <dc:subject/>
  <dc:title>Slide 1</dc:title>
</cp:coreProperties>
</file>