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E66-5B4E-4312-B872-434A5265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CAF-B6E0-4C10-9977-48997EFD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D0D-27B8-473F-AD17-8B8CFD93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2A4-B419-496C-8D0A-0C6323AB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FD4-724C-4EFA-9437-7F819653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17A-41A9-4610-9FFA-AFA2EDD0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32B-A09E-457C-9FC8-4627C5A4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334-A792-47CE-A6A0-192439EC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868-D531-480D-9131-16B10B2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CB9-7A4B-4383-9F9C-590B6AF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893-4541-4608-9747-595634E2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705-843C-480C-AD03-B9D0C5F2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4637-D196-43FD-BBE1-68FD6FD54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52280" y="1828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M O E N 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9625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map of your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2280" y="2754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P A H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962520" y="27543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ll help you share your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52280" y="3679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R A G I Y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962520" y="3679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really bring you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52280" y="46054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E H E S U O G R 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E C E 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038480" y="46054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making things war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15228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A N U N 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962520" y="5958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found in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phrase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52280" y="1828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25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map of your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52280" y="2754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962520" y="27543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ll help you share your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52280" y="3679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62520" y="3679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really bring you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52280" y="46054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038480" y="46054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making things war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5228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962520" y="5958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found in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1-03-16T19:32:56Z</dcterms:modified>
  <cp:revision>37</cp:revision>
  <dc:subject/>
  <dc:title>Slide 1</dc:title>
</cp:coreProperties>
</file>