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EEC0-8782-4097-BCC6-66BDEAED5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E4C3-E57B-4B4A-B0C2-BD05BE24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2570-7728-481E-ABE7-3E4A0A789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DAE1-FAEB-4416-A57E-34405D3D3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F36A-FF90-4956-945C-CCC55E4D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E8FD-3B0A-44B2-B6D4-55BBC8D1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AD0B-A834-413C-A76C-88E30ABF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E3F3-4702-4F6B-9FB6-78FB282F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2329-F5EC-4590-BF51-FC0BAF62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8303-9257-4F3A-8C39-8FF2578D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E8A5-F4F5-4531-977F-855ED1FF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14A3-2386-4644-9D66-EC048706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96A1-18B5-44D4-BAAF-6631F4B95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3429000" y="4648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”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j0233971"/>
          <p:cNvPicPr/>
          <p:nvPr/>
        </p:nvPicPr>
        <p:blipFill>
          <a:blip r:embed="rId2"/>
          <a:stretch/>
        </p:blipFill>
        <p:spPr>
          <a:xfrm>
            <a:off x="990720" y="4191120"/>
            <a:ext cx="194616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WordArt 4"/>
          <p:cNvSpPr txBox="1"/>
          <p:nvPr/>
        </p:nvSpPr>
        <p:spPr>
          <a:xfrm>
            <a:off x="609480" y="609480"/>
            <a:ext cx="815364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ff33"/>
                </a:solidFill>
                <a:latin typeface="Cooper Black"/>
              </a:rPr>
              <a:t>Science Scrambl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ff33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76320" y="380520"/>
            <a:ext cx="8915400" cy="94716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unscramble all the words below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nt:  They all start with the letter 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52280" y="18288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 M O E N 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3962520" y="182880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 am map of your ge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152280" y="275436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 P A H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3962520" y="275436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’ll help you share your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152280" y="36799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 R A G I Y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3962520" y="367992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 can really bring you 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152280" y="460548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 E H E S U O G R 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 E C E T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0"/>
          <p:cNvSpPr/>
          <p:nvPr/>
        </p:nvSpPr>
        <p:spPr>
          <a:xfrm>
            <a:off x="4038480" y="460548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’m making things warm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7"/>
          <p:cNvSpPr/>
          <p:nvPr/>
        </p:nvSpPr>
        <p:spPr>
          <a:xfrm>
            <a:off x="152280" y="5958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 A N U N E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8"/>
          <p:cNvSpPr/>
          <p:nvPr/>
        </p:nvSpPr>
        <p:spPr>
          <a:xfrm>
            <a:off x="3962520" y="595800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I’m found in D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76320" y="380520"/>
            <a:ext cx="8915400" cy="94716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unscramble all the phrases below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nt:  They all start with the letter 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52280" y="18288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N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962520" y="182880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 am map of your ge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52280" y="275436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962520" y="275436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’ll help you share your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152280" y="36799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A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962520" y="367992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 can really bring you 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152280" y="460548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EENHOUSE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4038480" y="460548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’m making things warm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152280" y="5958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UAN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3962520" y="595800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I’m found in D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</cp:lastModifiedBy>
  <dcterms:modified xsi:type="dcterms:W3CDTF">2011-03-16T19:32:56Z</dcterms:modified>
  <cp:revision>37</cp:revision>
  <dc:subject/>
  <dc:title>Slide 1</dc:title>
</cp:coreProperties>
</file>