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7D2-26E9-4CA6-8176-7540ED39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7E8-F003-4D1F-A8FD-75DFEF94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882-5F29-4926-8D50-DC12445A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353-2F24-481B-A88E-42050D3F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FE2-2374-419C-86A6-E4512B1C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EE4-FA26-4336-A288-A06FDD47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9BE-0D30-4D54-8236-E7B89F71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7B1-3128-4637-BFFC-B4A62B6E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D92-8EC3-4EC7-B357-A449BCC0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E97-D27F-4886-9667-BAC5BB6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26F-8E97-4BA5-A318-DB5B5111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DE8-017F-4949-BFE7-60E3EDAF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57F7-EF94-4765-AC4A-8014DC13B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1828800"/>
            <a:ext cx="8686800" cy="520560"/>
            <a:chOff x="228600" y="1828800"/>
            <a:chExt cx="8686800" cy="520560"/>
          </a:xfrm>
        </p:grpSpPr>
        <p:sp>
          <p:nvSpPr>
            <p:cNvPr id="48" name=""/>
            <p:cNvSpPr/>
            <p:nvPr/>
          </p:nvSpPr>
          <p:spPr>
            <a:xfrm>
              <a:off x="228600" y="18288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 F C R 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9880" y="182880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. I am a push or a pull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8600" y="2754360"/>
            <a:ext cx="8686800" cy="520560"/>
            <a:chOff x="228600" y="2754360"/>
            <a:chExt cx="8686800" cy="520560"/>
          </a:xfrm>
        </p:grpSpPr>
        <p:sp>
          <p:nvSpPr>
            <p:cNvPr id="51" name=""/>
            <p:cNvSpPr/>
            <p:nvPr/>
          </p:nvSpPr>
          <p:spPr>
            <a:xfrm>
              <a:off x="228600" y="27543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 C I F T N I 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09880" y="275436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. I can “drag” you down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" y="3679920"/>
            <a:ext cx="8686800" cy="520560"/>
            <a:chOff x="228600" y="3679920"/>
            <a:chExt cx="8686800" cy="520560"/>
          </a:xfrm>
        </p:grpSpPr>
        <p:sp>
          <p:nvSpPr>
            <p:cNvPr id="54" name=""/>
            <p:cNvSpPr/>
            <p:nvPr/>
          </p:nvSpPr>
          <p:spPr>
            <a:xfrm>
              <a:off x="228600" y="367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 S O F I 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9880" y="367992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. I can tell you about the pas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28600" y="4605480"/>
            <a:ext cx="8686800" cy="947160"/>
            <a:chOff x="228600" y="4605480"/>
            <a:chExt cx="8686800" cy="947160"/>
          </a:xfrm>
        </p:grpSpPr>
        <p:sp>
          <p:nvSpPr>
            <p:cNvPr id="57" name=""/>
            <p:cNvSpPr/>
            <p:nvPr/>
          </p:nvSpPr>
          <p:spPr>
            <a:xfrm>
              <a:off x="228600" y="4605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 C L F U M 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9880" y="4605480"/>
              <a:ext cx="510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. I can make your job easier or harder depending on where I am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28600" y="5958000"/>
            <a:ext cx="8686800" cy="520560"/>
            <a:chOff x="228600" y="5958000"/>
            <a:chExt cx="8686800" cy="520560"/>
          </a:xfrm>
        </p:grpSpPr>
        <p:sp>
          <p:nvSpPr>
            <p:cNvPr id="60" name=""/>
            <p:cNvSpPr/>
            <p:nvPr/>
          </p:nvSpPr>
          <p:spPr>
            <a:xfrm>
              <a:off x="228600" y="59580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M L F R O 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880" y="595800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. I can help you solve a problem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828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push or a pu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7543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75436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“drag” you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67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S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36799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tell you about the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605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LC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6054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make your job easier or harder depending on where I 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958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9580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help you solve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23:39Z</dcterms:modified>
  <cp:revision>32</cp:revision>
  <dc:subject/>
  <dc:title>Slide 1</dc:title>
</cp:coreProperties>
</file>