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17A-3495-4DD5-B0CA-36A8F3D5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638-8027-4445-B149-9A0F4408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703-B1C7-4E33-86EA-44BF14BD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BAF-EAC3-43BB-A812-0E968AFB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2D5-D3A4-4784-87B1-ABFA2B39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58A-40EE-48E8-A47E-8EA2747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D58-8AA8-4D7C-B04A-E6FC816D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E91-8E1D-463C-B942-78A64F0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A7C-5353-448C-8A03-886BA977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621-E1F7-49FC-908A-B0CE9F9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A25-0EC2-4822-8904-C836145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D4E-7DE5-48E0-AA28-5713032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56D7-0ABF-4161-A31B-CC156ADB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828800"/>
            <a:ext cx="8686800" cy="520560"/>
            <a:chOff x="228600" y="1828800"/>
            <a:chExt cx="8686800" cy="520560"/>
          </a:xfrm>
        </p:grpSpPr>
        <p:sp>
          <p:nvSpPr>
            <p:cNvPr id="48" name=""/>
            <p:cNvSpPr/>
            <p:nvPr/>
          </p:nvSpPr>
          <p:spPr>
            <a:xfrm>
              <a:off x="228600" y="18288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 F C R 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9880" y="18288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 I am a push or a pul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2754360"/>
            <a:ext cx="8686800" cy="520560"/>
            <a:chOff x="228600" y="2754360"/>
            <a:chExt cx="8686800" cy="520560"/>
          </a:xfrm>
        </p:grpSpPr>
        <p:sp>
          <p:nvSpPr>
            <p:cNvPr id="51" name=""/>
            <p:cNvSpPr/>
            <p:nvPr/>
          </p:nvSpPr>
          <p:spPr>
            <a:xfrm>
              <a:off x="228600" y="27543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 C I F T N I 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275436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. I can “drag” you dow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3679920"/>
            <a:ext cx="8686800" cy="520560"/>
            <a:chOff x="228600" y="3679920"/>
            <a:chExt cx="8686800" cy="520560"/>
          </a:xfrm>
        </p:grpSpPr>
        <p:sp>
          <p:nvSpPr>
            <p:cNvPr id="54" name=""/>
            <p:cNvSpPr/>
            <p:nvPr/>
          </p:nvSpPr>
          <p:spPr>
            <a:xfrm>
              <a:off x="228600" y="367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 S O F I 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9880" y="367992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. I can tell you about the pas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28600" y="4605480"/>
            <a:ext cx="8686800" cy="947160"/>
            <a:chOff x="228600" y="4605480"/>
            <a:chExt cx="8686800" cy="947160"/>
          </a:xfrm>
        </p:grpSpPr>
        <p:sp>
          <p:nvSpPr>
            <p:cNvPr id="57" name=""/>
            <p:cNvSpPr/>
            <p:nvPr/>
          </p:nvSpPr>
          <p:spPr>
            <a:xfrm>
              <a:off x="228600" y="4605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 C L F U M 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9880" y="4605480"/>
              <a:ext cx="510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. I can make your job easier or harder depending on where I am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8600" y="5958000"/>
            <a:ext cx="8686800" cy="520560"/>
            <a:chOff x="228600" y="5958000"/>
            <a:chExt cx="8686800" cy="520560"/>
          </a:xfrm>
        </p:grpSpPr>
        <p:sp>
          <p:nvSpPr>
            <p:cNvPr id="60" name=""/>
            <p:cNvSpPr/>
            <p:nvPr/>
          </p:nvSpPr>
          <p:spPr>
            <a:xfrm>
              <a:off x="228600" y="5958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M L F R O 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9580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. I can help you solve a problem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push or a pu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754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7543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“drag” you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67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S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679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tell you about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605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6054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make your job easier or harder depending on where I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9580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help you solve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3:39Z</dcterms:modified>
  <cp:revision>32</cp:revision>
  <dc:subject/>
  <dc:title>Slide 1</dc:title>
</cp:coreProperties>
</file>