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1FD-86D4-46A6-92FD-2C123FB3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558-2765-4628-ACAD-A4AA2047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A5D-1752-427D-8480-4396215E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C48-A552-44D6-9872-59692F64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620-C9B4-4249-ADBD-16766FEB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84E4-BA6F-4889-9C6F-35E0ACE8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D83-BC4F-4170-8705-41B08A5F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FCD-D38B-4234-A1F6-9A4015B7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DEA-7108-4791-BD1A-2414D2DE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D45-262D-428A-A6A9-FB8FFC33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0BC-8A2E-46D0-B8E3-E0A0BC76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CB0-58F1-4FC3-A3D1-6EEA2989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3E40-E22D-4667-B94C-9452DE33B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33971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E S O E T X E O N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191120" y="1828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on the outside of an in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280368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O E C E L R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191120" y="28036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m very negative all th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600" y="3778200"/>
            <a:ext cx="36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S E I R O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4191120" y="37782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Don’t let it wash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28600" y="461628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 A R T E U R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191120" y="46162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the center of the world in a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228600" y="572940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 Q K A E T R U A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4191120" y="57294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might make you shake, rattle, and roll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OSKEL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86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on the outside of an in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3809880" y="2803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m very negative all th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3809880" y="3778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Don’t let it wash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3809880" y="46162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the center of the world in a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3809880" y="572940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might make you shake, rattle, and roll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11-03-16T19:33:44Z</dcterms:modified>
  <cp:revision>54</cp:revision>
  <dc:subject/>
  <dc:title>Slide 1</dc:title>
</cp:coreProperties>
</file>