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92A-9C26-4A8C-9634-2B30CFDF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9BE-B67B-4F34-B63E-5EBE8452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740-9135-4927-9974-BF75E414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095-27CC-4AFD-9AF4-989C7FA6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96D-1031-4753-88D8-1D64724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CF4-514D-4B33-96BE-B822424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A24-7FAA-4EC6-88A9-CF084BA3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DB1-18EB-4624-9906-EA24E84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E53-DF26-4CD7-B6C5-F7EA0C4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AB0-D597-48C6-A09E-FF9A8DA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2DF-1383-4D17-A8CC-EEE75A9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187-75E6-45F4-86BD-48D280D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8C66-2E8E-43B3-9E38-821963E7D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E S O E T X E O N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1911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on the outside of an in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 E C E L 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191120" y="28036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very negativ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S E I R O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191120" y="3778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on’t let it was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6162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A R T E U 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191120" y="4616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the center of the world in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Q K A E T R U 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191120" y="57294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might make you shake, rattle, and rol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SKE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on the outside of an in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very negativ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on’t let it was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4616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the center of the world in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3809880" y="5729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might make you shake, rattle, and rol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1-03-16T19:33:44Z</dcterms:modified>
  <cp:revision>54</cp:revision>
  <dc:subject/>
  <dc:title>Slide 1</dc:title>
</cp:coreProperties>
</file>