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61F-0C79-4B5A-A809-2731B21A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955-459C-4E8D-969C-5B446333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A11-463A-4C42-B5E9-9DBDA48F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0FE-43A6-4216-9399-325BA2AB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2924-B2A9-4B3A-8C94-3477F22A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A92-80B1-4B18-999B-3DE33408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098E-FC7E-4173-9DB2-D36A63FD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E32-CE7A-45B3-9AEE-6F80E08A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82F-787A-44D7-A780-EE093E99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369-77A5-413C-AA2A-95D9CDF4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F15-65AF-43F0-95BC-65483254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7FE-9BD2-4F62-9A46-D9384E13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747C-F292-4852-A251-4FAE69908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D C M O P S E O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called nature’s recyc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 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help you make a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I D S L O E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is happens in a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A M R I 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753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 might label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D C B E I S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729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How loud can you b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OMPO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called nature’s recyc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help you make a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is happens in a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4753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 might label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5729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How loud can you b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0:24:00Z</dcterms:modified>
  <cp:revision>45</cp:revision>
  <dc:subject/>
  <dc:title>Slide 1</dc:title>
</cp:coreProperties>
</file>