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FFA-9B9C-487D-8C5E-0FEB6BD5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594-7B62-4FE8-80AE-47B2792E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232-F2D7-46B0-8C8C-EE270E6D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93D-6EA6-4E26-9266-D4EE9D45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843-3B4F-4377-BAEB-B84419E9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8CD-2584-4037-A3D2-AB8C8589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59A-26E4-45D0-81D1-392BF4ED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57A-84E2-41DE-8A79-55105B4C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5C5-AEA5-4550-A510-446D0CC4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614-CC4D-4252-873F-68CB3E0D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75B-418D-403D-820F-F7AFAEF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4A6-3F8C-44F8-B3A8-ADD3D36D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0663-512B-4D0B-B536-7F959DCFF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D C M O P S E O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called nature’s recyc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 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help you make a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I D S L O E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is happens in a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A M R I 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7530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 might label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D C B E I S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729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How loud can you b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OMPO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called nature’s recyc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help you make a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is happens in a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47530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 might label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5729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How loud can you b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0:24:00Z</dcterms:modified>
  <cp:revision>45</cp:revision>
  <dc:subject/>
  <dc:title>Slide 1</dc:title>
</cp:coreProperties>
</file>