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532-2089-4715-9F45-5BE4B47A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105-C8CC-4322-AAA1-99FFF5E5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027-D2EA-49A4-B2A4-82BC52DF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2BE-8CAD-4424-84F2-0F49F18A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6F5-0D21-4E0E-A039-9AE501E5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A4E-DD63-4AA4-8EE9-D1DD8502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AF0-9FC8-43FF-B0C7-194E05E3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06F-7FBF-441D-9AC1-85D900FD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AC7-404B-428F-B956-E901926C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37D-17AC-4E04-8700-78C1EA9F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053-B630-4E60-B5D7-75DD4921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FB9-CF3F-41D6-99B4-5CB0BCA1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722C-BAE7-49B9-A0B5-02E9F7F6A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A B C N 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n element with 6 pro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M A S P C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if you’re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N I A R C O V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eat other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O D U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809880" y="47530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’ll have to look up to see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881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 C 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3809880" y="5881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help things m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3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n element with 6 pro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if you’re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eat other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9880" y="47530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’ll have to look up to see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3809880" y="5881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help things m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N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28600" y="5881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09-04-03T23:00:13Z</dcterms:modified>
  <cp:revision>41</cp:revision>
  <dc:subject/>
  <dc:title>Slide 1</dc:title>
</cp:coreProperties>
</file>