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FCE-36AB-4701-BFCC-88073400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B49-FE5B-422F-ADCD-B1813854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F34-DBB7-4BD2-855B-9D3519CF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6BA-8E4D-4AE3-A452-239D5B5B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70B-0B90-4C55-8BB1-5D8EE51A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A3A-1BBC-49B7-BB15-F0E98BE4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49D8-3943-4CF9-8D6D-B6EAB748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7E1-A5A2-4D1C-BC43-86940A60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DA0-351C-4132-90FF-DC41CA6D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1D9-13E7-4EEB-8ABE-2F55F82E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0D4-7CE0-422B-A3DB-7B5C2DC5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018-5519-4D37-8AF9-B45ECF64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A9D0-5F4F-4CDE-9708-C6E6713EE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33971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A B C N 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an element with 6 prot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M A S P C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3809880" y="2803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help you if you’re l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N I A R C O V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3809880" y="3778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eat other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O D U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3809880" y="47530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You’ll have to look up to see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228600" y="5881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L C A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3809880" y="5881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help things m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3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an element with 6 prot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809880" y="2803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help you if you’re l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3809880" y="3778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eat other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809880" y="47530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You’ll have to look up to see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3809880" y="5881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help things m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N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228600" y="5881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09-04-03T23:00:13Z</dcterms:modified>
  <cp:revision>41</cp:revision>
  <dc:subject/>
  <dc:title>Slide 1</dc:title>
</cp:coreProperties>
</file>