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96E-53B3-4768-BD82-4F63DFEA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FC5-242C-4E9C-B61C-AAE705E0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4610-EFFF-495C-A217-53A6CC9B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28B2-1D18-4B20-9B1A-90591F5F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D14A-F144-47D9-AFA4-3EF78477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6FE-2DA2-4D78-918A-D72D73E2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7930-486E-4F07-8913-B59B3134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73B-5BB7-40F7-A75B-EA59BA24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7224-8D99-489B-A106-C68CB3AA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EE6D-1E85-4125-B52E-3B7515D0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5A0-7798-4665-ACB8-E64BE8A8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1B6-8A29-4E88-9966-7B84FF82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DA41-40FF-4E4D-9996-AA2377CB3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A E R T B I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can make you si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O B O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2803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flow through your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778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B L I O G S I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3778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study living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753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E B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7530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have a pH over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729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O B 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7294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We support your bod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can make you si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803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flow through your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778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3778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study living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4753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47530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have a pH over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729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57294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We support your bod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4T00:26:52Z</dcterms:modified>
  <cp:revision>36</cp:revision>
  <dc:subject/>
  <dc:title>Slide 1</dc:title>
</cp:coreProperties>
</file>