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449-8A0D-4AE4-AC56-82D01FCC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1EA-AA67-47B7-A6E0-F5545A7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CF2-511E-42BF-822D-696E7C3A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2C9-22DB-45B7-88CE-58EE288C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5FB-5741-455B-8825-A4B39FBE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FCE-0DDD-4445-B297-C902808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992-26BD-4382-827D-8776DC9E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8F2-34A8-49C2-A89C-2DA941BB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B35-25C7-4670-838A-50C4E924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4C7-1044-475C-9088-884A482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E6C-98A4-4192-9F79-389E7E2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832-9852-43A7-976C-C1BB40C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8D7-D79D-417B-BAD8-48921A6E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A E R T B I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can make you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O B O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flow through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B L I O G S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E B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have a pH over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O B 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e support your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can make you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flow through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have a pH over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e support your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6:52Z</dcterms:modified>
  <cp:revision>36</cp:revision>
  <dc:subject/>
  <dc:title>Slide 1</dc:title>
</cp:coreProperties>
</file>