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4B5B-B6BB-4E32-9AE0-4BC6C2933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3978-EBA8-4962-A92A-BB0735D4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C652-3E35-473B-8C6B-4BD12FF7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8831-C8C3-433F-8BC7-E509D8EF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FAF0-F91C-4DF4-9667-510473E6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C75A-8387-4CF2-A68C-151FA2EF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0BCD-F3DA-48B2-8699-D46428BA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0DD0-A1D7-4745-A784-8B6E4667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097D-8F7C-4DE5-A55B-F20DD48F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75FA-44B2-4938-B18C-CB343543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4910-EF5B-4DC3-81A0-A33E4B92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5CA8-90B0-4B1E-8EDC-0974CDAC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5149-D15E-404D-B0F5-6E96B91D3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”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ff33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ff33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380520"/>
            <a:ext cx="8915400" cy="94716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word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ll start with the letter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828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D A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18288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 have a pH less than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5891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 A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9880" y="258912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am composed mostly of nitro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778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 A O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377820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am made of protons, neutrons, and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967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U A T R T O 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49672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 like my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57294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 N S I A L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57294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Zoologists study 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320" y="592920"/>
            <a:ext cx="8915400" cy="52056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828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18288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 have a pH less than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25891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258912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am composed mostly of nitro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778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377820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am made of protons, neutrons, and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4967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TRONA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9880" y="49672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 like my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57294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57294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Zoologists study 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4T00:26:23Z</dcterms:modified>
  <cp:revision>31</cp:revision>
  <dc:subject/>
  <dc:title>Slide 1</dc:title>
</cp:coreProperties>
</file>