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2AD-17CE-47D7-961F-844D7BDF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975-356C-4350-BB20-50947FFC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9C8-98BB-49EB-8E27-5E37701E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87E-4F81-4039-937D-35904591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10E6-FF06-4E1D-BAD1-5B799D21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8F7-3D00-487F-9803-FD36B58A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6CC-6F96-4E5E-ACAF-95DF555D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647-2AB7-4ADF-A04E-B1ABF34D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0DD-5BF9-407B-A625-CB83BC80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BC5-2D32-4A7D-AC38-14F4329A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4DA-0F95-4A91-9516-16A5428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55D-8FE2-4994-9763-5FFAA5C5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FE3E-47B3-4AAD-B72B-0C411B4D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828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D A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ave a pH less than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589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589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composed mostly of nitro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778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A O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7782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made of protons, neutrons, and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U A T R T O 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967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like my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 N S I A L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Zoologists study 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828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have a pH less than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589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589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composed mostly of nitro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778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7782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made of protons, neutrons, and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49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RON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4967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like my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729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Zoologists study 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4T00:26:23Z</dcterms:modified>
  <cp:revision>31</cp:revision>
  <dc:subject/>
  <dc:title>Slide 1</dc:title>
</cp:coreProperties>
</file>