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1887-D539-44A6-9A98-666DA45B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6F1-5878-4012-B046-0795E8EC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BB0-152A-412F-A801-8E2D7743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0DE-906E-447E-9A08-C484B776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326-1C7E-41E3-B61D-C6E4C289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827-3E44-4F23-B9BB-2C8B63B3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009-CA2D-43FA-A54C-A81C6C74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5A1-ACD8-4E88-892B-20B9D389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8E5B-E836-43A5-8347-0314F87B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F95-8C40-4572-9C7D-53B44224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CD4-0A77-4525-80B6-CD957691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F4A-9210-43CD-8FD5-903C1916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BCE4B-84B9-40BB-8959-2D754FB53F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63E53-AF58-4F16-81CA-A954E7447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2280" y="1113840"/>
            <a:ext cx="8458200" cy="459720"/>
          </a:xfrm>
          <a:prstGeom prst="rect">
            <a:avLst/>
          </a:prstGeom>
          <a:gradFill rotWithShape="0">
            <a:gsLst>
              <a:gs pos="0">
                <a:srgbClr val="ffe8da"/>
              </a:gs>
              <a:gs pos="100000">
                <a:srgbClr val="ffb280"/>
              </a:gs>
            </a:gsLst>
            <a:lin ang="54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nscramble the words to find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52280" y="0"/>
            <a:ext cx="48769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b45f07"/>
                </a:solidFill>
                <a:latin typeface="Abadi MT Condensed Extra Bold"/>
              </a:rPr>
              <a:t>Geolog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b45f07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257800" y="360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76320" y="163656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three types of volcano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152280" y="2298600"/>
            <a:ext cx="8458200" cy="1373760"/>
          </a:xfrm>
          <a:prstGeom prst="rect">
            <a:avLst/>
          </a:prstGeom>
          <a:gradFill rotWithShape="0">
            <a:gsLst>
              <a:gs pos="0">
                <a:srgbClr val="ffab71"/>
              </a:gs>
              <a:gs pos="100000">
                <a:srgbClr val="ff8000"/>
              </a:gs>
            </a:gsLst>
            <a:lin ang="5400000"/>
          </a:gradFill>
          <a:ln w="9360">
            <a:solidFill>
              <a:srgbClr val="f07c0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o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inder c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152280" y="3962520"/>
            <a:ext cx="84582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l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poso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d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52280" y="3962520"/>
            <a:ext cx="8458200" cy="1373760"/>
          </a:xfrm>
          <a:prstGeom prst="rect">
            <a:avLst/>
          </a:prstGeom>
          <a:solidFill>
            <a:srgbClr val="c19859"/>
          </a:solidFill>
          <a:ln w="25560">
            <a:solidFill>
              <a:srgbClr val="8d6e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Venn diagram and your vocabulary notes to compare two of the volcanoes. Do this on one of your L pages next to the vocabulary p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2:28:06Z</dcterms:created>
  <dc:creator>Patricia Reardon</dc:creator>
  <dc:description/>
  <dc:language>en-US</dc:language>
  <cp:lastModifiedBy>preardon</cp:lastModifiedBy>
  <dcterms:modified xsi:type="dcterms:W3CDTF">2009-02-04T12:54:28Z</dcterms:modified>
  <cp:revision>38</cp:revision>
  <dc:subject/>
  <dc:title>Slide 1</dc:title>
</cp:coreProperties>
</file>