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F3D-1E6D-40E7-B4AF-2E2CF101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4AF-0CFF-494D-9DDC-48701BA7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189-216E-4AAC-99FE-08272A2D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7DF-2F3E-4E04-B622-BFC3551E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A13-258B-4C99-9502-CD68937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9A5-F161-431D-9A48-3E4AE25F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71A-D53E-41AD-B202-49E0440C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A76-2CDD-4209-9FEC-E4C891E8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C37-AC35-4E24-9B2A-301188C7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A56-4F92-491C-A58F-4D6DAAC6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CC1-F5D4-4B63-B122-4477AA60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D19-D578-4DC0-9709-2377343D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18530-B9C6-4352-A81B-3C3F44D11D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C5AB3-C07B-4857-9002-6EBCF8913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1113840"/>
            <a:ext cx="8458200" cy="459720"/>
          </a:xfrm>
          <a:prstGeom prst="rect">
            <a:avLst/>
          </a:prstGeom>
          <a:gradFill rotWithShape="0">
            <a:gsLst>
              <a:gs pos="0">
                <a:srgbClr val="ffe8da"/>
              </a:gs>
              <a:gs pos="100000">
                <a:srgbClr val="ffb280"/>
              </a:gs>
            </a:gsLst>
            <a:lin ang="54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nscramble the words to find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2280" y="0"/>
            <a:ext cx="48769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45f07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45f07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57800" y="360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76320" y="163656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hree types of volcano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152280" y="2298600"/>
            <a:ext cx="8458200" cy="1373760"/>
          </a:xfrm>
          <a:prstGeom prst="rect">
            <a:avLst/>
          </a:prstGeom>
          <a:gradFill rotWithShape="0">
            <a:gsLst>
              <a:gs pos="0">
                <a:srgbClr val="ffab71"/>
              </a:gs>
              <a:gs pos="100000">
                <a:srgbClr val="ff8000"/>
              </a:gs>
            </a:gsLst>
            <a:lin ang="5400000"/>
          </a:gradFill>
          <a:ln w="9360">
            <a:solidFill>
              <a:srgbClr val="f07c0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inder c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152280" y="3962520"/>
            <a:ext cx="84582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l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poso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d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52280" y="3962520"/>
            <a:ext cx="8458200" cy="1373760"/>
          </a:xfrm>
          <a:prstGeom prst="rect">
            <a:avLst/>
          </a:prstGeom>
          <a:solidFill>
            <a:srgbClr val="c19859"/>
          </a:solidFill>
          <a:ln w="2556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Venn diagram and your vocabulary notes to compare two of the volcanoes. Do this on one of your L pages next to the vocabulary 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2:28:06Z</dcterms:created>
  <dc:creator>Patricia Reardon</dc:creator>
  <dc:description/>
  <dc:language>en-US</dc:language>
  <cp:lastModifiedBy>preardon</cp:lastModifiedBy>
  <dcterms:modified xsi:type="dcterms:W3CDTF">2009-02-04T12:54:28Z</dcterms:modified>
  <cp:revision>38</cp:revision>
  <dc:subject/>
  <dc:title>Slide 1</dc:title>
</cp:coreProperties>
</file>