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7EB-C05E-4B4C-9EDD-7A8162CB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9C0-CBC2-4B51-A73B-C7BA7DB5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699-1453-4246-A8CB-61F3E680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798-EC39-460E-8F53-F798A7FD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458-0693-419A-AAA2-F68D0BCC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451-5E46-4A96-BAE1-9AD2AC50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4EA-745D-4823-9121-47F05699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AE9-A16A-43CD-AC6A-4ED6D6DE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922-0E32-4D94-BADB-DE52684F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4DA-75FB-4112-831C-077F6EBC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C713-E378-4367-A49B-A3FFC928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CEF-63F7-42C0-9026-86B5ED96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C2B5B-2AD5-4CC3-A715-44813F34E5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6ADB7-088A-48FB-B6C3-A3F7791E0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2280" y="1113840"/>
            <a:ext cx="8458200" cy="459720"/>
          </a:xfrm>
          <a:prstGeom prst="rect">
            <a:avLst/>
          </a:prstGeom>
          <a:gradFill rotWithShape="0">
            <a:gsLst>
              <a:gs pos="0">
                <a:srgbClr val="fbe6e7"/>
              </a:gs>
              <a:gs pos="100000">
                <a:srgbClr val="efa5a8"/>
              </a:gs>
            </a:gsLst>
            <a:lin ang="5400000"/>
          </a:gradFill>
          <a:ln w="9360">
            <a:solidFill>
              <a:srgbClr val="9e2532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thing goes… (think fun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52280" y="0"/>
            <a:ext cx="48769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d96b77"/>
                </a:solidFill>
                <a:latin typeface="Abadi MT Condensed Extra Bold"/>
              </a:rPr>
              <a:t>Geolog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d96b77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257800" y="360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#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76320" y="163656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volcano i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76320" y="3657600"/>
            <a:ext cx="89913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at did the dad volcano say to the mom volca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380880" y="2298600"/>
            <a:ext cx="8763120" cy="520560"/>
          </a:xfrm>
          <a:prstGeom prst="rect">
            <a:avLst/>
          </a:prstGeom>
          <a:gradFill rotWithShape="0">
            <a:gsLst>
              <a:gs pos="0">
                <a:srgbClr val="f59ea3"/>
              </a:gs>
              <a:gs pos="100000">
                <a:srgbClr val="b11728"/>
              </a:gs>
            </a:gsLst>
            <a:lin ang="5400000"/>
          </a:gradFill>
          <a:ln w="9360">
            <a:solidFill>
              <a:srgbClr val="9e2532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mountain with hiccup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0" y="5681520"/>
            <a:ext cx="8991720" cy="520560"/>
          </a:xfrm>
          <a:prstGeom prst="rect">
            <a:avLst/>
          </a:prstGeom>
          <a:gradFill rotWithShape="0">
            <a:gsLst>
              <a:gs pos="0">
                <a:srgbClr val="f59ea3"/>
              </a:gs>
              <a:gs pos="100000">
                <a:srgbClr val="b11728"/>
              </a:gs>
            </a:gsLst>
            <a:lin ang="5400000"/>
          </a:gradFill>
          <a:ln w="9360">
            <a:solidFill>
              <a:srgbClr val="9e2532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o you lava me like I lava you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18" descr=""/>
          <p:cNvPicPr/>
          <p:nvPr/>
        </p:nvPicPr>
        <p:blipFill>
          <a:blip r:embed="rId2"/>
          <a:stretch/>
        </p:blipFill>
        <p:spPr>
          <a:xfrm>
            <a:off x="7334280" y="2676600"/>
            <a:ext cx="1498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1:58:08Z</dcterms:created>
  <dc:creator>Patricia Reardon</dc:creator>
  <dc:description/>
  <dc:language>en-US</dc:language>
  <cp:lastModifiedBy>preardon</cp:lastModifiedBy>
  <dcterms:modified xsi:type="dcterms:W3CDTF">2009-01-29T17:17:34Z</dcterms:modified>
  <cp:revision>34</cp:revision>
  <dc:subject/>
  <dc:title>Slide 1</dc:title>
</cp:coreProperties>
</file>