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4C5-79B9-421A-B2F3-97B1ADA1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0EF-77EE-4EC3-AEC5-E50EFB48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EE4-1EB3-4617-9780-087C43B7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A80-D2D7-4308-866D-D0E28720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ABC-1B5D-4FE3-952B-C568D833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113-514B-4C7A-A27A-C9EF915F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F534-5FCE-4001-871B-2C20E1F9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CC1-1CB3-4753-9183-E3318380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77B-E6DE-49C2-956F-C018E7EC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A10-08A7-4BE7-8847-DBDD7156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4B7-4DAE-4C00-9FB2-320BC6AF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3B1B-EBC0-48D0-BB43-1BD8A189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375B7-A08A-43F8-83A8-ABB9FB2838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769D4-014A-4749-8E3C-61DFDC762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2280" y="1113840"/>
            <a:ext cx="8458200" cy="459720"/>
          </a:xfrm>
          <a:prstGeom prst="rect">
            <a:avLst/>
          </a:prstGeom>
          <a:gradFill rotWithShape="0">
            <a:gsLst>
              <a:gs pos="0">
                <a:srgbClr val="fbe6e7"/>
              </a:gs>
              <a:gs pos="100000">
                <a:srgbClr val="efa5a8"/>
              </a:gs>
            </a:gsLst>
            <a:lin ang="5400000"/>
          </a:gradFill>
          <a:ln w="9360">
            <a:solidFill>
              <a:srgbClr val="9e2532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thing goes… (think fun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52280" y="0"/>
            <a:ext cx="48769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d96b77"/>
                </a:solidFill>
                <a:latin typeface="Abadi MT Condensed Extra Bold"/>
              </a:rPr>
              <a:t>Geolog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d96b77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257800" y="360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#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preardon\Local Settings\Temporary Internet Files\Content.IE5\JI0F9GEZ\MCj01875870000[1].wmf"/>
          <p:cNvPicPr/>
          <p:nvPr/>
        </p:nvPicPr>
        <p:blipFill>
          <a:blip r:embed="rId1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76320" y="163656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volcano 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76320" y="3657600"/>
            <a:ext cx="89913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at did the dad volcano say to the mom volca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380880" y="2298600"/>
            <a:ext cx="8763120" cy="520560"/>
          </a:xfrm>
          <a:prstGeom prst="rect">
            <a:avLst/>
          </a:prstGeom>
          <a:gradFill rotWithShape="0">
            <a:gsLst>
              <a:gs pos="0">
                <a:srgbClr val="f59ea3"/>
              </a:gs>
              <a:gs pos="100000">
                <a:srgbClr val="b11728"/>
              </a:gs>
            </a:gsLst>
            <a:lin ang="5400000"/>
          </a:gradFill>
          <a:ln w="9360">
            <a:solidFill>
              <a:srgbClr val="9e2532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mountain with hiccup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0" y="5681520"/>
            <a:ext cx="8991720" cy="520560"/>
          </a:xfrm>
          <a:prstGeom prst="rect">
            <a:avLst/>
          </a:prstGeom>
          <a:gradFill rotWithShape="0">
            <a:gsLst>
              <a:gs pos="0">
                <a:srgbClr val="f59ea3"/>
              </a:gs>
              <a:gs pos="100000">
                <a:srgbClr val="b11728"/>
              </a:gs>
            </a:gsLst>
            <a:lin ang="5400000"/>
          </a:gradFill>
          <a:ln w="9360">
            <a:solidFill>
              <a:srgbClr val="9e2532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 you lava me like I lava you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tangle 18" descr=""/>
          <p:cNvPicPr/>
          <p:nvPr/>
        </p:nvPicPr>
        <p:blipFill>
          <a:blip r:embed="rId2"/>
          <a:stretch/>
        </p:blipFill>
        <p:spPr>
          <a:xfrm>
            <a:off x="7334280" y="2676600"/>
            <a:ext cx="1498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1:58:08Z</dcterms:created>
  <dc:creator>Patricia Reardon</dc:creator>
  <dc:description/>
  <dc:language>en-US</dc:language>
  <cp:lastModifiedBy>preardon</cp:lastModifiedBy>
  <dcterms:modified xsi:type="dcterms:W3CDTF">2009-01-29T17:17:34Z</dcterms:modified>
  <cp:revision>34</cp:revision>
  <dc:subject/>
  <dc:title>Slide 1</dc:title>
</cp:coreProperties>
</file>