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091-495D-4EDD-AC62-21F3C8FE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FF5-0B22-4DE0-9E4F-143D07F4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0935-B3C2-4FEF-BB61-EAE6B9C5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F5C3-D7AE-4E77-A507-BC2F533C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735-03FC-4BFE-A5FF-EB7A3CF3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CDE-3D9E-4DF8-A02C-017689B5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D21-4698-42BF-B3A2-2D54F047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8D1-4ED3-4A10-90DF-E290A49D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EC3-6FED-4119-A1E5-8FE79BA6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93F-7436-4FA5-8464-76D58C63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038-D316-4339-B87C-E9291F7C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1A8-77A0-4DBE-ACD2-B579C138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9EA7F-6C2E-46F0-83C3-C8853CC79A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D8B07-658F-40E0-B8EF-FC59E2FBC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2280" y="883800"/>
            <a:ext cx="8458200" cy="459720"/>
          </a:xfrm>
          <a:prstGeom prst="rect">
            <a:avLst/>
          </a:prstGeom>
          <a:solidFill>
            <a:srgbClr val="fde5cd"/>
          </a:soli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oose the correct answ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52280" y="179280"/>
            <a:ext cx="3710160" cy="362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07f09"/>
                </a:solidFill>
                <a:latin typeface="Abadi MT Condensed Extra Bold"/>
              </a:rPr>
              <a:t>Geolog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07f09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724280" y="3603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76320" y="1406520"/>
            <a:ext cx="90676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is the name of the super continent believed to have been present millions of years a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z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Lauras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Pangae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Gondwana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152280" y="2979720"/>
            <a:ext cx="89917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ich of these statements isn't evidence for the theory of continental drif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The bulge of South America fitting into the indent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imilar fossils found in South America and Souther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Volcanoes on the edges of existing plat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52280" y="883800"/>
            <a:ext cx="8458200" cy="459720"/>
          </a:xfrm>
          <a:prstGeom prst="rect">
            <a:avLst/>
          </a:prstGeom>
          <a:solidFill>
            <a:srgbClr val="fde5cd"/>
          </a:solidFill>
          <a:ln w="9360">
            <a:solidFill>
              <a:srgbClr val="18567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oose the correct answ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52280" y="179280"/>
            <a:ext cx="3710160" cy="362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07f09"/>
                </a:solidFill>
                <a:latin typeface="Abadi MT Condensed Extra Bold"/>
              </a:rPr>
              <a:t>Geolog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07f09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724280" y="3603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Documents and Settings\preardon\Local Settings\Temporary Internet Files\Content.IE5\JI0F9GEZ\MCj01875870000[1].wmf"/>
          <p:cNvPicPr/>
          <p:nvPr/>
        </p:nvPicPr>
        <p:blipFill>
          <a:blip r:embed="rId1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3"/>
          <p:cNvSpPr/>
          <p:nvPr/>
        </p:nvSpPr>
        <p:spPr>
          <a:xfrm>
            <a:off x="76320" y="1406520"/>
            <a:ext cx="90676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is the name of the super continent believed to have been present millions of years a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z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Lauras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Pangae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Gondwana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52280" y="2979720"/>
            <a:ext cx="8991720" cy="34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ich of these statements isn't evidence for the theory of continental drif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The bulge of South America fitting into the indent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Similar fossil remains being found in South America and    Souther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Volcanoes on the edges of existing plat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657600" y="2298600"/>
            <a:ext cx="1600200" cy="459720"/>
          </a:xfrm>
          <a:prstGeom prst="rect">
            <a:avLst/>
          </a:pr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g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85800" y="5481720"/>
            <a:ext cx="7924680" cy="459720"/>
          </a:xfrm>
          <a:prstGeom prst="rect">
            <a:avLst/>
          </a:pr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Volcanoes on the edges of existing plat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057400" y="882720"/>
            <a:ext cx="4876920" cy="459720"/>
          </a:xfrm>
          <a:prstGeom prst="rect">
            <a:avLst/>
          </a:pr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nswers a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1:58:08Z</dcterms:created>
  <dc:creator>Patricia Reardon</dc:creator>
  <dc:description/>
  <dc:language>en-US</dc:language>
  <cp:lastModifiedBy>Tracy</cp:lastModifiedBy>
  <dcterms:modified xsi:type="dcterms:W3CDTF">2009-03-15T00:33:28Z</dcterms:modified>
  <cp:revision>29</cp:revision>
  <dc:subject/>
  <dc:title>Slide 1</dc:title>
</cp:coreProperties>
</file>