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91D6-5D1F-4C7F-849E-C2D7E16EA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823D-81B7-46FD-9DF5-C835F55D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252F-7B46-4972-80E0-2146A00B3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B03C-4B6A-43F9-A275-749BEE1AF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2438-0CA7-4A49-AAA5-A2F1900D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5D05-65EC-4798-A5EE-BEE4B44C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4C49-03D0-4D6E-B05A-9F3042B7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ED6E-0927-40E3-A65F-F0729113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1797-3431-46AD-A1B9-CC2F20F2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9368-E388-4593-B1B3-D0009627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5337-64AD-409A-9210-275CA4AA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3E93-5E23-404F-AFE8-9148EFAA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7B9BE1-E7D9-45DF-881E-20FB12878F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C507DC-474C-46CB-8774-988AF12ADF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52280" y="883800"/>
            <a:ext cx="8458200" cy="459720"/>
          </a:xfrm>
          <a:prstGeom prst="rect">
            <a:avLst/>
          </a:prstGeom>
          <a:solidFill>
            <a:srgbClr val="fde5cd"/>
          </a:solidFill>
          <a:ln w="9360">
            <a:solidFill>
              <a:srgbClr val="18567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oose the correct answ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52280" y="179280"/>
            <a:ext cx="3710160" cy="362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07f09"/>
                </a:solidFill>
                <a:latin typeface="Abadi MT Condensed Extra Bold"/>
              </a:rPr>
              <a:t>Geology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07f09"/>
              </a:solidFill>
              <a:latin typeface="Abadi MT Condensed Extra Bold"/>
              <a:ea typeface="Abadi MT Condensed Extra Bold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4724280" y="36036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447920" y="65530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. Reardon 2008 – Based on “Science Starters” by T. Trimpe at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C:\Documents and Settings\preardon\Local Settings\Temporary Internet Files\Content.IE5\JI0F9GEZ\MCj01875870000[1].wmf"/>
          <p:cNvPicPr/>
          <p:nvPr/>
        </p:nvPicPr>
        <p:blipFill>
          <a:blip r:embed="rId1"/>
          <a:stretch/>
        </p:blipFill>
        <p:spPr>
          <a:xfrm>
            <a:off x="8610480" y="152280"/>
            <a:ext cx="400320" cy="4701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3"/>
          <p:cNvSpPr/>
          <p:nvPr/>
        </p:nvSpPr>
        <p:spPr>
          <a:xfrm>
            <a:off x="76320" y="1406520"/>
            <a:ext cx="90676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at is the name of the super continent believed to have been present millions of years ag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z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Laurasi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Pangae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Gondwana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152280" y="2979720"/>
            <a:ext cx="89917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ich of these statements isn't evidence for the theory of continental drif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778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The bulge of South America fitting into the indent i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778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Similar fossils found in South America and Souther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778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Volcanoes on the edges of existing plate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52280" y="883800"/>
            <a:ext cx="8458200" cy="459720"/>
          </a:xfrm>
          <a:prstGeom prst="rect">
            <a:avLst/>
          </a:prstGeom>
          <a:solidFill>
            <a:srgbClr val="fde5cd"/>
          </a:solidFill>
          <a:ln w="9360">
            <a:solidFill>
              <a:srgbClr val="18567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oose the correct answ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52280" y="179280"/>
            <a:ext cx="3710160" cy="362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07f09"/>
                </a:solidFill>
                <a:latin typeface="Abadi MT Condensed Extra Bold"/>
              </a:rPr>
              <a:t>Geology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07f09"/>
              </a:solidFill>
              <a:latin typeface="Abadi MT Condensed Extra Bold"/>
              <a:ea typeface="Abadi MT Condensed Extra Bold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724280" y="36036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447920" y="65530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. Reardon 2008 – Based on “Science Starters” by T. Trimpe at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:\Documents and Settings\preardon\Local Settings\Temporary Internet Files\Content.IE5\JI0F9GEZ\MCj01875870000[1].wmf"/>
          <p:cNvPicPr/>
          <p:nvPr/>
        </p:nvPicPr>
        <p:blipFill>
          <a:blip r:embed="rId1"/>
          <a:stretch/>
        </p:blipFill>
        <p:spPr>
          <a:xfrm>
            <a:off x="8610480" y="152280"/>
            <a:ext cx="400320" cy="4701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3"/>
          <p:cNvSpPr/>
          <p:nvPr/>
        </p:nvSpPr>
        <p:spPr>
          <a:xfrm>
            <a:off x="76320" y="1406520"/>
            <a:ext cx="90676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at is the name of the super continent believed to have been present millions of years ag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z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Laurasi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Pangae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Gondwana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52280" y="2979720"/>
            <a:ext cx="8991720" cy="34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ich of these statements isn't evidence for the theory of continental drif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The bulge of South America fitting into the indent i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Similar fossil remains being found in South America and    Souther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Volcanoes on the edges of existing plate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3657600" y="2298600"/>
            <a:ext cx="1600200" cy="459720"/>
          </a:xfrm>
          <a:prstGeom prst="rect">
            <a:avLst/>
          </a:prstGeom>
          <a:solidFill>
            <a:srgbClr val="b45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nga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685800" y="5481720"/>
            <a:ext cx="7924680" cy="459720"/>
          </a:xfrm>
          <a:prstGeom prst="rect">
            <a:avLst/>
          </a:prstGeom>
          <a:solidFill>
            <a:srgbClr val="b45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Volcanoes on the edges of existing plate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2057400" y="882720"/>
            <a:ext cx="4876920" cy="459720"/>
          </a:xfrm>
          <a:prstGeom prst="rect">
            <a:avLst/>
          </a:prstGeom>
          <a:solidFill>
            <a:srgbClr val="b45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nswers a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01:58:08Z</dcterms:created>
  <dc:creator>Patricia Reardon</dc:creator>
  <dc:description/>
  <dc:language>en-US</dc:language>
  <cp:lastModifiedBy>Tracy</cp:lastModifiedBy>
  <dcterms:modified xsi:type="dcterms:W3CDTF">2009-03-15T00:33:28Z</dcterms:modified>
  <cp:revision>29</cp:revision>
  <dc:subject/>
  <dc:title>Slide 1</dc:title>
</cp:coreProperties>
</file>