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840-6309-4E05-BAE6-22B7AA4E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975-1053-4E01-B04C-49AE8D3B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8AB-D422-4708-97C9-4D89911C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11F-27FC-468A-AAE3-8B3F6E1C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E8E-D7F9-46DE-8EA1-7D66870B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D00-01F8-47E4-A3EF-D6D4A549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D32-F4BD-4D53-8DF9-2ABD077B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54A-4D03-4A5A-B10A-D02C90FA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36F-2693-45B7-86AF-68F550D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22C-C90E-4DD9-8782-4C8188AE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A15-D9F5-448A-999A-C62619F8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C02-220E-4D18-A142-42F13CEE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EEF1B-507B-476A-A8EA-41C011DA2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2D1C7-5529-46B6-A4FE-50A181804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884160"/>
            <a:ext cx="8458200" cy="5205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ose the correct answ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0" y="0"/>
            <a:ext cx="47242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80880" y="1406520"/>
            <a:ext cx="7467840" cy="209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42560" y="3962160"/>
            <a:ext cx="862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13"/>
          <p:cNvSpPr/>
          <p:nvPr/>
        </p:nvSpPr>
        <p:spPr>
          <a:xfrm>
            <a:off x="1042920" y="350532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of the Ocean Fl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13"/>
          <p:cNvSpPr/>
          <p:nvPr/>
        </p:nvSpPr>
        <p:spPr>
          <a:xfrm>
            <a:off x="5772240" y="3962520"/>
            <a:ext cx="3238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bals l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on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ion hlf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52280" y="884160"/>
            <a:ext cx="845820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0" y="0"/>
            <a:ext cx="47242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042560" y="3962160"/>
            <a:ext cx="26672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13"/>
          <p:cNvSpPr/>
          <p:nvPr/>
        </p:nvSpPr>
        <p:spPr>
          <a:xfrm>
            <a:off x="1042920" y="350532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of the Ocean Fl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1447920" y="5029200"/>
            <a:ext cx="236196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yssal 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1447920" y="3962520"/>
            <a:ext cx="337176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ental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1447920" y="4486320"/>
            <a:ext cx="337176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1447920" y="5553000"/>
            <a:ext cx="3371760" cy="5205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80880" y="1406520"/>
            <a:ext cx="7467840" cy="2098800"/>
          </a:xfrm>
          <a:prstGeom prst="rect">
            <a:avLst/>
          </a:prstGeom>
          <a:ln w="0">
            <a:noFill/>
          </a:ln>
        </p:spPr>
      </p:pic>
      <p:sp>
        <p:nvSpPr>
          <p:cNvPr id="62" name="Content Placeholder 13"/>
          <p:cNvSpPr/>
          <p:nvPr/>
        </p:nvSpPr>
        <p:spPr>
          <a:xfrm>
            <a:off x="5772240" y="3962520"/>
            <a:ext cx="3238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bals l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non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ion hlf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2:37:43Z</dcterms:created>
  <dc:creator>Patricia Reardon</dc:creator>
  <dc:description/>
  <dc:language>en-US</dc:language>
  <cp:lastModifiedBy>preardon</cp:lastModifiedBy>
  <dcterms:modified xsi:type="dcterms:W3CDTF">2009-01-27T15:01:30Z</dcterms:modified>
  <cp:revision>23</cp:revision>
  <dc:subject/>
  <dc:title>Slide 1</dc:title>
</cp:coreProperties>
</file>