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42B-3148-4265-86C4-A910B9D0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974-AF2F-46B9-A943-6CC98E6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5D6-BE37-425F-9775-DF42EA13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9BF-9F0C-4AD8-8E8D-3C44633C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C5E-457A-459F-BF21-67FEA89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3B1-4140-4D79-A95D-3B6A16D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750-442F-40FA-9AFE-0222284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007-2DE6-4873-97A0-1C3B46E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92C-1522-40ED-82CB-7D49CCFE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5BD-D304-4D1C-986A-E2EDD33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867-6843-437B-9A64-AA5F7D4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B92-874C-469D-97A0-26298DE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49FF-0BC5-4643-A426-EC9F1ADA63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C6E6B-7836-4492-B872-EE5F1CEFF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the correct answ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42560" y="3962160"/>
            <a:ext cx="862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3"/>
          <p:cNvSpPr/>
          <p:nvPr/>
        </p:nvSpPr>
        <p:spPr>
          <a:xfrm>
            <a:off x="104292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13"/>
          <p:cNvSpPr/>
          <p:nvPr/>
        </p:nvSpPr>
        <p:spPr>
          <a:xfrm>
            <a:off x="5772240" y="3962520"/>
            <a:ext cx="3238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bals l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560" y="3962160"/>
            <a:ext cx="2667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13"/>
          <p:cNvSpPr/>
          <p:nvPr/>
        </p:nvSpPr>
        <p:spPr>
          <a:xfrm>
            <a:off x="104292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447920" y="5029200"/>
            <a:ext cx="23619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yssal 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447920" y="396252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ental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1447920" y="448632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447920" y="555300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62" name="Content Placeholder 13"/>
          <p:cNvSpPr/>
          <p:nvPr/>
        </p:nvSpPr>
        <p:spPr>
          <a:xfrm>
            <a:off x="5772240" y="3962520"/>
            <a:ext cx="3238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bals l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2:37:43Z</dcterms:created>
  <dc:creator>Patricia Reardon</dc:creator>
  <dc:description/>
  <dc:language>en-US</dc:language>
  <cp:lastModifiedBy>preardon</cp:lastModifiedBy>
  <dcterms:modified xsi:type="dcterms:W3CDTF">2009-01-27T15:01:30Z</dcterms:modified>
  <cp:revision>23</cp:revision>
  <dc:subject/>
  <dc:title>Slide 1</dc:title>
</cp:coreProperties>
</file>