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478-BD39-4C60-BEF9-7171B94C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01C-E25D-494F-A2E3-559BE938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EE3F-2369-4467-AC25-F1632156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70F9-4F0A-4236-9F5C-0FC8E5BA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5E5B-8BF9-47AE-BA29-A263061B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EC19-1009-40A0-BED6-C6C9D73B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784-4809-46A5-BD1B-81E705F3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C75-D7DC-46D5-81D2-F95DC2F9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EE5E-966C-44E6-A331-804CF442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F93-0F29-4EB5-9C76-067D6F15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E0D6-5AC1-46BC-9559-BF79AE85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F823-1595-426E-8491-E69880C5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C2474-35D4-4DE3-9813-0B812066E1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D4AEE-356E-40A2-833A-0450C67C2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2280" y="884160"/>
            <a:ext cx="8458200" cy="52056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oose the correct answ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0" y="0"/>
            <a:ext cx="495288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53735"/>
                </a:solidFill>
                <a:latin typeface="Arial"/>
              </a:rPr>
              <a:t>Geology</a:t>
            </a:r>
            <a:endParaRPr b="1" i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53735"/>
              </a:solidFill>
              <a:latin typeface="Arial"/>
              <a:ea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724280" y="3603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6354720"/>
            <a:ext cx="3962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80880" y="1406520"/>
            <a:ext cx="7467840" cy="2098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80520" y="3962160"/>
            <a:ext cx="266724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13"/>
          <p:cNvSpPr/>
          <p:nvPr/>
        </p:nvSpPr>
        <p:spPr>
          <a:xfrm>
            <a:off x="380880" y="3535200"/>
            <a:ext cx="535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tures of the Ocean Fl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13"/>
          <p:cNvSpPr/>
          <p:nvPr/>
        </p:nvSpPr>
        <p:spPr>
          <a:xfrm>
            <a:off x="5886360" y="3535200"/>
            <a:ext cx="312444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cnil 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non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l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tion hlf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g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52280" y="884160"/>
            <a:ext cx="8458200" cy="5205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answers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0" y="0"/>
            <a:ext cx="472428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53735"/>
                </a:solidFill>
                <a:latin typeface="Arial"/>
              </a:rPr>
              <a:t>Geology</a:t>
            </a:r>
            <a:endParaRPr b="1" i="1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53735"/>
              </a:solidFill>
              <a:latin typeface="Arial"/>
              <a:ea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724280" y="3603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54" name="Content Placeholder 13"/>
          <p:cNvSpPr/>
          <p:nvPr/>
        </p:nvSpPr>
        <p:spPr>
          <a:xfrm>
            <a:off x="152280" y="3505320"/>
            <a:ext cx="535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tures of the Ocean Fl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1143000" y="5553000"/>
            <a:ext cx="2362320" cy="5205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1143000" y="5029200"/>
            <a:ext cx="3371760" cy="5205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inental sh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1143000" y="4506840"/>
            <a:ext cx="3371760" cy="5205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olcanic i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1143000" y="3963960"/>
            <a:ext cx="3371760" cy="5205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80880" y="1406520"/>
            <a:ext cx="7467840" cy="2098800"/>
          </a:xfrm>
          <a:prstGeom prst="rect">
            <a:avLst/>
          </a:prstGeom>
          <a:ln w="0">
            <a:noFill/>
          </a:ln>
        </p:spPr>
      </p:pic>
      <p:sp>
        <p:nvSpPr>
          <p:cNvPr id="60" name="Content Placeholder 13"/>
          <p:cNvSpPr/>
          <p:nvPr/>
        </p:nvSpPr>
        <p:spPr>
          <a:xfrm>
            <a:off x="5886360" y="3535200"/>
            <a:ext cx="312444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cnil 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non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le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tion hlf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g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13"/>
          <p:cNvSpPr/>
          <p:nvPr/>
        </p:nvSpPr>
        <p:spPr>
          <a:xfrm>
            <a:off x="380880" y="3962520"/>
            <a:ext cx="266724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6:16:38Z</dcterms:created>
  <dc:creator>Patricia Reardon</dc:creator>
  <dc:description/>
  <dc:language>en-US</dc:language>
  <cp:lastModifiedBy>Patricia Reardon</cp:lastModifiedBy>
  <dcterms:modified xsi:type="dcterms:W3CDTF">2009-01-11T16:58:00Z</dcterms:modified>
  <cp:revision>25</cp:revision>
  <dc:subject/>
  <dc:title>Slide 1</dc:title>
</cp:coreProperties>
</file>