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4AF-4931-4C48-9B45-EBEA2A5E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BDB-8899-41C0-B4CF-DA8A5B3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7D0-4E92-4278-8E14-80264357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A5D-335E-44E4-ABAD-2A4F06F7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F6F-1916-4925-87B0-B197C9C4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11A-7BC9-4BB9-9641-4A0058B3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37E-7732-4FB8-979B-3EA8CD5C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D11-DB7B-4A00-BEF8-D444D773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80C0-1CA5-463E-9845-63EAE086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ED7-F70F-4849-8073-AF2AEF5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895-3575-4F33-BC3E-D1262886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AF9-3B4F-4788-B16F-B294FD88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040C0-9182-41F4-8986-787273103D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C9075-B0F0-4891-9BD6-5BE85AB3A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1113840"/>
            <a:ext cx="8458200" cy="459720"/>
          </a:xfrm>
          <a:prstGeom prst="rect">
            <a:avLst/>
          </a:prstGeom>
          <a:gradFill rotWithShape="0">
            <a:gsLst>
              <a:gs pos="0">
                <a:srgbClr val="ffe8da"/>
              </a:gs>
              <a:gs pos="100000">
                <a:srgbClr val="ffb280"/>
              </a:gs>
            </a:gsLst>
            <a:lin ang="54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swer the quest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0"/>
            <a:ext cx="48769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57800" y="360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152280" y="2728800"/>
            <a:ext cx="3962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y does a volcano erup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:\Documents and Settings\preardon\Local Settings\Temporary Internet Files\Content.IE5\ALG96BYN\MCj01605520000[1].wmf"/>
          <p:cNvPicPr/>
          <p:nvPr/>
        </p:nvPicPr>
        <p:blipFill>
          <a:blip r:embed="rId2"/>
          <a:stretch/>
        </p:blipFill>
        <p:spPr>
          <a:xfrm>
            <a:off x="4800600" y="2728800"/>
            <a:ext cx="380988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2280" y="1113840"/>
            <a:ext cx="8458200" cy="45972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answers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257800" y="360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152280" y="0"/>
            <a:ext cx="48769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pic>
        <p:nvPicPr>
          <p:cNvPr id="52" name="Picture 11" descr="C:\Documents and Settings\preardon\Local Settings\Temporary Internet Files\Content.IE5\ALG96BYN\MCj01605520000[1].wmf"/>
          <p:cNvPicPr/>
          <p:nvPr/>
        </p:nvPicPr>
        <p:blipFill>
          <a:blip r:embed="rId2"/>
          <a:stretch/>
        </p:blipFill>
        <p:spPr>
          <a:xfrm>
            <a:off x="6324480" y="2901960"/>
            <a:ext cx="3810240" cy="3651120"/>
          </a:xfrm>
          <a:prstGeom prst="rect">
            <a:avLst/>
          </a:prstGeom>
          <a:ln w="0">
            <a:noFill/>
          </a:ln>
        </p:spPr>
      </p:pic>
      <p:sp>
        <p:nvSpPr>
          <p:cNvPr id="53" name="Oval Callout 15"/>
          <p:cNvSpPr/>
          <p:nvPr/>
        </p:nvSpPr>
        <p:spPr>
          <a:xfrm>
            <a:off x="0" y="1574640"/>
            <a:ext cx="7162920" cy="5435640"/>
          </a:xfrm>
          <a:prstGeom prst="wedgeEllipseCallout">
            <a:avLst>
              <a:gd name="adj1" fmla="val 61189"/>
              <a:gd name="adj2" fmla="val -4740"/>
            </a:avLst>
          </a:prstGeom>
          <a:gradFill rotWithShape="0">
            <a:gsLst>
              <a:gs pos="0">
                <a:srgbClr val="ff8000"/>
              </a:gs>
              <a:gs pos="100000">
                <a:srgbClr val="ffab71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of earth crust plates collide with  one plate going under the other 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mpact causes friction in the earth’s cru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ssure caused by the friction makes the rocks under the plates melt and help the magma r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2:28:06Z</dcterms:created>
  <dc:creator>Patricia Reardon</dc:creator>
  <dc:description/>
  <dc:language>en-US</dc:language>
  <cp:lastModifiedBy>preardon</cp:lastModifiedBy>
  <dcterms:modified xsi:type="dcterms:W3CDTF">2009-02-10T16:02:04Z</dcterms:modified>
  <cp:revision>49</cp:revision>
  <dc:subject/>
  <dc:title>Slide 1</dc:title>
</cp:coreProperties>
</file>