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66B-C41F-4AD2-B033-4C84AD64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0E3-783B-43BC-A469-546C866A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4C7-7F30-4E60-871C-C0F87439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C8D-C65F-48F3-AB8A-9C4BCA26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1C1-4FD3-45BA-950F-EB6CE85A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D36-3D6A-460D-A9C6-AC206BF0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29A-8956-455F-B79E-6FC1A54D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6DA-FCEC-4489-8F9C-53D29647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1E3-AACE-44AE-9DE4-8A37DED0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44C-19E4-497A-B014-C104316E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BF2-E335-4B85-9DCA-311D506B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A96-2D1D-4842-8BF5-21E38CD3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B41A8-D591-43AE-A872-DC16304EE0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FEC08-96D8-408E-B1A4-A50248357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2280" y="1113840"/>
            <a:ext cx="8458200" cy="459720"/>
          </a:xfrm>
          <a:prstGeom prst="rect">
            <a:avLst/>
          </a:prstGeom>
          <a:gradFill rotWithShape="0">
            <a:gsLst>
              <a:gs pos="0">
                <a:srgbClr val="ffe8da"/>
              </a:gs>
              <a:gs pos="100000">
                <a:srgbClr val="ffb280"/>
              </a:gs>
            </a:gsLst>
            <a:lin ang="54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swer the questi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2280" y="0"/>
            <a:ext cx="48769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57800" y="360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52280" y="2728800"/>
            <a:ext cx="3962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y does a volcano erup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:\Documents and Settings\preardon\Local Settings\Temporary Internet Files\Content.IE5\ALG96BYN\MCj01605520000[1].wmf"/>
          <p:cNvPicPr/>
          <p:nvPr/>
        </p:nvPicPr>
        <p:blipFill>
          <a:blip r:embed="rId2"/>
          <a:stretch/>
        </p:blipFill>
        <p:spPr>
          <a:xfrm>
            <a:off x="4800600" y="2728800"/>
            <a:ext cx="380988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2280" y="1113840"/>
            <a:ext cx="8458200" cy="45972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answers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257800" y="360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152280" y="0"/>
            <a:ext cx="48769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pic>
        <p:nvPicPr>
          <p:cNvPr id="52" name="Picture 11" descr="C:\Documents and Settings\preardon\Local Settings\Temporary Internet Files\Content.IE5\ALG96BYN\MCj01605520000[1].wmf"/>
          <p:cNvPicPr/>
          <p:nvPr/>
        </p:nvPicPr>
        <p:blipFill>
          <a:blip r:embed="rId2"/>
          <a:stretch/>
        </p:blipFill>
        <p:spPr>
          <a:xfrm>
            <a:off x="6324480" y="2901960"/>
            <a:ext cx="3810240" cy="3651120"/>
          </a:xfrm>
          <a:prstGeom prst="rect">
            <a:avLst/>
          </a:prstGeom>
          <a:ln w="0">
            <a:noFill/>
          </a:ln>
        </p:spPr>
      </p:pic>
      <p:sp>
        <p:nvSpPr>
          <p:cNvPr id="53" name="Oval Callout 15"/>
          <p:cNvSpPr/>
          <p:nvPr/>
        </p:nvSpPr>
        <p:spPr>
          <a:xfrm>
            <a:off x="0" y="1574640"/>
            <a:ext cx="7162920" cy="5435640"/>
          </a:xfrm>
          <a:prstGeom prst="wedgeEllipseCallout">
            <a:avLst>
              <a:gd name="adj1" fmla="val 61189"/>
              <a:gd name="adj2" fmla="val -4740"/>
            </a:avLst>
          </a:prstGeom>
          <a:gradFill rotWithShape="0">
            <a:gsLst>
              <a:gs pos="0">
                <a:srgbClr val="ff8000"/>
              </a:gs>
              <a:gs pos="100000">
                <a:srgbClr val="ffab71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of earth crust plates collide with  one plate going under the other 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mpact causes friction in the earth’s cru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ssure caused by the friction makes the rocks under the plates melt and help the magma r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2:28:06Z</dcterms:created>
  <dc:creator>Patricia Reardon</dc:creator>
  <dc:description/>
  <dc:language>en-US</dc:language>
  <cp:lastModifiedBy>preardon</cp:lastModifiedBy>
  <dcterms:modified xsi:type="dcterms:W3CDTF">2009-02-10T16:02:04Z</dcterms:modified>
  <cp:revision>49</cp:revision>
  <dc:subject/>
  <dc:title>Slide 1</dc:title>
</cp:coreProperties>
</file>