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C0B-630D-4A9A-BE09-FB054D6D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114-0B02-4D87-A7DD-2C0320E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757-2A04-4F69-857A-7786713C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AB8-B931-425E-83A4-9AF32BC3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F00-0A2F-470B-AC05-A2ACF3A7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24A-FFC1-42D0-91AB-998D2FB5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285-377D-484F-81BF-FDE91A94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4C2-AA6B-4698-831D-0561D58F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AFE-1E83-4F8D-A114-D5C96C5F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65D-BB31-4FEC-B1FC-A302E79C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268-D307-4CCA-AE3D-1DBA9214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7641-E170-4D1B-98C9-ACA6F951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C49DF-4D18-4604-A7AC-56D272A58B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EA6EA-37F0-42A4-8D0B-84EE36A78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9"/>
          <p:cNvSpPr/>
          <p:nvPr/>
        </p:nvSpPr>
        <p:spPr>
          <a:xfrm>
            <a:off x="5962680" y="3433680"/>
            <a:ext cx="3505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L LE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29"/>
          <p:cNvSpPr/>
          <p:nvPr/>
        </p:nvSpPr>
        <p:spPr>
          <a:xfrm>
            <a:off x="5638680" y="235584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NTO R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9"/>
          <p:cNvSpPr/>
          <p:nvPr/>
        </p:nvSpPr>
        <p:spPr>
          <a:xfrm>
            <a:off x="5962680" y="4218120"/>
            <a:ext cx="3048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C W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91960" y="920880"/>
            <a:ext cx="8458200" cy="82548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Death of stars… unscramble the words and find out what happens to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457200" y="0"/>
            <a:ext cx="38862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4bacc6"/>
                </a:solidFill>
                <a:latin typeface="Abadi MT Condensed Extra Bold"/>
              </a:rPr>
              <a:t>Astronomy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4bacc6"/>
              </a:solidFill>
              <a:latin typeface="Abadi MT Condensed Extra Bold"/>
              <a:ea typeface="Abadi MT Condensed Extra Bold"/>
            </a:endParaRPr>
          </a:p>
        </p:txBody>
      </p:sp>
      <p:pic>
        <p:nvPicPr>
          <p:cNvPr id="46" name="Rectangle 12" descr=""/>
          <p:cNvPicPr/>
          <p:nvPr/>
        </p:nvPicPr>
        <p:blipFill>
          <a:blip r:embed="rId1"/>
          <a:stretch/>
        </p:blipFill>
        <p:spPr>
          <a:xfrm>
            <a:off x="4516560" y="353880"/>
            <a:ext cx="873000" cy="536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1447920" y="65530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P. Reardon 2008 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C:\Documents and Settings\preardon\Local Settings\Temporary Internet Files\Content.IE5\JI0F9GEZ\MCj01875870000[1].wmf"/>
          <p:cNvPicPr/>
          <p:nvPr/>
        </p:nvPicPr>
        <p:blipFill>
          <a:blip r:embed="rId2"/>
          <a:stretch/>
        </p:blipFill>
        <p:spPr>
          <a:xfrm>
            <a:off x="8610480" y="152280"/>
            <a:ext cx="400320" cy="470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9"/>
          <p:cNvSpPr/>
          <p:nvPr/>
        </p:nvSpPr>
        <p:spPr>
          <a:xfrm>
            <a:off x="5181480" y="3695760"/>
            <a:ext cx="350532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UTRO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5638680" y="2371680"/>
            <a:ext cx="304812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C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R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29"/>
          <p:cNvSpPr/>
          <p:nvPr/>
        </p:nvSpPr>
        <p:spPr>
          <a:xfrm>
            <a:off x="5384880" y="5162400"/>
            <a:ext cx="3504960" cy="4597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ACK H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2" descr=""/>
          <p:cNvPicPr/>
          <p:nvPr/>
        </p:nvPicPr>
        <p:blipFill>
          <a:blip r:embed="rId3"/>
          <a:stretch/>
        </p:blipFill>
        <p:spPr>
          <a:xfrm>
            <a:off x="457200" y="6021360"/>
            <a:ext cx="1155600" cy="1063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0"/>
          <p:cNvSpPr/>
          <p:nvPr/>
        </p:nvSpPr>
        <p:spPr>
          <a:xfrm>
            <a:off x="457200" y="3017880"/>
            <a:ext cx="492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rs as big as three times the size of the sun become a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584280" y="2048040"/>
            <a:ext cx="53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rs about the size of the sun become a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577800" y="44845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rs bigger than three times the size of the sun become a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02:44:22Z</dcterms:created>
  <dc:creator>Patricia Reardon</dc:creator>
  <dc:description/>
  <dc:language>en-US</dc:language>
  <cp:lastModifiedBy>Patricia Reardon</cp:lastModifiedBy>
  <dcterms:modified xsi:type="dcterms:W3CDTF">2008-12-12T02:56:15Z</dcterms:modified>
  <cp:revision>46</cp:revision>
  <dc:subject/>
  <dc:title>Slide 1</dc:title>
</cp:coreProperties>
</file>