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250-1700-4829-86B1-F9D8450E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FC5-0A7B-4833-B0C1-4ABCC557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ED5-9944-46BC-830A-CAFF2A16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E6B-6587-4CCA-9B8E-AAC5C955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D04-2F12-4064-A29D-F4199916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AD8-0A24-42A8-A0EE-310BDBE8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EFD-1BF9-4E6F-AF37-B1C515A5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E82-ADCE-4C85-9C75-367F5304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504-347D-43D6-8850-5B7182F7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07F-E480-41F5-8CCF-33C27A99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FD0-EBE3-4D00-9993-97266223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71F-E474-4881-A01F-BCBD8E0A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EB22D-9C58-4DAA-A8C0-82BFE82FEF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E0C30-118C-4FCB-A87F-DE0DEE89A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9"/>
          <p:cNvSpPr/>
          <p:nvPr/>
        </p:nvSpPr>
        <p:spPr>
          <a:xfrm>
            <a:off x="5962680" y="3433680"/>
            <a:ext cx="3505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L LE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29"/>
          <p:cNvSpPr/>
          <p:nvPr/>
        </p:nvSpPr>
        <p:spPr>
          <a:xfrm>
            <a:off x="5638680" y="235584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NTO R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5962680" y="4218120"/>
            <a:ext cx="3048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C W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91960" y="920880"/>
            <a:ext cx="8458200" cy="82548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eath of stars… unscramble the words and find out what happens to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457200" y="0"/>
            <a:ext cx="38862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4bacc6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4bacc6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6" name="Rectangle 12" descr=""/>
          <p:cNvPicPr/>
          <p:nvPr/>
        </p:nvPicPr>
        <p:blipFill>
          <a:blip r:embed="rId1"/>
          <a:stretch/>
        </p:blipFill>
        <p:spPr>
          <a:xfrm>
            <a:off x="4516560" y="353880"/>
            <a:ext cx="873000" cy="536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5181480" y="3695760"/>
            <a:ext cx="350532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UTRO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5638680" y="2371680"/>
            <a:ext cx="304812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C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5384880" y="5162400"/>
            <a:ext cx="350496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 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2" descr=""/>
          <p:cNvPicPr/>
          <p:nvPr/>
        </p:nvPicPr>
        <p:blipFill>
          <a:blip r:embed="rId3"/>
          <a:stretch/>
        </p:blipFill>
        <p:spPr>
          <a:xfrm>
            <a:off x="457200" y="6021360"/>
            <a:ext cx="1155600" cy="1063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0"/>
          <p:cNvSpPr/>
          <p:nvPr/>
        </p:nvSpPr>
        <p:spPr>
          <a:xfrm>
            <a:off x="457200" y="3017880"/>
            <a:ext cx="492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rs as big as three times the size of the sun become a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584280" y="2048040"/>
            <a:ext cx="53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rs about the size of the sun become a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577800" y="44845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rs bigger than three times the size of the sun become a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02:44:22Z</dcterms:created>
  <dc:creator>Patricia Reardon</dc:creator>
  <dc:description/>
  <dc:language>en-US</dc:language>
  <cp:lastModifiedBy>Patricia Reardon</cp:lastModifiedBy>
  <dcterms:modified xsi:type="dcterms:W3CDTF">2008-12-12T02:56:15Z</dcterms:modified>
  <cp:revision>46</cp:revision>
  <dc:subject/>
  <dc:title>Slide 1</dc:title>
</cp:coreProperties>
</file>