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AD3-0493-496C-B3A0-26CD615F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C28-F6B7-460E-AC16-D671C7FF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433-2269-4002-9779-4CD25725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82B-4674-4A46-88A1-52DE7085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7F49-1057-41DF-BB0D-4483679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F91-FCA2-4175-91BD-A92097D6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77A-EE78-47D4-93FA-18A31DD4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D3C-AF49-4412-BF54-D9614DA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6EF-0890-4A39-929C-90857E3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E6E-33D7-4D3F-9CF7-A4F21CA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3DB-AF10-488A-A3D6-D879BCE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F37-B390-406C-907A-BBC8E1C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66350-1F5F-44D8-8CB6-3937A2A27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6DAD8-69CA-4F29-9EA2-36DD2699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3440"/>
            <a:ext cx="8458200" cy="9471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Unscramble: can you find the 6 layers of the su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3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9"/>
          <p:cNvSpPr/>
          <p:nvPr/>
        </p:nvSpPr>
        <p:spPr>
          <a:xfrm>
            <a:off x="457200" y="2957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5359320" y="3808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REOSPHM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5181480" y="295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PHE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457200" y="459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TCNO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5410080" y="4600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457200" y="3808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457200" y="3025800"/>
            <a:ext cx="26668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29"/>
          <p:cNvSpPr/>
          <p:nvPr/>
        </p:nvSpPr>
        <p:spPr>
          <a:xfrm>
            <a:off x="5181480" y="3808440"/>
            <a:ext cx="368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RO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5181480" y="295272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457200" y="473400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V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5410080" y="4597560"/>
            <a:ext cx="2463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457200" y="3808440"/>
            <a:ext cx="3505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41400" y="5257800"/>
            <a:ext cx="140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5:26:09Z</dcterms:created>
  <dc:creator>Patricia Reardon</dc:creator>
  <dc:description/>
  <dc:language>en-US</dc:language>
  <cp:lastModifiedBy>Patricia Reardon</cp:lastModifiedBy>
  <dcterms:modified xsi:type="dcterms:W3CDTF">2008-12-12T02:44:18Z</dcterms:modified>
  <cp:revision>25</cp:revision>
  <dc:subject/>
  <dc:title>Slide 1</dc:title>
</cp:coreProperties>
</file>