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0134-3A0D-41E5-B868-56CFB7C4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D00A-983E-4F91-B65A-37425D1A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0448-77C9-4D2F-8E86-44B6DC21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F202-DB5E-4A38-9172-6600F96F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CD4E-51C3-48E4-A3E2-F0C7AC35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5E4F-F185-4323-8134-4D15FAF6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A96C-522B-458E-8B87-D3977B6E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30B8-89ED-4247-8620-87F38EA1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14BD-74BC-4CC4-8D12-8343D16E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9EAE-7C72-4665-B416-2FD85CA7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C4DB-1F0C-451F-902E-5F5DC202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B40F-ECC2-4968-BA50-2F02E973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604E32-6916-4F36-90A7-DEA1CF1363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E09A5-6525-4621-8BFB-270807F87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57200" y="1603440"/>
            <a:ext cx="8458200" cy="947160"/>
          </a:xfrm>
          <a:prstGeom prst="rect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Unscramble: what are the three type of galax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457200" y="0"/>
            <a:ext cx="4724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b3a2c7"/>
                </a:solidFill>
                <a:latin typeface="Abadi MT Condensed Extra Bold"/>
              </a:rPr>
              <a:t>Astronom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b3a2c7"/>
              </a:solidFill>
              <a:latin typeface="Abadi MT Condensed Extra Bold"/>
              <a:ea typeface="Abadi MT Condensed Extra Bold"/>
            </a:endParaRPr>
          </a:p>
        </p:txBody>
      </p:sp>
      <p:pic>
        <p:nvPicPr>
          <p:cNvPr id="43" name="Rectangle 12" descr=""/>
          <p:cNvPicPr/>
          <p:nvPr/>
        </p:nvPicPr>
        <p:blipFill>
          <a:blip r:embed="rId1"/>
          <a:stretch/>
        </p:blipFill>
        <p:spPr>
          <a:xfrm>
            <a:off x="5376960" y="914400"/>
            <a:ext cx="877680" cy="530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C:\Documents and Settings\preardon\Local Settings\Temporary Internet Files\Content.IE5\JI0F9GEZ\MCj01875870000[1].wmf"/>
          <p:cNvPicPr/>
          <p:nvPr/>
        </p:nvPicPr>
        <p:blipFill>
          <a:blip r:embed="rId2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9"/>
          <p:cNvSpPr/>
          <p:nvPr/>
        </p:nvSpPr>
        <p:spPr>
          <a:xfrm>
            <a:off x="457200" y="321804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PI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29"/>
          <p:cNvSpPr/>
          <p:nvPr/>
        </p:nvSpPr>
        <p:spPr>
          <a:xfrm>
            <a:off x="457200" y="3736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C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LL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29"/>
          <p:cNvSpPr/>
          <p:nvPr/>
        </p:nvSpPr>
        <p:spPr>
          <a:xfrm>
            <a:off x="457200" y="4330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GUR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29"/>
          <p:cNvSpPr/>
          <p:nvPr/>
        </p:nvSpPr>
        <p:spPr>
          <a:xfrm>
            <a:off x="457200" y="3218040"/>
            <a:ext cx="2666880" cy="52056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I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29"/>
          <p:cNvSpPr/>
          <p:nvPr/>
        </p:nvSpPr>
        <p:spPr>
          <a:xfrm>
            <a:off x="457200" y="3736800"/>
            <a:ext cx="2666880" cy="52056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LIPT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29"/>
          <p:cNvSpPr/>
          <p:nvPr/>
        </p:nvSpPr>
        <p:spPr>
          <a:xfrm>
            <a:off x="457200" y="4330800"/>
            <a:ext cx="2666880" cy="52056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RREGU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03:30:08Z</dcterms:created>
  <dc:creator>Patricia Reardon</dc:creator>
  <dc:description/>
  <dc:language>en-US</dc:language>
  <cp:lastModifiedBy>Patricia Reardon</cp:lastModifiedBy>
  <dcterms:modified xsi:type="dcterms:W3CDTF">2008-12-12T02:43:59Z</dcterms:modified>
  <cp:revision>30</cp:revision>
  <dc:subject/>
  <dc:title>Slide 1</dc:title>
</cp:coreProperties>
</file>