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EAF-7862-44E6-B1C2-07CD7992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0EA-9F94-4643-9C24-D232A5DE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CBC-428B-4EB7-85B8-E7241460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55C-7A0B-438D-B736-6D8FB31B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713-CCF8-43A4-B650-E7CF969B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A75-49FC-4F6D-ACD2-B9B6393D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92E-4B9C-46DE-B49D-34A982A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80D-8CEA-4A21-84C5-71DAB80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BB6-08AD-424A-8862-F767771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8AF-87B9-4ACF-9C40-6CF5A91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E0D-3724-4042-83CE-D994D73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142-3155-4210-8238-8E179D9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CCC9F-AF02-4343-9296-49C64EA30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B159A-F800-4ECD-BE93-FD63A1F07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o you know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137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are planets sphe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90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is Pluto a dwarf plan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1859c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1859c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87360" y="2666880"/>
            <a:ext cx="8528040" cy="11912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54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y are big enough so that the  gravitational force pulls  every part of the planet to the center, causing it to be shaped like 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387360" y="4925880"/>
            <a:ext cx="8528040" cy="132840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s smaller than Mercury but large enough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ave enough gravity to be a 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bits in a zone that has many other objects in it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19:08Z</dcterms:created>
  <dc:creator>Patricia Reardon</dc:creator>
  <dc:description/>
  <dc:language>en-US</dc:language>
  <cp:lastModifiedBy>Patricia Reardon</cp:lastModifiedBy>
  <dcterms:modified xsi:type="dcterms:W3CDTF">2008-12-12T02:43:39Z</dcterms:modified>
  <cp:revision>15</cp:revision>
  <dc:subject/>
  <dc:title>Slide 1</dc:title>
</cp:coreProperties>
</file>