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5BF0-06C6-446E-A950-1205A26F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3877-6F94-42C7-86DF-16FD609E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496-8256-4FF7-A65A-0C59FC3B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A129-6E55-410A-9E84-28C42470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3923-E31C-45FF-9151-5E6303E4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392A-28F8-4074-AE47-D53DFB4A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5118-9900-4A28-941B-88732F04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7803-0BAD-4949-930C-3044E431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6D09-ED9F-40D4-9C46-0B849BCD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0D1-A6BC-4BBE-8569-BFC21789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E92-E2C4-4B5F-A740-8CCC5F53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2582-D2A0-473B-8355-528E2555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1567F-5480-487A-9BE3-7051B7EA93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1CAA9-2AE1-43B0-8AA8-8790C3E9F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1601640"/>
            <a:ext cx="8458200" cy="52056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Do you know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457200" y="2142720"/>
            <a:ext cx="84582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spcAft>
                <a:spcPts val="13799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Why are planets spher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90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Why is Pluto a dwarf plane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457200" y="0"/>
            <a:ext cx="47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1859c"/>
                </a:solidFill>
                <a:latin typeface="Abadi MT Condensed Extra Bold"/>
              </a:rPr>
              <a:t>Astronom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1859c"/>
              </a:solidFill>
              <a:latin typeface="Abadi MT Condensed Extra Bold"/>
              <a:ea typeface="Abadi MT Condensed Extra Bold"/>
            </a:endParaRPr>
          </a:p>
        </p:txBody>
      </p:sp>
      <p:pic>
        <p:nvPicPr>
          <p:cNvPr id="44" name="Rectangle 12" descr=""/>
          <p:cNvPicPr/>
          <p:nvPr/>
        </p:nvPicPr>
        <p:blipFill>
          <a:blip r:embed="rId1"/>
          <a:stretch/>
        </p:blipFill>
        <p:spPr>
          <a:xfrm>
            <a:off x="5376960" y="914400"/>
            <a:ext cx="877680" cy="5302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C:\Documents and Settings\preardon\Local Settings\Temporary Internet Files\Content.IE5\JI0F9GEZ\MCj01875870000[1].wmf"/>
          <p:cNvPicPr/>
          <p:nvPr/>
        </p:nvPicPr>
        <p:blipFill>
          <a:blip r:embed="rId2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387360" y="2666880"/>
            <a:ext cx="8528040" cy="119124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5400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hey are big enough so that the  gravitational force pulls  every part of the planet to the center, causing it to be shaped like sp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387360" y="4925880"/>
            <a:ext cx="8528040" cy="1328400"/>
          </a:xfrm>
          <a:prstGeom prst="rect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s smaller than Mercury but large enough t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have enough gravity to be a sp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Aft>
                <a:spcPts val="5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bits in a zone that has many other objects in it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3:19:08Z</dcterms:created>
  <dc:creator>Patricia Reardon</dc:creator>
  <dc:description/>
  <dc:language>en-US</dc:language>
  <cp:lastModifiedBy>Patricia Reardon</cp:lastModifiedBy>
  <dcterms:modified xsi:type="dcterms:W3CDTF">2008-12-12T02:43:39Z</dcterms:modified>
  <cp:revision>15</cp:revision>
  <dc:subject/>
  <dc:title>Slide 1</dc:title>
</cp:coreProperties>
</file>